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9298-D9F3-476B-971D-E13ECABC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A087-6F5D-422D-9FB4-5609A826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A1C1-695E-4093-97C9-8C56C676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756-5ECD-4465-B96E-4CF47F8F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A221-D2B7-45F8-B6A6-89D60A4C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85F3-CF93-4DC1-B6B5-423B6181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3A06-E8F5-4FAB-BA2B-79ECCD46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0CBA-7A82-47AC-9EC7-E0CCA117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7443-34AA-434F-8AC9-C1822D36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0FAB-4D47-4713-ADFF-A1884A63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ABB2-0774-4731-BB28-A5BC5B7B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8C95-D777-4296-A386-3CEC48C7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51D0-ADF2-423F-B09D-2E7014B7E8A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neoclásic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370px-Ingres,_Napoleon_on_his_Imperial_throne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135320" cy="6705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3680" y="4876920"/>
            <a:ext cx="35244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en su torno imperia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06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59 x 162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useo del Ejército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a%20Bañista%20de%20Valpincon”%20(1808)%20Óleo%20en%20tela%20146%20x97.5%20cm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305240" cy="6477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34720" y="5105520"/>
            <a:ext cx="29210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ñista de Valpin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6 x97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ominique_Ingres_-_Le_Bain_turc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60440" y="6172200"/>
            <a:ext cx="69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in turc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8 por 108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45200" y="6019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6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ldnapoleon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469040" cy="5181480"/>
          </a:xfrm>
          <a:prstGeom prst="rect">
            <a:avLst/>
          </a:prstGeom>
          <a:ln w="0">
            <a:noFill/>
          </a:ln>
        </p:spPr>
      </p:pic>
      <p:pic>
        <p:nvPicPr>
          <p:cNvPr id="44" name="napoleonpic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4148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apoleon-en-su-estudio-1812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3797280" cy="6477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55880" y="5638680"/>
            <a:ext cx="327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en su estud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avid%20El%20Juramento%20de%20Los%20Horacios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972120" cy="54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5400" y="6019920"/>
            <a:ext cx="87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Juramento de Los Horaci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30 x 425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avid%20Bruto%20y%20los%20Cadáveres%20de%20sus%20hijos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093080" cy="5391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1560" y="6095880"/>
            <a:ext cx="71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Lictores traen a Bruto los Cadáveres de sus hij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3372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1680" y="3886200"/>
            <a:ext cx="234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uerte de Marat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93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65 por 128 cm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R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ellas Arte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élgica, Brusel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3" name="466px-Death_of_Marat_by_David" descr=""/>
          <p:cNvPicPr/>
          <p:nvPr/>
        </p:nvPicPr>
        <p:blipFill>
          <a:blip r:embed="rId1"/>
          <a:stretch/>
        </p:blipFill>
        <p:spPr>
          <a:xfrm>
            <a:off x="3681360" y="228600"/>
            <a:ext cx="497988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02david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6153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a-coronacion-de-napoleon-y-josefina-180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280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15480" y="601992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oronación de Napoleón y Josefi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180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potiosis%20de%20homero_ingres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6386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55040" y="5943600"/>
            <a:ext cx="6619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ean Auguste Dominique 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poteosis de Homer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6 x 515 cm; Museo Nacional del Louvre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00:29:19Z</dcterms:created>
  <dc:creator>Victor Diaz</dc:creator>
  <dc:description/>
  <dc:language>en-US</dc:language>
  <cp:lastModifiedBy>Victor Diaz</cp:lastModifiedBy>
  <dcterms:modified xsi:type="dcterms:W3CDTF">2008-12-06T21:32:00Z</dcterms:modified>
  <cp:revision>19</cp:revision>
  <dc:subject/>
  <dc:title>El neoclásico</dc:title>
</cp:coreProperties>
</file>