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0D8-214D-45CA-990A-813C4F9C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9998-ACEF-4D1D-915F-357104A7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B98D-74DA-49DD-AE88-D41A1734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22B5-FC09-4777-A4A2-D2AECB97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659A-9FAA-49DA-B362-78F0F8A6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09C1-94AB-4A14-BD65-07008FA1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5572-1BFD-40C5-9E15-94873054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D849-5771-4B6A-952D-10A2D9A4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4CC-B286-4888-9356-1E568E3F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3C40-2DAB-4C29-BC13-54E4ADC2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8E9-5533-421A-8039-68A8FAE3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572-A193-4A43-A04F-C194E7D6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4CF6-B5FB-4E9A-8CD5-00ECD864F49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arte en el siglo XI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Fin del Rococó e inicios del neoclasicismo y el romanticismo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héodore%20Géricault%20Study%20of%20Truncated%20Limbs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943600" cy="4873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26440" y="5791320"/>
            <a:ext cx="69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tudio de miembros truncad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8 - 19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3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943600" cy="4888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6320" y="5791320"/>
            <a:ext cx="38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bezas cortad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8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napoleonpic" descr=""/>
          <p:cNvPicPr/>
          <p:nvPr/>
        </p:nvPicPr>
        <p:blipFill>
          <a:blip r:embed="rId1"/>
          <a:stretch/>
        </p:blipFill>
        <p:spPr>
          <a:xfrm>
            <a:off x="3943440" y="228600"/>
            <a:ext cx="5200560" cy="6400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5800" y="4648320"/>
            <a:ext cx="369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éon franchissant les Alpes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0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1802¿?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Probablemen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egunda versión para Versalles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oya%20-%20El%20quitasol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858000" cy="475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560" y="5638680"/>
            <a:ext cx="77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El quitaso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7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04 por 152; Museo del Prado, Madr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oya%20-%20Los%20duques%20de%20Osuna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791240" cy="637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86280" y="4876920"/>
            <a:ext cx="2863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s duques de Osun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8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25 x 174 cm.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2040" y="6172200"/>
            <a:ext cx="87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s fusilamientos del 3 de may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4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66 x 345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22g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46748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8goy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7236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96760" y="6248520"/>
            <a:ext cx="72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o se puede mira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0 - 14 ¿?. Museo del grabado de Goy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Francisco_de_Goya_y_Lucientes_021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763120" cy="3930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38800" y="5257800"/>
            <a:ext cx="5639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pradera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88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44 por 94 cm; Museo del Prado, Madr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eregrinación_a_la_fuente_de_San_Isidro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58200" cy="3922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56840" y="5410080"/>
            <a:ext cx="6438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eregrinación a la fuente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rocesión del Santo Ofici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). 1819 - 1823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23 por 266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800px-La_romería_de_San_Isidro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2725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90760" y="5562720"/>
            <a:ext cx="79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romería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9 - 1823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40 por 438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goya.saturn-son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5146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22000" y="4800600"/>
            <a:ext cx="33004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Saturno devorando a su hijo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 23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46 x 83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02:44:39Z</dcterms:created>
  <dc:creator>Victor Diaz</dc:creator>
  <dc:description/>
  <dc:language>en-US</dc:language>
  <cp:lastModifiedBy>Victor Diaz</cp:lastModifiedBy>
  <dcterms:modified xsi:type="dcterms:W3CDTF">2008-12-05T21:44:37Z</dcterms:modified>
  <cp:revision>14</cp:revision>
  <dc:subject/>
  <dc:title>El arte en el siglo XIX</dc:title>
</cp:coreProperties>
</file>