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236-4607-431D-8E88-D0B9204CD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C18B-B412-4FF6-99BA-2EA60125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F31-CC29-4877-BFBA-E8D22223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C9A-5802-4E27-AFB0-67A28A8A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92B-C431-4C7A-A4D2-B638F482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FF88-6627-437F-86E1-36F2DC08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B054-6AA8-4D5B-8D58-A40A0E0C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C958-0578-4F76-9648-7AC8884F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58F-CF83-4501-954A-38E7D205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A1F-9FA6-4E0E-B2B9-B7AC0A01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B241-F46F-4FD6-BA50-55BDF567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B607-4A7B-46CA-BDAA-344FEAB7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5D5D-2229-44B5-9755-3884521F6066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arte en el siglo XIX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Fin del Rococó e inicios del neoclasicismo y el romanticismo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héodore%20Géricault%20Study%20of%20Truncated%20Limbs" descr=""/>
          <p:cNvPicPr/>
          <p:nvPr/>
        </p:nvPicPr>
        <p:blipFill>
          <a:blip r:embed="rId1"/>
          <a:stretch/>
        </p:blipFill>
        <p:spPr>
          <a:xfrm>
            <a:off x="1600200" y="304920"/>
            <a:ext cx="5943600" cy="4873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26440" y="5791320"/>
            <a:ext cx="69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studio de miembros truncad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 - 19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4888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506320" y="5791320"/>
            <a:ext cx="38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Cabezas cortada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8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napoleonpic" descr=""/>
          <p:cNvPicPr/>
          <p:nvPr/>
        </p:nvPicPr>
        <p:blipFill>
          <a:blip r:embed="rId1"/>
          <a:stretch/>
        </p:blipFill>
        <p:spPr>
          <a:xfrm>
            <a:off x="3943440" y="228600"/>
            <a:ext cx="5200560" cy="6400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5800" y="4648320"/>
            <a:ext cx="3699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éon franchissant les Alpes.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0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(1802¿?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[Probablement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segunda versión para Versalles]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oya%20-%20El%20quitasol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4754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26560" y="5638680"/>
            <a:ext cx="77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El quitaso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77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04 por 152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oya%20-%20Los%20duques%20de%20Osuna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791240" cy="63723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786280" y="4876920"/>
            <a:ext cx="28630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duques de Osun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8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225 x 174 cm.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2040" y="6172200"/>
            <a:ext cx="878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s fusilamientos del 3 de may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4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66 x 345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48" name="22g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46748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8goya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7236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96760" y="6248520"/>
            <a:ext cx="72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o se puede mirar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0 - 14 ¿?. Museo del grabado de Goy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Francisco_de_Goya_y_Lucientes_021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8763120" cy="39308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38800" y="5257800"/>
            <a:ext cx="5639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prader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88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44 por 94 cm; Museo del Prado, Madr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eregrinación_a_la_fuente_de_San_Isidro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458200" cy="39225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356840" y="5410080"/>
            <a:ext cx="6438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eregrinación a la fuente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(o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Procesión del Santo Ofici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)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23 por 266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800px-La_romería_de_San_Isidro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458200" cy="2725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90760" y="5562720"/>
            <a:ext cx="79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romería de San Isidro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819 - 1823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0 por 438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goya.saturn-son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3514680" cy="63244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2000" y="4800600"/>
            <a:ext cx="330048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de Goya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Saturno devorando a su hijo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 2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146 x 83 cm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5T02:44:39Z</dcterms:created>
  <dc:creator>Victor Diaz</dc:creator>
  <dc:description/>
  <dc:language>en-US</dc:language>
  <cp:lastModifiedBy>Victor Diaz</cp:lastModifiedBy>
  <dcterms:modified xsi:type="dcterms:W3CDTF">2008-12-05T21:44:37Z</dcterms:modified>
  <cp:revision>14</cp:revision>
  <dc:subject/>
  <dc:title>El arte en el siglo XIX</dc:title>
</cp:coreProperties>
</file>