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3505-DAD7-4C11-B173-FACB14C7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3852-3DDC-48EE-9C43-91941B27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1DA2-9892-461B-BB1A-097EF489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AA42-AF40-4E17-A788-07181262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DD7B-0B19-4989-929B-4DA8E1DA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8CFF-8106-4774-8AB8-328B8E73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B32E-4817-4075-8B0C-A9E52677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37B0-07E8-45D6-AD9B-8C979FA2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B90C-948F-4A1A-A16B-37BF26F8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69E0-C7A5-428A-A188-B1FCF8A3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33B0-EC0F-47DF-BF8F-C3CBEB92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88A5-1CAA-4139-BAD8-F8E6E7EB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430B-21FA-4B24-B191-DA3D1A42605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proximación comprensiva a las Artes Visuales II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a representación como problema: el problema de la representación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oya_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4324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67080" y="5486400"/>
            <a:ext cx="7579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José de Goya y Lucientes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desnud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90 - 1800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7 por 190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acia%201800-1805_95por188_museo%20del%20prado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2080" y="571500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vestida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1800 - 1805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5 por 188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lympia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153640" cy="5477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9560" y="6019920"/>
            <a:ext cx="74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6%20Manet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34280" cy="552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94320" y="6095880"/>
            <a:ext cx="537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bar de las Folies Bergèr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1 - 82 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68296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0840" y="4648320"/>
            <a:ext cx="286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Diego de Velázquez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Las menina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1656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Óleo sobre tela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318 por 276 cm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Velazquez%20-%20Venus%20del%20Espejo" descr=""/>
          <p:cNvPicPr/>
          <p:nvPr/>
        </p:nvPicPr>
        <p:blipFill>
          <a:blip r:embed="rId1"/>
          <a:stretch/>
        </p:blipFill>
        <p:spPr>
          <a:xfrm>
            <a:off x="914400" y="272880"/>
            <a:ext cx="7543800" cy="516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4640" y="5943600"/>
            <a:ext cx="86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Venus del espej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647 - 51 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122 x 177 cm; The National Gallery, Lond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holbein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5791320" cy="571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2120" y="4648320"/>
            <a:ext cx="286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Holbein (el joven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embajador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533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209 por 207 cm; Nation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allery, Lond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9px-Holbein_Ambassadors_anamorphosis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71560" cy="3555720"/>
          </a:xfrm>
          <a:prstGeom prst="rect">
            <a:avLst/>
          </a:prstGeom>
          <a:ln w="0">
            <a:noFill/>
          </a:ln>
        </p:spPr>
      </p:pic>
      <p:pic>
        <p:nvPicPr>
          <p:cNvPr id="50" name="Skull-Ambassadors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2292480" cy="2319480"/>
          </a:xfrm>
          <a:prstGeom prst="rect">
            <a:avLst/>
          </a:prstGeom>
          <a:ln w="0">
            <a:noFill/>
          </a:ln>
        </p:spPr>
      </p:pic>
      <p:pic>
        <p:nvPicPr>
          <p:cNvPr id="51" name="220px-Holbein_spoon_trick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38098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lbrecht%20Dürer%20(1471-1528).%20%20Underweysung%20der%20Messung" descr=""/>
          <p:cNvPicPr/>
          <p:nvPr/>
        </p:nvPicPr>
        <p:blipFill>
          <a:blip r:embed="rId1"/>
          <a:stretch/>
        </p:blipFill>
        <p:spPr>
          <a:xfrm>
            <a:off x="304920" y="237960"/>
            <a:ext cx="4440240" cy="6620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0520" y="5334120"/>
            <a:ext cx="32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lbrecht Dürer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derweysung der Messung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rnolfini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4687920" cy="6477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9200" y="5410080"/>
            <a:ext cx="281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n Van Eyck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matrimonio Arnolfini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3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rnolfini_det1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6278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rnolfini3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0:02:32Z</dcterms:created>
  <dc:creator>Victor Diaz</dc:creator>
  <dc:description/>
  <dc:language>en-US</dc:language>
  <cp:lastModifiedBy>Victor Diaz</cp:lastModifiedBy>
  <dcterms:modified xsi:type="dcterms:W3CDTF">2008-12-04T22:46:07Z</dcterms:modified>
  <cp:revision>14</cp:revision>
  <dc:subject/>
  <dc:title>Aproximación comprensiva a las Artes Visuales II.</dc:title>
</cp:coreProperties>
</file>