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4.png" ContentType="image/png"/>
  <Override PartName="/ppt/media/image12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68D-7CD0-4CA3-ABA4-0CA608A2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1A13-F817-4F4D-ACF6-6A9659EA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8D18-9BBF-4A5C-B18C-4DB30AE9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E8F-63D7-4AC5-B290-D3D720AA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C8F-9990-47C5-BFE4-31304652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8D8-2592-43C7-8B88-FBE6746A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2369-B242-48C3-9960-C0FD3AE7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3871-5FA7-4A04-BD34-D376250A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9C6-6A11-4D43-BCAF-19239C24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1D1D-D671-491E-B4CE-C4064D0C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073-2C7C-499D-ACC6-91AA5FE6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3CE-6F4C-4A8D-ACCC-5AAF5AFE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4635-869D-432D-9A85-2A2E347900C8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Arte Actual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Nuevas tendencias en la producción artística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marc-quinn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3832200" cy="4724640"/>
          </a:xfrm>
          <a:prstGeom prst="rect">
            <a:avLst/>
          </a:prstGeom>
          <a:ln w="0">
            <a:noFill/>
          </a:ln>
        </p:spPr>
      </p:pic>
      <p:pic>
        <p:nvPicPr>
          <p:cNvPr id="66" name="haden-guest10-1-2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38098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irJohnSulston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3915000" cy="5105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16720" y="5334120"/>
            <a:ext cx="429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Marc Quinn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 Genomic Portrait: Sir John Sulsto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1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658960" y="594360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ake y Dinos Chapma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Hell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2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70" name="chapmanbrothers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410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ell0_674846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562720" cy="3579840"/>
          </a:xfrm>
          <a:prstGeom prst="rect">
            <a:avLst/>
          </a:prstGeom>
          <a:ln w="0">
            <a:noFill/>
          </a:ln>
        </p:spPr>
      </p:pic>
      <p:pic>
        <p:nvPicPr>
          <p:cNvPr id="72" name="hell1_674847c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3848040" cy="2476440"/>
          </a:xfrm>
          <a:prstGeom prst="rect">
            <a:avLst/>
          </a:prstGeom>
          <a:ln w="0">
            <a:noFill/>
          </a:ln>
        </p:spPr>
      </p:pic>
      <p:pic>
        <p:nvPicPr>
          <p:cNvPr id="73" name="hell2_674849c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3848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11b_29_hell-new_415x275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410080" cy="3584520"/>
          </a:xfrm>
          <a:prstGeom prst="rect">
            <a:avLst/>
          </a:prstGeom>
          <a:ln w="0">
            <a:noFill/>
          </a:ln>
        </p:spPr>
      </p:pic>
      <p:pic>
        <p:nvPicPr>
          <p:cNvPr id="75" name="11b_29_hitler-fig_415x275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3952800" cy="2619360"/>
          </a:xfrm>
          <a:prstGeom prst="rect">
            <a:avLst/>
          </a:prstGeom>
          <a:ln w="0">
            <a:noFill/>
          </a:ln>
        </p:spPr>
      </p:pic>
      <p:pic>
        <p:nvPicPr>
          <p:cNvPr id="76" name="ApocalypseHellHugoPhilpottAFO460" descr=""/>
          <p:cNvPicPr/>
          <p:nvPr/>
        </p:nvPicPr>
        <p:blipFill>
          <a:blip r:embed="rId3"/>
          <a:stretch/>
        </p:blipFill>
        <p:spPr>
          <a:xfrm>
            <a:off x="4800600" y="457200"/>
            <a:ext cx="40384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ail516-1217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33560" cy="2746080"/>
          </a:xfrm>
          <a:prstGeom prst="rect">
            <a:avLst/>
          </a:prstGeom>
          <a:ln w="0">
            <a:noFill/>
          </a:ln>
        </p:spPr>
      </p:pic>
      <p:pic>
        <p:nvPicPr>
          <p:cNvPr id="78" name="pail524-1785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3852720" cy="2500560"/>
          </a:xfrm>
          <a:prstGeom prst="rect">
            <a:avLst/>
          </a:prstGeom>
          <a:ln w="0">
            <a:noFill/>
          </a:ln>
        </p:spPr>
      </p:pic>
      <p:pic>
        <p:nvPicPr>
          <p:cNvPr id="79" name="chapman-hell-192_674845e" descr=""/>
          <p:cNvPicPr/>
          <p:nvPr/>
        </p:nvPicPr>
        <p:blipFill>
          <a:blip r:embed="rId3"/>
          <a:stretch/>
        </p:blipFill>
        <p:spPr>
          <a:xfrm>
            <a:off x="5029200" y="685800"/>
            <a:ext cx="3462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jake_dinos_chapman" descr=""/>
          <p:cNvPicPr/>
          <p:nvPr/>
        </p:nvPicPr>
        <p:blipFill>
          <a:blip r:embed="rId1"/>
          <a:stretch/>
        </p:blipFill>
        <p:spPr>
          <a:xfrm>
            <a:off x="4191120" y="609480"/>
            <a:ext cx="3809880" cy="4086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81960" y="5715000"/>
            <a:ext cx="657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ake y Dinos Chapma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Great Deeds! Against the Dead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9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82" name="haden-guest10-1-4s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23652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oya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32440" y="5562720"/>
            <a:ext cx="64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¡Gran hazaña! Con muerto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1810 - 20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143000" y="380880"/>
          <a:ext cx="3809880" cy="571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880"/>
                    <a:ext cx="3809880" cy="57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09240" y="5029200"/>
            <a:ext cx="318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lfredo Jaar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l lamento de las imágenes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422440" y="609480"/>
          <a:ext cx="412452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609480"/>
                    <a:ext cx="412452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mithsonSpiralJettyAerial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414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76640" y="5715000"/>
            <a:ext cx="43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obert Smithso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The Spiral Jetty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7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438280" y="609480"/>
          <a:ext cx="41799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609480"/>
                    <a:ext cx="41799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362320" y="457200"/>
          <a:ext cx="44496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4449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80880" y="228600"/>
          <a:ext cx="434340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4343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art21jaar03" descr=""/>
          <p:cNvPicPr/>
          <p:nvPr/>
        </p:nvPicPr>
        <p:blipFill>
          <a:blip r:embed="rId3"/>
          <a:stretch/>
        </p:blipFill>
        <p:spPr>
          <a:xfrm>
            <a:off x="4952880" y="2514600"/>
            <a:ext cx="3981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mithsonSpiralJettyFromLand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3781440" cy="2581560"/>
          </a:xfrm>
          <a:prstGeom prst="rect">
            <a:avLst/>
          </a:prstGeom>
          <a:ln w="0">
            <a:noFill/>
          </a:ln>
        </p:spPr>
      </p:pic>
      <p:pic>
        <p:nvPicPr>
          <p:cNvPr id="46" name="SPIRALJ" descr=""/>
          <p:cNvPicPr/>
          <p:nvPr/>
        </p:nvPicPr>
        <p:blipFill>
          <a:blip r:embed="rId2"/>
          <a:stretch/>
        </p:blipFill>
        <p:spPr>
          <a:xfrm>
            <a:off x="4495680" y="609480"/>
            <a:ext cx="4343400" cy="2853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72960" y="571500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Great Salt Lake, Rozel Point, Utah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8" name="Spiral_Jetty_Robert_Smithson" descr=""/>
          <p:cNvPicPr/>
          <p:nvPr/>
        </p:nvPicPr>
        <p:blipFill>
          <a:blip r:embed="rId3"/>
          <a:stretch/>
        </p:blipFill>
        <p:spPr>
          <a:xfrm>
            <a:off x="1066680" y="3733920"/>
            <a:ext cx="2667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lightningfield-top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90204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89160" y="4952880"/>
            <a:ext cx="244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Walter De Mari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The Lightning Field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7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1" name="DeMariaLighteningFieldDay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388620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emariaLighteningFieldStorm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246852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5920" y="5715000"/>
            <a:ext cx="26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Quemado, New México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4" name="797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7909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9_wrapped_reichstag_02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01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7" name="09_wrapped_reichstag_01_small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276720" cy="2359080"/>
          </a:xfrm>
          <a:prstGeom prst="rect">
            <a:avLst/>
          </a:prstGeom>
          <a:ln w="0">
            <a:noFill/>
          </a:ln>
        </p:spPr>
      </p:pic>
      <p:pic>
        <p:nvPicPr>
          <p:cNvPr id="58" name="74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4724280" cy="3705120"/>
          </a:xfrm>
          <a:prstGeom prst="rect">
            <a:avLst/>
          </a:prstGeom>
          <a:ln w="0">
            <a:noFill/>
          </a:ln>
        </p:spPr>
      </p:pic>
      <p:pic>
        <p:nvPicPr>
          <p:cNvPr id="59" name="Wrapped-Reichstag-Project-for-Berlin-Posters" descr=""/>
          <p:cNvPicPr/>
          <p:nvPr/>
        </p:nvPicPr>
        <p:blipFill>
          <a:blip r:embed="rId3"/>
          <a:stretch/>
        </p:blipFill>
        <p:spPr>
          <a:xfrm>
            <a:off x="457200" y="3657600"/>
            <a:ext cx="33526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aravan1tn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657600" cy="2436840"/>
          </a:xfrm>
          <a:prstGeom prst="rect">
            <a:avLst/>
          </a:prstGeom>
          <a:ln w="0">
            <a:noFill/>
          </a:ln>
        </p:spPr>
      </p:pic>
      <p:pic>
        <p:nvPicPr>
          <p:cNvPr id="61" name="caravan5tn" descr=""/>
          <p:cNvPicPr/>
          <p:nvPr/>
        </p:nvPicPr>
        <p:blipFill>
          <a:blip r:embed="rId2"/>
          <a:stretch/>
        </p:blipFill>
        <p:spPr>
          <a:xfrm>
            <a:off x="4267080" y="304920"/>
            <a:ext cx="4876920" cy="324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51320" y="5257800"/>
            <a:ext cx="28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irkrit Tiravanij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Untitled, 1999 (caravan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9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95360" y="6019920"/>
            <a:ext cx="25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Marc Quin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Self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9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64" name="MQ-SELF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4343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9:50:46Z</dcterms:created>
  <dc:creator>Victor Diaz</dc:creator>
  <dc:description/>
  <dc:language>en-US</dc:language>
  <cp:lastModifiedBy>Victor Diaz</cp:lastModifiedBy>
  <dcterms:modified xsi:type="dcterms:W3CDTF">2009-01-18T21:49:15Z</dcterms:modified>
  <cp:revision>30</cp:revision>
  <dc:subject/>
  <dc:title>Arte Actual</dc:title>
</cp:coreProperties>
</file>