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55E2-261D-4607-9BA9-C192DDA4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FF4-DFB6-4E99-8295-63FA26F1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0C7-2B2B-406B-B5A2-117B2005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532-B95D-4BD9-B568-E8C272B5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2351-F984-48D3-A17A-FA0030FC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CD3-CDAF-4FA9-B576-71293A2A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FFD-0AED-4A0A-A183-68D2E0CC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4310-94D3-46C6-96F0-BD79B841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EA3-5598-4724-B919-3AC20A0B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6A3-C992-4D4F-8AE5-83618BAD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C99D-4EA2-4327-98FA-71B0080A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4D2E-735F-48D6-9331-BFB44AD9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EDB8-81BD-4E51-A4CB-9963B5E7546A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El cuerpo como obra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Body Art, Accionismo Vienés, performance, happening.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erra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1840" cy="3551400"/>
          </a:xfrm>
          <a:prstGeom prst="rect">
            <a:avLst/>
          </a:prstGeom>
          <a:ln w="0">
            <a:noFill/>
          </a:ln>
        </p:spPr>
      </p:pic>
      <p:pic>
        <p:nvPicPr>
          <p:cNvPr id="61" name="sierra2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3238560" cy="2248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6000" y="5105520"/>
            <a:ext cx="78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ínea de 250 cm tatuada sobre 6 personas remunerada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999. [La Habana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erra7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82896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sierra6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1737000" cy="2590560"/>
          </a:xfrm>
          <a:prstGeom prst="rect">
            <a:avLst/>
          </a:prstGeom>
          <a:ln w="0">
            <a:noFill/>
          </a:ln>
        </p:spPr>
      </p:pic>
      <p:pic>
        <p:nvPicPr>
          <p:cNvPr id="65" name="sierra5" descr=""/>
          <p:cNvPicPr/>
          <p:nvPr/>
        </p:nvPicPr>
        <p:blipFill>
          <a:blip r:embed="rId3"/>
          <a:stretch/>
        </p:blipFill>
        <p:spPr>
          <a:xfrm>
            <a:off x="5334120" y="3505320"/>
            <a:ext cx="19144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ierra8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43920" cy="5429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15120" y="6019920"/>
            <a:ext cx="58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a Tramp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2007. [Santiago de Chile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nthropométrie%20à%20Campagne-Première,%201960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524480" cy="563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59360" y="6095880"/>
            <a:ext cx="62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ves Klei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nthropométrie à Campagne-Premièr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60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Yveskleinjpg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yvesklein1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334120" cy="50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kubota-vaginapainting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83724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7960" y="4952880"/>
            <a:ext cx="2585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Shigeko Kubot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Vagina Painting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5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Perpetual Fluxus Festival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yes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617640" cy="487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8120" y="4800600"/>
            <a:ext cx="3611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oko Ono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eiling Painting (Yes Painting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_AccionismoV_Schwarzkogler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3663720" cy="4876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29800" y="4876920"/>
            <a:ext cx="254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udolf Schwarzkogler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6. Acció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6eeb4b016af3d606d62cff93a68bf2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504960" cy="2921040"/>
          </a:xfrm>
          <a:prstGeom prst="rect">
            <a:avLst/>
          </a:prstGeom>
          <a:ln w="0">
            <a:noFill/>
          </a:ln>
        </p:spPr>
      </p:pic>
      <p:pic>
        <p:nvPicPr>
          <p:cNvPr id="54" name="zhuyu6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835440" cy="508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0" y="4343400"/>
            <a:ext cx="17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Zhu Y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ating People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000111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4343400" cy="2873520"/>
          </a:xfrm>
          <a:prstGeom prst="rect">
            <a:avLst/>
          </a:prstGeom>
          <a:ln w="0">
            <a:noFill/>
          </a:ln>
        </p:spPr>
      </p:pic>
      <p:pic>
        <p:nvPicPr>
          <p:cNvPr id="57" name="2000113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23856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2000112" descr=""/>
          <p:cNvPicPr/>
          <p:nvPr/>
        </p:nvPicPr>
        <p:blipFill>
          <a:blip r:embed="rId3"/>
          <a:stretch/>
        </p:blipFill>
        <p:spPr>
          <a:xfrm>
            <a:off x="4572000" y="762120"/>
            <a:ext cx="3238560" cy="215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5280" y="3962520"/>
            <a:ext cx="3656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Santiago Sierr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Línea de 10 pulgadas rasurad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sobre las cabezas de 2 heroinómano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remunerados con una dosis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cada uno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[Puerto Rico]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0:01:08Z</dcterms:created>
  <dc:creator>Victor Diaz</dc:creator>
  <dc:description/>
  <dc:language>en-US</dc:language>
  <cp:lastModifiedBy>Victor Diaz</cp:lastModifiedBy>
  <dcterms:modified xsi:type="dcterms:W3CDTF">2009-01-17T23:09:13Z</dcterms:modified>
  <cp:revision>24</cp:revision>
  <dc:subject/>
  <dc:title>El registro como obra.</dc:title>
</cp:coreProperties>
</file>