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935-B9D6-4D19-94C7-EA4C2416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F79-D1BD-44D7-BD12-B858BC26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48F-8C53-417B-8CCC-0D73051B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171-E6E1-4541-ABF1-649B5461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531-FAAB-46E3-900F-92E2ED14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BA2-19A8-4B98-807F-D077CDA5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3F2-6E86-4A89-BBC2-D0A0E2EF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D08-2393-447C-A590-400DB06F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F9F-B169-4903-AA5F-073FCDD2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F53-7849-4302-8028-EB7A8FA0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FDF-51CB-41F8-886E-69EB916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4B6-FD3D-4230-90B4-23A825F6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619-C597-4ADC-93FC-3C88E231556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te Actual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uevas tendencias en la producción artíst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rc-quin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32200" cy="4724640"/>
          </a:xfrm>
          <a:prstGeom prst="rect">
            <a:avLst/>
          </a:prstGeom>
          <a:ln w="0">
            <a:noFill/>
          </a:ln>
        </p:spPr>
      </p:pic>
      <p:pic>
        <p:nvPicPr>
          <p:cNvPr id="66" name="haden-guest10-1-2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098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rJohnSulston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9150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720" y="5334120"/>
            <a:ext cx="429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 Genomic Portrait: Sir John Sulsto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1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58960" y="5943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Hel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2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0" name="chapmanbrothers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ell0_674846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72" name="hell1_674847c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8480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hell2_674849c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84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1b_29_hell-new_415x27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410080" cy="3584520"/>
          </a:xfrm>
          <a:prstGeom prst="rect">
            <a:avLst/>
          </a:prstGeom>
          <a:ln w="0">
            <a:noFill/>
          </a:ln>
        </p:spPr>
      </p:pic>
      <p:pic>
        <p:nvPicPr>
          <p:cNvPr id="75" name="11b_29_hitler-fig_415x275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5280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ApocalypseHellHugoPhilpottAFO460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4038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il516-121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2746080"/>
          </a:xfrm>
          <a:prstGeom prst="rect">
            <a:avLst/>
          </a:prstGeom>
          <a:ln w="0">
            <a:noFill/>
          </a:ln>
        </p:spPr>
      </p:pic>
      <p:pic>
        <p:nvPicPr>
          <p:cNvPr id="78" name="pail524-1785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852720" cy="2500560"/>
          </a:xfrm>
          <a:prstGeom prst="rect">
            <a:avLst/>
          </a:prstGeom>
          <a:ln w="0">
            <a:noFill/>
          </a:ln>
        </p:spPr>
      </p:pic>
      <p:pic>
        <p:nvPicPr>
          <p:cNvPr id="79" name="chapman-hell-192_674845e" descr=""/>
          <p:cNvPicPr/>
          <p:nvPr/>
        </p:nvPicPr>
        <p:blipFill>
          <a:blip r:embed="rId3"/>
          <a:stretch/>
        </p:blipFill>
        <p:spPr>
          <a:xfrm>
            <a:off x="5029200" y="685800"/>
            <a:ext cx="34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ake_dinos_chapman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380988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81960" y="5715000"/>
            <a:ext cx="65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at Deeds! Against the Dea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2" name="haden-guest10-1-4s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36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ya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440" y="5562720"/>
            <a:ext cx="64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¡Gran hazaña! Con muerto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1810 - 2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380880"/>
          <a:ext cx="3809880" cy="57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38098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09240" y="5029200"/>
            <a:ext cx="31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lfredo Jaar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lamento de las imágene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22440" y="609480"/>
          <a:ext cx="41245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609480"/>
                    <a:ext cx="41245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mithsonSpiralJettyAerial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7664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Smithso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Spiral Jett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7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609480"/>
          <a:ext cx="4179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609480"/>
                    <a:ext cx="4179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362320" y="457200"/>
          <a:ext cx="44496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4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228600"/>
          <a:ext cx="43434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4343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art21jaar03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98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mithsonSpiralJettyFromLand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8144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SPIRALJ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43400" cy="285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2960" y="571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reat Salt Lake, Rozel Point, Utah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8" name="Spiral_Jetty_Robert_Smithson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66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ightningfield-top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90204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89160" y="495288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alter De Mari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Lightning Fiel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7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" name="DeMariaLighteningFieldDay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86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mariaLighteningFieldStorm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685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5920" y="571500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Quemado, New Méxic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" name="79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909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9_wrapped_reichstag_0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" name="09_wrapped_reichstag_01_small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58" name="74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72428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Wrapped-Reichstag-Project-for-Berlin-Posters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ravan1tn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61" name="caravan5tn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876920" cy="32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1320" y="5257800"/>
            <a:ext cx="28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irkrit Tiravanij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Untitled, 1999 (caravan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95360" y="601992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elf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4" name="MQ-SELF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9:50:46Z</dcterms:created>
  <dc:creator>Victor Diaz</dc:creator>
  <dc:description/>
  <dc:language>en-US</dc:language>
  <cp:lastModifiedBy>Victor Diaz</cp:lastModifiedBy>
  <dcterms:modified xsi:type="dcterms:W3CDTF">2009-01-18T21:49:15Z</dcterms:modified>
  <cp:revision>30</cp:revision>
  <dc:subject/>
  <dc:title>Arte Actual</dc:title>
</cp:coreProperties>
</file>