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A1F-4A1D-45D7-B5BC-AA13A74D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18E-6180-4BAE-B067-43493068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5A4-EB7C-4F0F-9807-A3A6FFED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2F1-9CBE-4DAD-8265-00EA3193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885-B79C-40F1-8970-0565BBB6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B37-3481-414F-9B67-ABDCCD76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F1A-03E3-4F98-9653-A8A4BDA5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F61-077A-4824-921F-59987DC1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630-5F68-4AFF-B6BD-4EA99174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2B9-A8A5-48CF-B676-17C0F4A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6B5-5189-493C-9D81-C29D387C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37C-9C36-4F8B-8403-265D181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0EF-1433-4EC9-8805-2FE9F14D2EC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The american scen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Surgimiento del Pop y su filiación con los Realismos en el art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reen-car-crash-warhol" descr=""/>
          <p:cNvPicPr/>
          <p:nvPr/>
        </p:nvPicPr>
        <p:blipFill>
          <a:blip r:embed="rId1"/>
          <a:stretch/>
        </p:blipFill>
        <p:spPr>
          <a:xfrm>
            <a:off x="3124080" y="533520"/>
            <a:ext cx="5486400" cy="583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9960" y="5181480"/>
            <a:ext cx="2008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en car crash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3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arhol-campbellsoup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4496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0880" y="5257800"/>
            <a:ext cx="205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ampbell’s soup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2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4_1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01984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38200" y="5105520"/>
            <a:ext cx="273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rillo Box (Soap Pads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amilton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5692680" cy="592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200" y="4952880"/>
            <a:ext cx="276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Richard Hamilton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Just what is it that make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today’s homes so different,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so appealing?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1956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auschenberg_Monogram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97440" y="5791320"/>
            <a:ext cx="50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Rauschenberg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Monograma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5 - 59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anana-1967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7" descr=""/>
          <p:cNvPicPr/>
          <p:nvPr/>
        </p:nvPicPr>
        <p:blipFill>
          <a:blip r:embed="rId2"/>
          <a:stretch/>
        </p:blipFill>
        <p:spPr>
          <a:xfrm>
            <a:off x="3962520" y="533520"/>
            <a:ext cx="4749840" cy="2412720"/>
          </a:xfrm>
          <a:prstGeom prst="rect">
            <a:avLst/>
          </a:prstGeom>
          <a:ln w="0">
            <a:noFill/>
          </a:ln>
        </p:spPr>
      </p:pic>
      <p:pic>
        <p:nvPicPr>
          <p:cNvPr id="71" name="bose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26402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lennon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olling-stones-sticky-fingers-zipper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96252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lp_warhol.stickyfingers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09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heet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420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urbet_LAtelier_du_peintre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16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2120" y="586728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L’Atelier du peintre. Allégorie Réelle déterminant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une phase de sept années de ma vie artistique (et morale).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 1855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032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410080" cy="445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8440" y="594360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ean-Francois Mill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Angelu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5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rigin-of-the-World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5099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3640" y="58672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'origine du mond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ladimir_Gawriilowitsch_Krikhatzkij_-_The_First_Tractor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5600" y="57913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ladimir Krikhatsky 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primer tractor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wan2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73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6520" y="5867280"/>
            <a:ext cx="62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Filippovich Ivanov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ladimir Ilich Lenin hablando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merican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353200" cy="645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99000" y="548640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rant Woo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merican Gothic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3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5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41180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0440" y="5334120"/>
            <a:ext cx="246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Norman Rockwel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Freedom from Want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N5230hopper%20NHks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04520" cy="479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0360" y="586728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ward Hopper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Nighthawk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42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6:51Z</dcterms:created>
  <dc:creator>Victor Diaz</dc:creator>
  <dc:description/>
  <dc:language>en-US</dc:language>
  <cp:lastModifiedBy>Victor Diaz</cp:lastModifiedBy>
  <dcterms:modified xsi:type="dcterms:W3CDTF">2009-01-15T01:13:35Z</dcterms:modified>
  <cp:revision>21</cp:revision>
  <dc:subject/>
  <dc:title>Sin título de diapositiva</dc:title>
</cp:coreProperties>
</file>