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095-4C94-4FE0-BA41-150FCF3C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4AC-31B7-4823-8926-10BB635B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7B1-1F44-4466-925B-72608C03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02C-CE4E-4381-B7A2-0ADC77B6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F79-9064-4AAF-8F92-8B26CB03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F6C-8863-42D7-9DAC-BA09A444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170-C7A2-4624-8434-E0DDE56B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F2C-145E-4653-A896-56A5AD0F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655-81A3-4E72-B97D-3FB4BCC0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B28-D0DD-4FD2-BC7C-8B8055BF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5E6-3E39-46D9-9335-C8496BF0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480-5C77-464A-BC97-6DF4DD06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2FE1-3288-4F62-B23D-9D9AEAAB61BA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Los efectos de la Segunda Guerra Mundial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Neo-plasticismo, De Stijl, Abstracción lírica, Bauhaus y el surgimiento del expresionismo abstracto en Norteamérica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oost_schmidt_cartelexpobau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262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36334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48720" cy="337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46240" y="548640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ckson Pollok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Blue poles Number 11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52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e%20Kooning" descr=""/>
          <p:cNvPicPr/>
          <p:nvPr/>
        </p:nvPicPr>
        <p:blipFill>
          <a:blip r:embed="rId1"/>
          <a:stretch/>
        </p:blipFill>
        <p:spPr>
          <a:xfrm>
            <a:off x="4191120" y="457200"/>
            <a:ext cx="4308480" cy="5867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87120" y="5029200"/>
            <a:ext cx="2206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Willem de Koonin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Woma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49 - 50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olsky4-3-6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5129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78080" y="6019920"/>
            <a:ext cx="44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Little Electric Chair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6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koln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467320" cy="542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560" y="5791320"/>
            <a:ext cx="9137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Piet Mondri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Komposition mit großer roter Fläche, Gelb, Schwarz, Grau und Blau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21 [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Composición con rojo, amarillo, azul y negro]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mpositie1918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3504960" cy="348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51520" y="5410080"/>
            <a:ext cx="47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Bart van der Leck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omposició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18-192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leine_Dada_Soirée_1922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678280" cy="571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03840" y="6172200"/>
            <a:ext cx="68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Theo van Doesburg y Kurt Schwitters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Kleine Dadá Soiré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2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ietveld_chair_1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428472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2640" y="5334120"/>
            <a:ext cx="195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Gerrit Rietveld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illa roja y azul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1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andinsky-dc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65000" y="6019920"/>
            <a:ext cx="57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Vasili Vasílievich Kandinski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urva dominant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36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llonwasilly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99428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54400" y="6019920"/>
            <a:ext cx="44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ies van de Rohe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illón Wasilly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19¿?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3_sillas_similares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7531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auhaus93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8:22:47Z</dcterms:created>
  <dc:creator>Victor Diaz</dc:creator>
  <dc:description/>
  <dc:language>en-US</dc:language>
  <cp:lastModifiedBy>Victor Diaz</cp:lastModifiedBy>
  <dcterms:modified xsi:type="dcterms:W3CDTF">2009-01-13T23:56:20Z</dcterms:modified>
  <cp:revision>18</cp:revision>
  <dc:subject/>
  <dc:title>Sin título de diapositiva</dc:title>
</cp:coreProperties>
</file>