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536-3981-4BFF-8DBC-2519C954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E34-4406-4A10-A531-D1EC3196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13F-37E4-4D07-B4E4-6F90DAE8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F84-31E7-4997-AEC4-F5F1C32D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C3A-11CC-4805-9D64-EAB3740E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322-1863-4BF1-92E4-1E55C82D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B40-D591-4682-9715-36EC7319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C0D-C145-401B-BADA-B5286E75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60A-26BC-4B5A-9309-1784DD83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B57-4C98-46B3-9512-1B89354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F77-92F1-4F50-8B9F-748BEF1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DA8-F875-4E76-9B44-CC040344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29E5-8AC6-4EF4-A4F2-A8103376625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Los efectos de la Segunda Guerra Mundial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Neo-plasticismo, De Stijl, Abstracción lírica, Bauhaus y el surgimiento del expresionismo abstracto en Norteamér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oost_schmidt_cartelexpobau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262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6334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337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46240" y="548640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ckson Pollo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lue poles Number 11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2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e%20Kooning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308480" cy="586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87120" y="5029200"/>
            <a:ext cx="2206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illem de Kooni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Woma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9 - 5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olsky4-3-6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512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78080" y="601992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ittle Electric Chair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koln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467320" cy="542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560" y="5791320"/>
            <a:ext cx="9137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Piet Mondri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omposition mit großer roter Fläche, Gelb, Schwarz, Grau und Blau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21 [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Composición con rojo, amarillo, azul y negro]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mpositie1918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504960" cy="348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51520" y="5410080"/>
            <a:ext cx="47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Bart van der Lec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omposi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8-192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leine_Dada_Soirée_1922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678280" cy="571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03840" y="6172200"/>
            <a:ext cx="68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Theo van Doesburg y Kurt Schwitters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leine Dadá Soiré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2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ietveld_chair_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28472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2640" y="5334120"/>
            <a:ext cx="19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errit Rietvel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a roja y azu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1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andinsky-d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65000" y="6019920"/>
            <a:ext cx="57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Vasílievich Kandinski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urva dominant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3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llonwasilly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9428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54400" y="6019920"/>
            <a:ext cx="44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ies van de Rohe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ón Wasill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9¿?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_sillas_similares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7531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auhaus9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8:22:47Z</dcterms:created>
  <dc:creator>Victor Diaz</dc:creator>
  <dc:description/>
  <dc:language>en-US</dc:language>
  <cp:lastModifiedBy>Victor Diaz</cp:lastModifiedBy>
  <dcterms:modified xsi:type="dcterms:W3CDTF">2009-01-13T23:56:20Z</dcterms:modified>
  <cp:revision>18</cp:revision>
  <dc:subject/>
  <dc:title>Sin título de diapositiva</dc:title>
</cp:coreProperties>
</file>