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A8CA-0B7C-4D86-A433-930476A02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8942-4F18-4870-A216-ED0B116E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89C5-2C31-4F05-A73C-E8C2680F6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6383-C3BB-48BC-9965-EF3AF19BB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5958-D480-48A4-AC64-801C2D56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4B34-DEB0-4F18-9B5A-2092D8E3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1893-8CD4-4846-A4DB-8AEE45FE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A9B2-44B5-4746-98FB-D025177F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41E3-415E-4A44-B67B-A5224C33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92E0-223E-4D8C-8F0D-61A1727C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CAF4-246D-411F-8055-68FCC036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A53F-65B9-41B2-8579-D5071FA5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853D-C743-4CA5-B8EF-15CFB6EE349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l decurso de la escultura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Neoclásica, romántica, impresionista, assamblage, ready-made y surrealista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levalse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654440" cy="6248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171480" y="5257800"/>
            <a:ext cx="1966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mille Claudel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vals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5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valse2" descr=""/>
          <p:cNvPicPr/>
          <p:nvPr/>
        </p:nvPicPr>
        <p:blipFill>
          <a:blip r:embed="rId1"/>
          <a:stretch/>
        </p:blipFill>
        <p:spPr>
          <a:xfrm>
            <a:off x="2438280" y="533520"/>
            <a:ext cx="40719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558760" y="5105520"/>
            <a:ext cx="2497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Dega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equeña bailarina d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torce añ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0 - 8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2" name="Degas___Ballerina_di_14_anni__1881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40561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DSC_3533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3729240" cy="5715000"/>
          </a:xfrm>
          <a:prstGeom prst="rect">
            <a:avLst/>
          </a:prstGeom>
          <a:ln w="0">
            <a:noFill/>
          </a:ln>
        </p:spPr>
      </p:pic>
      <p:pic>
        <p:nvPicPr>
          <p:cNvPr id="64" name="tmp_00c9ddb66a2090456024e954c33e4263" descr=""/>
          <p:cNvPicPr/>
          <p:nvPr/>
        </p:nvPicPr>
        <p:blipFill>
          <a:blip r:embed="rId2"/>
          <a:stretch/>
        </p:blipFill>
        <p:spPr>
          <a:xfrm>
            <a:off x="4419720" y="533520"/>
            <a:ext cx="44053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00033083" descr=""/>
          <p:cNvPicPr/>
          <p:nvPr/>
        </p:nvPicPr>
        <p:blipFill>
          <a:blip r:embed="rId1"/>
          <a:stretch/>
        </p:blipFill>
        <p:spPr>
          <a:xfrm>
            <a:off x="1905120" y="304920"/>
            <a:ext cx="2725560" cy="6324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870080" y="5943600"/>
            <a:ext cx="32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Guitarr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91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readymade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559400" cy="5257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277720" y="6019920"/>
            <a:ext cx="464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rcel Duchamp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Rueda de bicicle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1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nkbellmerdoll2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5346720" cy="5486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736000" y="6019920"/>
            <a:ext cx="393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ans Bellm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ie Pupp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34-35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hans-bellmer%201935.2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810240" cy="3800520"/>
          </a:xfrm>
          <a:prstGeom prst="rect">
            <a:avLst/>
          </a:prstGeom>
          <a:ln w="0">
            <a:noFill/>
          </a:ln>
        </p:spPr>
      </p:pic>
      <p:pic>
        <p:nvPicPr>
          <p:cNvPr id="72" name="BellPou" descr=""/>
          <p:cNvPicPr/>
          <p:nvPr/>
        </p:nvPicPr>
        <p:blipFill>
          <a:blip r:embed="rId2"/>
          <a:stretch/>
        </p:blipFill>
        <p:spPr>
          <a:xfrm>
            <a:off x="4876920" y="1523880"/>
            <a:ext cx="380988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horvaldsens_Ganymedes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515360" cy="5705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93240" y="6248520"/>
            <a:ext cx="55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Bertel Thorvaldsen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Ganimedes con el águil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7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odin__The_Thinker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881600" cy="6248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32640" y="5334120"/>
            <a:ext cx="3417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François-Auguste-René Rodi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enseu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[originalmente “El Poeta”]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anova_-_Napoleone_Bonaparte_-_Milano,_Cortile_del_Palazzo_di_Brera_-_Foto_Giovanni_Dall'Orto_19-jan_2007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4203720" cy="632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021640" y="5181480"/>
            <a:ext cx="3877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Antonio Canova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poleón como Marte Pacificado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 Napoleón divinizad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09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anova-napoleon" descr=""/>
          <p:cNvPicPr/>
          <p:nvPr/>
        </p:nvPicPr>
        <p:blipFill>
          <a:blip r:embed="rId1"/>
          <a:stretch/>
        </p:blipFill>
        <p:spPr>
          <a:xfrm>
            <a:off x="3124080" y="228600"/>
            <a:ext cx="28465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Napoleon_243x371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3892320" cy="5943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84240" y="5181480"/>
            <a:ext cx="268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Napoleón como Mart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acificador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rimera versión de 1806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Hoellentor" descr=""/>
          <p:cNvPicPr/>
          <p:nvPr/>
        </p:nvPicPr>
        <p:blipFill>
          <a:blip r:embed="rId1"/>
          <a:stretch/>
        </p:blipFill>
        <p:spPr>
          <a:xfrm>
            <a:off x="4495680" y="228600"/>
            <a:ext cx="3926160" cy="6400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92760" y="5410080"/>
            <a:ext cx="2338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Auguste Rodi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Porte de l'Enfe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0 - 191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385072382_f8a493b666" descr=""/>
          <p:cNvPicPr/>
          <p:nvPr/>
        </p:nvPicPr>
        <p:blipFill>
          <a:blip r:embed="rId1"/>
          <a:stretch/>
        </p:blipFill>
        <p:spPr>
          <a:xfrm>
            <a:off x="2286000" y="152280"/>
            <a:ext cx="4648320" cy="3095640"/>
          </a:xfrm>
          <a:prstGeom prst="rect">
            <a:avLst/>
          </a:prstGeom>
          <a:ln w="0">
            <a:noFill/>
          </a:ln>
        </p:spPr>
      </p:pic>
      <p:pic>
        <p:nvPicPr>
          <p:cNvPr id="55" name="1384172925_e692d18cee" descr=""/>
          <p:cNvPicPr/>
          <p:nvPr/>
        </p:nvPicPr>
        <p:blipFill>
          <a:blip r:embed="rId2"/>
          <a:stretch/>
        </p:blipFill>
        <p:spPr>
          <a:xfrm>
            <a:off x="2209680" y="3429000"/>
            <a:ext cx="480060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384172023_79e057f0b0" descr=""/>
          <p:cNvPicPr/>
          <p:nvPr/>
        </p:nvPicPr>
        <p:blipFill>
          <a:blip r:embed="rId1"/>
          <a:stretch/>
        </p:blipFill>
        <p:spPr>
          <a:xfrm>
            <a:off x="4724280" y="2209680"/>
            <a:ext cx="4057920" cy="2702160"/>
          </a:xfrm>
          <a:prstGeom prst="rect">
            <a:avLst/>
          </a:prstGeom>
          <a:ln w="0">
            <a:noFill/>
          </a:ln>
        </p:spPr>
      </p:pic>
      <p:pic>
        <p:nvPicPr>
          <p:cNvPr id="57" name="1384170855_e2f81c2965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38052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4T22:35:50Z</dcterms:created>
  <dc:creator>Victor Diaz</dc:creator>
  <dc:description/>
  <dc:language>en-US</dc:language>
  <cp:lastModifiedBy>Victor Diaz</cp:lastModifiedBy>
  <dcterms:modified xsi:type="dcterms:W3CDTF">2009-01-08T18:22:42Z</dcterms:modified>
  <cp:revision>21</cp:revision>
  <dc:subject/>
  <dc:title>Sin título de diapositiva</dc:title>
</cp:coreProperties>
</file>