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E22A-B2FC-400C-BFE0-60AD6397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01E4-5450-4C79-A5BF-BA80271C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E425-E195-4188-9AD1-CEDCFFDF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DC91-BC0D-4ECD-9213-BD876238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E832-B97F-46F6-86B8-BE65E035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DBE9-426B-400F-97B8-41099979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DEE6-F675-4105-97DE-17B37197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932C-DB52-4D2B-A6DC-04555CB6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4497-8E93-49DC-9934-11635300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580-E53C-40C1-8076-FD93C024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E81-3539-4FB8-B87E-DC9AF34E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98F3-6A85-49B6-8AA8-7ABE53D6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DBD6-F495-49D0-967D-7C51AA63311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decurso de la escultura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Neoclásica, romántica, impresionista, assamblage, ready-made y surrealist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evalse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654440" cy="6248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71480" y="5257800"/>
            <a:ext cx="1966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Claudel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vals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valse2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0719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558760" y="5105520"/>
            <a:ext cx="2497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equeña bailarina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torce añ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8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2" name="Degas___Ballerina_di_14_anni__188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056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SC_3533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729240" cy="5715000"/>
          </a:xfrm>
          <a:prstGeom prst="rect">
            <a:avLst/>
          </a:prstGeom>
          <a:ln w="0">
            <a:noFill/>
          </a:ln>
        </p:spPr>
      </p:pic>
      <p:pic>
        <p:nvPicPr>
          <p:cNvPr id="64" name="tmp_00c9ddb66a2090456024e954c33e4263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4405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0033083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2725560" cy="632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870080" y="594360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Guitarr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1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adymade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559400" cy="5257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77720" y="6019920"/>
            <a:ext cx="464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rcel Duchamp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ueda de bicic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nkbellmerdoll2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346720" cy="5486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36000" y="6019920"/>
            <a:ext cx="39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Bellm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e Pupp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34-3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hans-bellmer%201935.2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810240" cy="3800520"/>
          </a:xfrm>
          <a:prstGeom prst="rect">
            <a:avLst/>
          </a:prstGeom>
          <a:ln w="0">
            <a:noFill/>
          </a:ln>
        </p:spPr>
      </p:pic>
      <p:pic>
        <p:nvPicPr>
          <p:cNvPr id="72" name="BellPou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8098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horvaldsens_Ganymedes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515360" cy="5705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93240" y="6248520"/>
            <a:ext cx="55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el Thorvaldse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animedes con el águi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odin__The_Thinker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881600" cy="6248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32640" y="5334120"/>
            <a:ext cx="341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çois-Auguste-René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enseu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[originalmente “El Poeta”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anova_-_Napoleone_Bonaparte_-_Milano,_Cortile_del_Palazzo_di_Brera_-_Foto_Giovanni_Dall'Orto_19-jan_2007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2037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21640" y="5181480"/>
            <a:ext cx="3877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ntonio Canov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como Marte Pacificad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 Napoleón divinizad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anova-napoleon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2846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Napoleon_243x37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3892320" cy="5943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84240" y="5181480"/>
            <a:ext cx="268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como Mart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cificador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imera versión de 180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Hoellentor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3926160" cy="6400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92760" y="5410080"/>
            <a:ext cx="2338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uguste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orte de l'Enf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191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385072382_f8a493b666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648320" cy="3095640"/>
          </a:xfrm>
          <a:prstGeom prst="rect">
            <a:avLst/>
          </a:prstGeom>
          <a:ln w="0">
            <a:noFill/>
          </a:ln>
        </p:spPr>
      </p:pic>
      <p:pic>
        <p:nvPicPr>
          <p:cNvPr id="55" name="1384172925_e692d18cee" descr=""/>
          <p:cNvPicPr/>
          <p:nvPr/>
        </p:nvPicPr>
        <p:blipFill>
          <a:blip r:embed="rId2"/>
          <a:stretch/>
        </p:blipFill>
        <p:spPr>
          <a:xfrm>
            <a:off x="2209680" y="3429000"/>
            <a:ext cx="48006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384172023_79e057f0b0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057920" cy="2702160"/>
          </a:xfrm>
          <a:prstGeom prst="rect">
            <a:avLst/>
          </a:prstGeom>
          <a:ln w="0">
            <a:noFill/>
          </a:ln>
        </p:spPr>
      </p:pic>
      <p:pic>
        <p:nvPicPr>
          <p:cNvPr id="57" name="1384170855_e2f81c2965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3805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22:35:50Z</dcterms:created>
  <dc:creator>Victor Diaz</dc:creator>
  <dc:description/>
  <dc:language>en-US</dc:language>
  <cp:lastModifiedBy>Victor Diaz</cp:lastModifiedBy>
  <dcterms:modified xsi:type="dcterms:W3CDTF">2009-01-08T18:22:42Z</dcterms:modified>
  <cp:revision>21</cp:revision>
  <dc:subject/>
  <dc:title>Sin título de diapositiva</dc:title>
</cp:coreProperties>
</file>