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82A-9D1C-4A41-823D-3FB51485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6C0A-4DAE-4E7E-8E42-AE6178CD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8CFC-0267-47E3-A914-4EB1530E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D4CB-44E6-4A12-B117-AB51D237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8522-C038-4F17-9B18-956BD346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2993-6395-4C6C-909F-D31CA216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C37C-2F5D-4CE4-94E9-08193099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6A7C-5699-4213-B61E-356AE8A6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8368-69C9-4667-B1F3-222BE3D7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FBE1-B2F9-48D5-B2A2-9E9B6BF5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D068-372D-4A26-B0D1-3A17FB72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40B6-36B8-4170-82DB-CCC6947F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5F5C-5079-4956-BA4D-4C0E5D4C532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íspera de la Vanguardi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E0000051780_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408560" cy="6324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97960" y="5029200"/>
            <a:ext cx="388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ffet du mat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800px-Claude_Monet_038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534520" cy="2922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01400" y="5562720"/>
            <a:ext cx="46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nymphé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0 - 26 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19 por 602 c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espartanos%20degas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162920" cy="5027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41320" y="5943600"/>
            <a:ext cx="564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jercicios de jóvenes esparta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Edgar_Germain_Hilaire_Degas_02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602320" cy="6248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549480" y="5181480"/>
            <a:ext cx="217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Germain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ilaire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lase de danz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lasedanzacompos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894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bsinthe" descr=""/>
          <p:cNvPicPr/>
          <p:nvPr/>
        </p:nvPicPr>
        <p:blipFill>
          <a:blip r:embed="rId1"/>
          <a:stretch/>
        </p:blipFill>
        <p:spPr>
          <a:xfrm>
            <a:off x="4038480" y="304920"/>
            <a:ext cx="4551480" cy="632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14760" y="4724280"/>
            <a:ext cx="24055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'Absint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2 por 68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Edouard_Manet_040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464000" cy="624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35080" y="5334120"/>
            <a:ext cx="3044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etrato de Berthe Moriso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Berthe_Morisot_002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629400" cy="564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0160" y="6019920"/>
            <a:ext cx="85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he Moriso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ugène Manet en la isla de Wig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5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, Parí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noir21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05720" cy="4937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58280" y="5715000"/>
            <a:ext cx="665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erre-Auguste Renoi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 au Moulin de la Gale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por 175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mwm07591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05360" cy="568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3920" y="6095880"/>
            <a:ext cx="82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ligencia a Enner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4240" y="601992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,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: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 Monet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Impression,%20Sunrise%20(Monet)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771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15480" y="5638680"/>
            <a:ext cx="56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sla de Lacroix con efecto de nieb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Arte de Filadelf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9" name="lacroix_island_rouen_in_fog-400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487px-Claude_Monet_024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638600" cy="570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49520" y="4800600"/>
            <a:ext cx="3896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s au jard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6 por 208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5400" y="4876920"/>
            <a:ext cx="34772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 ai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(vers la droite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x 88 cm; Musée d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apc" descr=""/>
          <p:cNvPicPr/>
          <p:nvPr/>
        </p:nvPicPr>
        <p:blipFill>
          <a:blip r:embed="rId1"/>
          <a:stretch/>
        </p:blipFill>
        <p:spPr>
          <a:xfrm>
            <a:off x="4419720" y="228600"/>
            <a:ext cx="4273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mp_14b05e04ae5c406e879cd17e7268adb3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4121280" cy="6248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27640" y="4572000"/>
            <a:ext cx="325296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-air 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 à l'ombrel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urnée vers la gauc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ée d'Orsay, Pari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onet.portail-temps-gris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00824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06840" y="5257800"/>
            <a:ext cx="282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temps gri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pcaa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28760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6720" y="5105520"/>
            <a:ext cx="310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Rouen, Le Portai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u de face, hamonie brun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E0000051779_3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384800" cy="6381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2680" y="5334120"/>
            <a:ext cx="288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soleil matina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h_monet_rouen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98628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97600" y="4952880"/>
            <a:ext cx="379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e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lein soleil, harmonie bleue et 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2:55:23Z</dcterms:created>
  <dc:creator>Victor Diaz</dc:creator>
  <dc:description/>
  <dc:language>en-US</dc:language>
  <cp:lastModifiedBy>Victor Diaz</cp:lastModifiedBy>
  <dcterms:modified xsi:type="dcterms:W3CDTF">2008-12-26T02:35:16Z</dcterms:modified>
  <cp:revision>25</cp:revision>
  <dc:subject/>
  <dc:title>Impresionismo y postimpresionismo</dc:title>
</cp:coreProperties>
</file>