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2075-7FA6-46A5-AB9F-AF12550D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FD11-2226-4892-9A5C-C388A258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FF05-D1A4-4C69-9B95-67FDDEF5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FB84-9CFE-4D39-8970-AA3A8722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EED-5646-46A4-BA88-174F441E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15F-6741-40A2-B6DF-1C10679C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9E50-6033-44D3-B9B1-94EF380C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082-66EE-4424-BD69-03D8E482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C9BB-3ADB-4869-8ED5-DDB51578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5AD4-0358-42A9-8E34-1CB6FB56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CA5-23E8-4692-8FCF-6D1F1330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E654-2A33-4F9F-B570-4004676C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A407-7E14-4DB4-9B2C-7BCE1F00A12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íspera de la Vanguard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0000051780_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08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97960" y="5029200"/>
            <a:ext cx="388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ffet du mat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Claude_Monet_038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292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1400" y="556272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nymphé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0 - 26 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19 por 602 c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rtanos%20degas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502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41320" y="5943600"/>
            <a:ext cx="56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jercicios de jóvenes esparta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dgar_Germain_Hilaire_Degas_02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602320" cy="624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49480" y="5181480"/>
            <a:ext cx="21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Germai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ilaire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lase de danz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asedanzacompos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894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bsinthe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55148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760" y="4724280"/>
            <a:ext cx="24055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'Absint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2 por 68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douard_Manet_04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6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5080" y="5334120"/>
            <a:ext cx="3044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etrato de Berthe Moriso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erthe_Morisot_00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564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160" y="6019920"/>
            <a:ext cx="85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he Moriso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ugène Manet en la isla de Wig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5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, Parí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oir21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4937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8280" y="5715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erre-Auguste Renoi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 au Moulin de la Gale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por 175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wm07591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0536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920" y="609588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ligencia a Enner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4240" y="601992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,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: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 Monet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Impression,%20Sunrise%20(Monet)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771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15480" y="5638680"/>
            <a:ext cx="56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sla de Lacroix con efecto de nieb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Arte de Filadelf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9" name="lacroix_island_rouen_in_fog-400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87px-Claude_Monet_02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38600" cy="570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9520" y="4800600"/>
            <a:ext cx="3896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s au jard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6 por 208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5400" y="4876920"/>
            <a:ext cx="3477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 a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(vers la droite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x 88 cm; Musée d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apc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273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mp_14b05e04ae5c406e879cd17e7268adb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121280" cy="624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27640" y="4572000"/>
            <a:ext cx="32529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-air 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 à l'ombrel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urnée vers la gauc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ée d'Orsay, Pari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onet.portail-temps-gri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00824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06840" y="5257800"/>
            <a:ext cx="28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temps gri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pcaa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2876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6720" y="5105520"/>
            <a:ext cx="31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Rouen, Le Portai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u de face, hamonie brun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E0000051779_3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3848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2680" y="533412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soleil matina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h_monet_rouen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97600" y="49528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e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lein soleil, harmonie bleue et 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2:55:23Z</dcterms:created>
  <dc:creator>Victor Diaz</dc:creator>
  <dc:description/>
  <dc:language>en-US</dc:language>
  <cp:lastModifiedBy>Victor Diaz</cp:lastModifiedBy>
  <dcterms:modified xsi:type="dcterms:W3CDTF">2008-12-26T02:35:16Z</dcterms:modified>
  <cp:revision>25</cp:revision>
  <dc:subject/>
  <dc:title>Impresionismo y postimpresionismo</dc:title>
</cp:coreProperties>
</file>