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84D1-95B4-4B10-AFC0-6B5F7B16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4BDD-E7B6-46DE-B12B-950CEECF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3FEB-FE77-4D45-958B-76B23A8D9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7651-973C-4369-BCBE-E54ED3A3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C966-A384-490A-86F5-E94C8C09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68B5-A191-47D2-9DAE-0FEC78F1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8312-5AA0-453F-A482-CE79E1A6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D5DC-356D-4CC5-BF45-DEF1802B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49B2-624C-46ED-81BF-C19AD1E9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898B-79F8-4378-B4FF-22B9AB91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953A-3A9D-49E8-9434-BEBAEA8D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2D63-0C65-4D83-A14C-43CA16CD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6ED1-B151-4070-9B8B-0B4567B567E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íspera de la Vanguardia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E0000051780_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408560" cy="6324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97960" y="5029200"/>
            <a:ext cx="388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 et la tour Saint-Romai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ffet du mat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800px-Claude_Monet_038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534520" cy="2922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01400" y="5562720"/>
            <a:ext cx="46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nymphé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20 - 26 ¿?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19 por 602 c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espartanos%20degas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162920" cy="5027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41320" y="5943600"/>
            <a:ext cx="564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jercicios de jóvenes espartan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Edgar_Germain_Hilaire_Degas_021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602320" cy="6248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549480" y="5181480"/>
            <a:ext cx="217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Germain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ilaire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lase de danz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lasedanzacompos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4894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bsinthe" descr=""/>
          <p:cNvPicPr/>
          <p:nvPr/>
        </p:nvPicPr>
        <p:blipFill>
          <a:blip r:embed="rId1"/>
          <a:stretch/>
        </p:blipFill>
        <p:spPr>
          <a:xfrm>
            <a:off x="4038480" y="304920"/>
            <a:ext cx="4551480" cy="6324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14760" y="4724280"/>
            <a:ext cx="24055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'Absinth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2 por 68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Edouard_Manet_040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464000" cy="624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635080" y="5334120"/>
            <a:ext cx="30445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etrato de Berthe Moriso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Berthe_Morisot_002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629400" cy="5641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90160" y="6019920"/>
            <a:ext cx="85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Berthe Moriso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ugène Manet en la isla de Wigh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5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Marmottan, Parí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enoir21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705720" cy="4937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358280" y="5715000"/>
            <a:ext cx="665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ierre-Auguste Renoi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 au Moulin de la Galet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1 por 175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mwm07591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05360" cy="568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73920" y="6095880"/>
            <a:ext cx="82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mille Pissarr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ligencia a Enner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4240" y="6019920"/>
            <a:ext cx="81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,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: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Marmottan Monet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" name="Impression,%20Sunrise%20(Monet)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47712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815480" y="5638680"/>
            <a:ext cx="566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issarr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sla de Lacroix con efecto de nieb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; Museo de Arte de Filadelf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9" name="lacroix_island_rouen_in_fog-400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55308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487px-Claude_Monet_024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638600" cy="5705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49520" y="4800600"/>
            <a:ext cx="38962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emmes au jard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6 por 208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5400" y="4876920"/>
            <a:ext cx="34772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sai de figure en plein ai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(vers la droite)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1 x 88 cm; Musée d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8" name="apc" descr=""/>
          <p:cNvPicPr/>
          <p:nvPr/>
        </p:nvPicPr>
        <p:blipFill>
          <a:blip r:embed="rId1"/>
          <a:stretch/>
        </p:blipFill>
        <p:spPr>
          <a:xfrm>
            <a:off x="4419720" y="228600"/>
            <a:ext cx="4273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mp_14b05e04ae5c406e879cd17e7268adb3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4121280" cy="6248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27640" y="4572000"/>
            <a:ext cx="325296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sai de figure en plein-air 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emme à l'ombrell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urnée vers la gauch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ée d'Orsay, Pari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monet.portail-temps-gris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00824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06840" y="5257800"/>
            <a:ext cx="282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, temps gri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pcaa" descr=""/>
          <p:cNvPicPr/>
          <p:nvPr/>
        </p:nvPicPr>
        <p:blipFill>
          <a:blip r:embed="rId1"/>
          <a:stretch/>
        </p:blipFill>
        <p:spPr>
          <a:xfrm>
            <a:off x="4191120" y="228600"/>
            <a:ext cx="4287600" cy="6400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6720" y="5105520"/>
            <a:ext cx="310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Rouen, Le Portai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u de face, hamonie brun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E0000051779_3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384800" cy="6381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32680" y="5334120"/>
            <a:ext cx="288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, soleil matinal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h_monet_rouen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986280" cy="5943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97600" y="4952880"/>
            <a:ext cx="379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edrale de Roue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 et la tour Saint-Romai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lein soleil, harmonie bleue et o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2:55:23Z</dcterms:created>
  <dc:creator>Victor Diaz</dc:creator>
  <dc:description/>
  <dc:language>en-US</dc:language>
  <cp:lastModifiedBy>Victor Diaz</cp:lastModifiedBy>
  <dcterms:modified xsi:type="dcterms:W3CDTF">2008-12-26T02:35:16Z</dcterms:modified>
  <cp:revision>25</cp:revision>
  <dc:subject/>
  <dc:title>Impresionismo y postimpresionismo</dc:title>
</cp:coreProperties>
</file>