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1F2A-E35E-4D98-B679-D50A4CEA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047-7385-4ED7-92BB-1F09F498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6A9-90DF-4613-973D-057E7991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3B82-4DE4-4A9B-BF80-F02F5A6E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840F-3534-4060-8D2F-1EC1BA5E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7C45-D3AF-4608-8E39-EB861BD1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6C3-457C-4E30-9D78-6E8DB43C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5D27-9544-415D-829E-CDE12731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221-D1BE-4F62-A3F3-53FB1279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6A42-D2DC-48E5-BB9E-6FDC9717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8B2-A791-4F74-A305-4B7C434E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55C-D791-4D3B-A94A-D19F2F9D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6F9F-ADC2-4867-AAF0-35089EF02BC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Cézanne: romanticismo, impresionismo, postimpresionismo, constructivismo y el inicio de las vanguardi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80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arque-dante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1613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19800" y="5715000"/>
            <a:ext cx="57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mino a Pontois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8 x 7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aul-Cezanne-Blue-Vase-16203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4871880" cy="594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2280" y="495288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vaso azu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5-8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1 x 5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ezannejugadores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55308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87600" y="609588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ugadores de car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0-9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7 x 57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ezanne.pommes-oranges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629400" cy="5210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2560" y="6019920"/>
            <a:ext cx="82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degón con manzanas y naranj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5-1900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4 x 9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zanne_appsorgs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verano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080" y="5867280"/>
            <a:ext cx="86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taña Santa Victoria desde Les Lauv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2-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3,5 x 8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aul_Cézanne_047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54680" cy="571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5240" y="60958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s bañis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8-190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asso_avignon%5B1%5D_jpg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95040" y="601992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ezanne14-10CYRETEQ00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6782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0480" y="4648320"/>
            <a:ext cx="26402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sueño del po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beso de la mus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59-60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2 x 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ill%20life%20with%20bread%20and%20eggs%20by%20Cezanne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556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2640" y="609588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turaleza muerta: pan y huev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9 x 76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e_orgie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373068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5960" y="502920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rgí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x 8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ezanne10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68008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3480" y="4495680"/>
            <a:ext cx="2718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9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6 x 5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Cezanne,_A_Modern_Olympia,_c._1873-187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5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65000" y="609588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e%20Dejeuner%20sur%20L'herbe__Paul%20Cezanne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51840" cy="468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84480" y="586728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0-7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0 x 8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aul_Cézanne_-_Le_Déjeuner_sur_l'herbe_(Orangerie)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514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84480" y="59436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-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´8 x 27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-14024-15323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760" y="6095880"/>
            <a:ext cx="75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 (Según Delacroix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18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 x 3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1:56:43Z</dcterms:created>
  <dc:creator>Victor Diaz</dc:creator>
  <dc:description/>
  <dc:language>en-US</dc:language>
  <cp:lastModifiedBy>Victor Diaz</cp:lastModifiedBy>
  <dcterms:modified xsi:type="dcterms:W3CDTF">2009-01-03T03:48:07Z</dcterms:modified>
  <cp:revision>24</cp:revision>
  <dc:subject/>
  <dc:title>Cézanne: constructivismo y el inicio de las vanguardias.</dc:title>
</cp:coreProperties>
</file>