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9A5-13E1-436C-A2A8-135FF9B2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1D9-31CC-4D4F-AB77-EB7F2212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1FE-01B8-4A2C-BEC5-6EC403AC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F7E-7C64-43A5-B382-85E70E0A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80A-0ED9-4E36-9A40-D5091CF3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C74-5D41-496B-B263-D7D352C3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E04-4667-42C9-BA55-1B7C58E7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7B7-178F-48E1-AD24-E4FB0252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543-8681-4AEB-8472-F4C81ADB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684-AC45-4CAB-AD9C-BD960A05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57F-EFB6-41C0-A561-6566B79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7CB-91D8-426A-92FD-E35DEC5A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FCC4-3265-4E35-AD57-BD9B6F8774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47628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Nucleós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46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binación azúcar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084640"/>
            <a:ext cx="1800000" cy="102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zúcar en este caso e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508640"/>
            <a:ext cx="16574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lace ß-N glicos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47628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uplicación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700280"/>
            <a:ext cx="5472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La duplicación ocurre en ambas hebras en direcciones opue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6308640"/>
            <a:ext cx="97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280" y="98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’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3120" y="2819520"/>
            <a:ext cx="853596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85264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ob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8526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" y="1000080"/>
            <a:ext cx="761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ocurra síntesis de ADN la doble hebra se debe desenr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120" y="709560"/>
            <a:ext cx="8535960" cy="543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341360"/>
            <a:ext cx="165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765000"/>
            <a:ext cx="2663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5589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curre en est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2000" y="4797000"/>
            <a:ext cx="865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3800" y="716040"/>
            <a:ext cx="5756400" cy="609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6360" y="5950080"/>
            <a:ext cx="3960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6021360"/>
            <a:ext cx="23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írculo rela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0" y="439560"/>
            <a:ext cx="4489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720" y="1360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NA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18160" y="6381720"/>
            <a:ext cx="2519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720" y="1003320"/>
            <a:ext cx="5540040" cy="5594400"/>
            <a:chOff x="3276720" y="1003320"/>
            <a:chExt cx="5540040" cy="5594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420000" y="1003320"/>
              <a:ext cx="539676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5764680"/>
              <a:ext cx="4780800" cy="83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9280" y="1268280"/>
            <a:ext cx="47516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º. Fase de inici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enrollamiento del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04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íntesis del cromosom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empre comienza en el mismo punto, llamado siti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i 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una región de 245 pares de b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94120" y="100008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3840" y="981000"/>
            <a:ext cx="18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21300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78936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43880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2422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2133720"/>
            <a:ext cx="6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8560" y="177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160" y="1073160"/>
            <a:ext cx="2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uplic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direccional (más comú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9800" y="836640"/>
            <a:ext cx="63057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participan en el desenrollamiento d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440" y="1647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LIC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220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se mueven a lo largo del ADN y separan las 2 hebras, usando energía del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33960" cy="246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71000" y="2274840"/>
            <a:ext cx="170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elicasa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2240" y="4559400"/>
            <a:ext cx="225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440" y="48751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POISOMER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Ej: ADN Gir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751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disminuyen el estrés topológico generado por la separación de las hebras (corte reversible de un enlace fosfodié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" y="57974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INAS DE UNIÓN A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S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7320" y="5811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e unen a las hebras simples para estabil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60" y="3916440"/>
            <a:ext cx="46918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querimientos de la fase de elon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43560"/>
            <a:ext cx="74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de de ADN doble h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zo corto de ARN llamado partidor o 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sintetizado por la enzim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RIMA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10-60 nt en procariotas, en eucariotas es de 1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ismas enzimas y proteínas de la fase de 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623088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IMOSO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mplejo formado entre la primasa y las proteínas auxilia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" y="3916440"/>
            <a:ext cx="2745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 de sínt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280" y="474516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l partidor por la 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la hebra hija desde el extremo 3’ del par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 forma de sintetizarla depende de la hebra, si es continua o discontin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84720" y="549360"/>
            <a:ext cx="25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ido si el –OH en el azúcar de un nucleósido es convertido en un ester 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24280"/>
            <a:ext cx="3600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es  nombrado de acuerdo al nombre de su azúcar y de su base y también el numero de fosfatos es ind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284640"/>
            <a:ext cx="3744720" cy="116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oxiadenosina   mono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6308640"/>
            <a:ext cx="755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2680" y="3916440"/>
            <a:ext cx="3699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síntesis es semi-dis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1960" y="42498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iji Okazaki, 196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9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ras una hebra es sintetizada en forma continua (hebra adelantada), la otra (hebra retrasada) se sintetiza por fragmentos*, en forma dis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60930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Estos fragmentos son: Fragmentos de Okaz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3120" y="1501920"/>
            <a:ext cx="8535960" cy="38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1773360"/>
            <a:ext cx="136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997360"/>
            <a:ext cx="273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agmentos de Ok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41300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4508640"/>
            <a:ext cx="208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229000" cy="215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2133720"/>
            <a:ext cx="25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92280"/>
            <a:ext cx="208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ec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3141720"/>
            <a:ext cx="3059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DN sintetizado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i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3645000"/>
            <a:ext cx="3472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duplican 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3960" y="42400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II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zima responsable de la duplic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471816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  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remover el partidor de ARN y sustituirlo por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981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79640" y="1341360"/>
            <a:ext cx="576360" cy="574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1480" y="5661000"/>
            <a:ext cx="7904160" cy="733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as poseen actividad exonucleasa correctora 3’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’ (proofreading) que permite aumentar la fidelidad de la duplicación del ADN, removiendo los nucleótidos que fueron puestos errad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tan mut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736560"/>
            <a:ext cx="9144000" cy="6121440"/>
            <a:chOff x="0" y="736560"/>
            <a:chExt cx="9144000" cy="61214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60240" y="736560"/>
              <a:ext cx="782352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9892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124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8098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35772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36450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6800" y="419256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4360" y="508464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-unidad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que le otorga la procesividad a la ADN Pol III (adición de nucleó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NA pol tipo III posee más de una sub-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4280" y="1041480"/>
            <a:ext cx="7975440" cy="4775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244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35000" y="379440"/>
            <a:ext cx="7072200" cy="6097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6160" y="639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NA pol tipo III, 10 sub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720" y="137160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4365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de ADN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22936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208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de un desoxiribonucleosido 5’- tri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213000"/>
            <a:ext cx="11509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ecimiento de ADN (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2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58880" y="254160"/>
            <a:ext cx="4026240" cy="634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80000" y="1268280"/>
            <a:ext cx="100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ebra ADN mol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00" y="712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r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3120" y="711360"/>
            <a:ext cx="6197760" cy="5435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00720" y="692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3120" y="343080"/>
            <a:ext cx="8535960" cy="6170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11280" y="692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li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13000"/>
            <a:ext cx="13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5589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59500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12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ínas que se unen a hebra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852640"/>
            <a:ext cx="1150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500280"/>
            <a:ext cx="194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polimerasa III - holoen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437000"/>
            <a:ext cx="180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  polim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373720"/>
            <a:ext cx="187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li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720" y="838080"/>
            <a:ext cx="80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379440"/>
            <a:ext cx="3657600" cy="609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6920" y="2492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522936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hebras son generadas por un único dímero de ADN polimeras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149720"/>
            <a:ext cx="532764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7fd03"/>
                </a:solidFill>
                <a:latin typeface="Arial"/>
              </a:rPr>
              <a:t>Los cromosomas consisten de ADN y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21448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2148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7760" y="1125360"/>
            <a:ext cx="3317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OMOSOMA EUCARI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32480" y="189000"/>
            <a:ext cx="2711520" cy="658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6320" y="47628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440" y="1052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pasos ex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160" y="1647720"/>
            <a:ext cx="30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ociación de las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144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486900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7301"/>
                </a:moveTo>
                <a:lnTo>
                  <a:pt x="5753" y="7301"/>
                </a:lnTo>
                <a:lnTo>
                  <a:pt x="6136" y="7667"/>
                </a:lnTo>
                <a:lnTo>
                  <a:pt x="15345" y="7667"/>
                </a:lnTo>
                <a:lnTo>
                  <a:pt x="15902" y="8224"/>
                </a:lnTo>
                <a:lnTo>
                  <a:pt x="15902" y="8772"/>
                </a:lnTo>
                <a:lnTo>
                  <a:pt x="17747" y="8772"/>
                </a:lnTo>
                <a:lnTo>
                  <a:pt x="18113" y="8224"/>
                </a:lnTo>
                <a:lnTo>
                  <a:pt x="18853" y="8224"/>
                </a:lnTo>
                <a:lnTo>
                  <a:pt x="18853" y="13376"/>
                </a:lnTo>
                <a:lnTo>
                  <a:pt x="18113" y="13376"/>
                </a:lnTo>
                <a:lnTo>
                  <a:pt x="17747" y="12828"/>
                </a:lnTo>
                <a:lnTo>
                  <a:pt x="15902" y="12828"/>
                </a:lnTo>
                <a:lnTo>
                  <a:pt x="15902" y="14107"/>
                </a:lnTo>
                <a:lnTo>
                  <a:pt x="6319" y="14107"/>
                </a:lnTo>
                <a:lnTo>
                  <a:pt x="6319" y="9877"/>
                </a:lnTo>
                <a:lnTo>
                  <a:pt x="6136" y="9877"/>
                </a:lnTo>
                <a:lnTo>
                  <a:pt x="5753" y="10243"/>
                </a:lnTo>
                <a:lnTo>
                  <a:pt x="484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735200"/>
            <a:ext cx="40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imilar al de procari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3760" y="2238480"/>
            <a:ext cx="47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enzimas ADN 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5200" y="2743200"/>
            <a:ext cx="46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horquillas de 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3040" y="3246480"/>
            <a:ext cx="57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gmentos de Okasaki más pequeños (100 a 20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0560" y="425592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locidad de duplicac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3080" y="17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8960" y="2098800"/>
            <a:ext cx="62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alf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tiza los fragmentos de Ok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080" y="259092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delt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cargada de realizar la síntesis del ADN, hebra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gam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intetiza ADN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be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ara el ADN da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ones en 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rren alteraciones del ADN original, que cambian el genoti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tan simple como un nucleótido equivo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cambio puede constituir un daño o un bene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causado por factores químicos o ambientales -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mutá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Agentes Mutagé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04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número de factores son sospechosos de causar mutaciones en el g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z UV (forma dímeros de Ti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cerígenos (ejemplo: colorante bromuro de eti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ón y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élulas contienen muchos mecanismos de repa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Luz UV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luz de alta ener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usa la formación de dímeros de ti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bajos niveles puede ser r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ltos niveles puede causar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3640" y="40464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Fotod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916280"/>
            <a:ext cx="144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z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5084640"/>
            <a:ext cx="19080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ímeros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907920"/>
            <a:ext cx="3240360" cy="54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xposición a la luz UV puede causar la unión covalente de timinas adya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resulta en la distorsión de la molécula de ADN y ruptura de los enlaces de hidrógeno con la ade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9960" y="711360"/>
            <a:ext cx="3124080" cy="54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6120" y="3284640"/>
            <a:ext cx="29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=3,6 nm o 10 pares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vu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9920" y="189000"/>
            <a:ext cx="664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elo de Watson y Crick para la Estructura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00" y="46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Form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205080" y="379440"/>
            <a:ext cx="4103640" cy="6097680"/>
            <a:chOff x="3205080" y="379440"/>
            <a:chExt cx="4103640" cy="60976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5080" y="379440"/>
              <a:ext cx="4071960" cy="60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92360" y="1204920"/>
              <a:ext cx="2016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orte de un fragmento de 12 nucleótidos por una escinucleasa uvrABC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1080" y="2637000"/>
              <a:ext cx="1727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 ADN por ADN polimeras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2360" y="5229360"/>
              <a:ext cx="1366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Unión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DN lig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159876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cte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 de reparación por escisión de nucleó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elimina y se reemplaza un fragmento en torno a la zona dañ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ía de los daños en el ADN son reparados por este mec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200" y="398520"/>
            <a:ext cx="55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7280" y="39852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7531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transcripción re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un transcrito 1º o pre-mRNA que luego se edita – RNA mensajero ma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curre cada vez que la célula se divide (Ocurre en la Interfase Celular, en la fa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Hay Mecanismos simpl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paración inicial de las dos he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 de una nueva hebra, obteniendo una NUEVA MOLÉCULA DE AD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proceso requiere la participación de vari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plicación Conserv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1197000"/>
            <a:ext cx="3600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ble hé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279600"/>
            <a:ext cx="4103640" cy="29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léculas de ADN después de un ciclo de duplicación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replic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33360"/>
            <a:ext cx="66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uplicación semiconserv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268280"/>
            <a:ext cx="316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 de 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429000"/>
            <a:ext cx="3816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s de ADN después de un ciclo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00" y="81108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selson y Stahl, 1958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8118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odelo semi-conservativ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1 hebra de cada molécula de doble ADN se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erv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nueva molécula hija de AD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1:11:57Z</dcterms:created>
  <dc:creator>Ana María</dc:creator>
  <dc:description/>
  <dc:language>en-US</dc:language>
  <cp:lastModifiedBy>PARIS</cp:lastModifiedBy>
  <dcterms:modified xsi:type="dcterms:W3CDTF">2010-04-20T05:01:48Z</dcterms:modified>
  <cp:revision>9</cp:revision>
  <dc:subject/>
  <dc:title>Diapositiva 1</dc:title>
</cp:coreProperties>
</file>