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9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6A0-80A7-4858-B7FB-0569EA6D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DC6-639A-40FE-B708-A72043F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1E1-6559-453D-9AEC-07D0A365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BDD-BAFE-4809-B7BA-D785FBA3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130-396D-4793-9456-D9F1D052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FC6-7B4A-4D94-BF3F-1AB9C5A3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DF3-F21E-430E-BC4C-250E06E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62C-7AF4-4C1C-B738-EE38D08D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E16-E3CB-43C0-8F17-980375D9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EAD-C037-4CB9-BFC6-CEEA4241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979-37CE-4DD3-92AF-D6D3479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E52-AC80-46CE-958C-C96B7DD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1E7-F046-4455-A8CC-E47099A50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76520" y="2743200"/>
          <a:ext cx="160020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16002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16360" y="2349360"/>
            <a:ext cx="2567160" cy="2190600"/>
            <a:chOff x="4716360" y="2349360"/>
            <a:chExt cx="2567160" cy="2190600"/>
          </a:xfrm>
        </p:grpSpPr>
        <p:graphicFrame>
          <p:nvGraphicFramePr>
            <p:cNvPr id="44" name=""/>
            <p:cNvGraphicFramePr/>
            <p:nvPr/>
          </p:nvGraphicFramePr>
          <p:xfrm>
            <a:off x="5173560" y="2349360"/>
            <a:ext cx="210996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3560" y="2349360"/>
                      <a:ext cx="210996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471636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68640" y="30924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21280" y="30160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49880" y="354960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83040" y="362556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35268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7480" y="444168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¿Es tan simple re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75440" y="6381720"/>
            <a:ext cx="53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dified from 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1052640"/>
            <a:ext cx="4876920" cy="4302000"/>
            <a:chOff x="0" y="1052640"/>
            <a:chExt cx="4876920" cy="4302000"/>
          </a:xfrm>
        </p:grpSpPr>
        <p:graphicFrame>
          <p:nvGraphicFramePr>
            <p:cNvPr id="82" name=""/>
            <p:cNvGraphicFramePr/>
            <p:nvPr/>
          </p:nvGraphicFramePr>
          <p:xfrm>
            <a:off x="0" y="1692360"/>
            <a:ext cx="4876920" cy="36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92360"/>
                      <a:ext cx="4876920" cy="36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1588680" y="105264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Comic Sans MS"/>
                </a:rPr>
                <a:t>Pregun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254560" y="1052640"/>
            <a:ext cx="3278160" cy="3816360"/>
            <a:chOff x="5254560" y="1052640"/>
            <a:chExt cx="3278160" cy="3816360"/>
          </a:xfrm>
        </p:grpSpPr>
        <p:graphicFrame>
          <p:nvGraphicFramePr>
            <p:cNvPr id="86" name=""/>
            <p:cNvGraphicFramePr/>
            <p:nvPr/>
          </p:nvGraphicFramePr>
          <p:xfrm>
            <a:off x="5254560" y="2085840"/>
            <a:ext cx="3278160" cy="278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4560" y="2085840"/>
                      <a:ext cx="3278160" cy="278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6217920" y="1052640"/>
              <a:ext cx="12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Decis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708360" y="404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unto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228600"/>
            <a:ext cx="342900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5640" y="17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niciación de la replicación del DNA durante la fa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87280" y="1600200"/>
          <a:ext cx="684072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00200"/>
                    <a:ext cx="6840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620640"/>
            <a:ext cx="63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Palatino Linotype"/>
              </a:rPr>
              <a:t>Inhibidores de ciclinas: proteínas que frenan el ciclo en los check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5040360" cy="552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12000" y="1484280"/>
            <a:ext cx="2808000" cy="1008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El DNA dañado detiene el ciclo celular en 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2840" y="477720"/>
            <a:ext cx="67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xisten dos tipos de inhibidores de kina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pendientes de ciclinas (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7454" r="50003" b="4864"/>
          <a:stretch/>
        </p:blipFill>
        <p:spPr>
          <a:xfrm>
            <a:off x="849240" y="1557360"/>
            <a:ext cx="3521160" cy="410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51961" t="16411" r="0" b="9049"/>
          <a:stretch/>
        </p:blipFill>
        <p:spPr>
          <a:xfrm>
            <a:off x="5221440" y="1484280"/>
            <a:ext cx="358776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221000"/>
            <a:ext cx="576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44000" y="1197000"/>
            <a:ext cx="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466120" y="2077920"/>
            <a:ext cx="419760" cy="3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55280" y="549360"/>
            <a:ext cx="7777440" cy="6310800"/>
            <a:chOff x="755280" y="549360"/>
            <a:chExt cx="7777440" cy="6310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0" t="21646" r="0" b="0"/>
            <a:stretch/>
          </p:blipFill>
          <p:spPr>
            <a:xfrm>
              <a:off x="900000" y="1311120"/>
              <a:ext cx="7524720" cy="44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>
              <a:off x="755280" y="5877000"/>
              <a:ext cx="5977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55640" y="1197000"/>
              <a:ext cx="0" cy="46800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640" y="1197000"/>
              <a:ext cx="1368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7920" y="6021360"/>
              <a:ext cx="26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9999"/>
                  </a:solidFill>
                  <a:latin typeface="Comic Sans MS"/>
                </a:rPr>
                <a:t>Regulación pos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0000" y="5877000"/>
              <a:ext cx="1512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532720" y="1197000"/>
              <a:ext cx="0" cy="468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0800" y="1197000"/>
              <a:ext cx="5641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8440" y="549360"/>
              <a:ext cx="27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Comic Sans MS"/>
                </a:rPr>
                <a:t>Regulación neg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9840" y="6553080"/>
              <a:ext cx="25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Cortesía de Patricia Blan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6720" y="4653000"/>
              <a:ext cx="216000" cy="2160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076720" y="4653000"/>
              <a:ext cx="216000" cy="2160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7720" y="4759200"/>
              <a:ext cx="360360" cy="360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42960" y="177480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omic Sans MS"/>
              </a:rPr>
              <a:t>(citoki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68360" y="189000"/>
          <a:ext cx="691344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691344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56000" y="4076640"/>
          <a:ext cx="525600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076640"/>
                    <a:ext cx="5256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95800" y="658332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7200" y="-4932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Rb: otro importante regulador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1808" t="18497" r="9844" b="0"/>
          <a:stretch/>
        </p:blipFill>
        <p:spPr>
          <a:xfrm>
            <a:off x="1619280" y="1125360"/>
            <a:ext cx="5905440" cy="460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09840" y="655308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rtesía de Patricia Bla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Rb siempre está fosforil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Está más inactiva como secuestradora (de E2F) cuando está moderadamente fosfori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7056360" cy="3535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2920" y="5445000"/>
            <a:ext cx="727416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Mecanismo que controla la iniciación de la fase S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6360" y="404640"/>
            <a:ext cx="36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321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941720"/>
            <a:ext cx="792000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El ciclo celular dirige la transición del estado de quiescencia (G0) al estado de proliferación, asegurando la fidelidad del transcripto gené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6480" y="378000"/>
            <a:ext cx="9071640" cy="5854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ciclo celular es un proceso ordenado donde una célula se divide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rmar dos células hijas idén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e proceso no es aislado ni indiferente al resto de los procesos celu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contrario, se activa como consecuencia del balance de señal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obtener una ordenada transición por el ciclo celular, la célula evolucion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que cada paso en el proceso dependa de la eficiente termina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procesos que controlan el ciclo celular compren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)Regulación transcrip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b)Regulación post-transcripcional que incluye modificaciones proteicas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osforilación y regulación de la velocidad de proteó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o todas las proteínas involucradas en el ciclo celular están regulad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gual ma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1240" y="944640"/>
            <a:ext cx="8381520" cy="497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urante un ciclo celular los reguladores negativos del cic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ticipan en la decisión de entrada en fase S son los inhib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quinasas dependientes de ciclinas (CKI) y 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inhiben la actividad de CD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os CKI son inestables como las cicl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b inhibe la actividad transcripcional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 fosforilación de Rb produce la liberación de E2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el balance es positivo para actividad de CDKs y para 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 E2F, la célula entra en fase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5120" y="260280"/>
            <a:ext cx="8678880" cy="722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6ea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su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tá mutada en 50% de los casos de cáncer (germinal y 4somáticame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53 es un factor transcripcional que puede inducir arresto del ciclo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 muerte celular programada. Mediante esta capacidad transcripcional p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ctúa como guardián del genoma (evita la inestabilidad genó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o de los blancos transcripcionales de p53 es MDM2. Esta proteína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3 ligasa de ubiquitina para la degradacion de p53 en el proteosoma. Por lo tanto, un feedback negativo regula los niveles (y como consecuencia de ello, la actividad) de p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Otro blanco transcripcional de p53 es p21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lo que explica su capac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rrestar el ciclo celular en G1 (p21 y otros blancos transcripcionales de p53 contribuyen también al arresto en G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niveles de p53 aumentan como consecuencia de señales de daño al AD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473800" cy="4038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332000" y="476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Fases del Ciclo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7340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La longitud de G1 varía y depende de las condiciones externas y de señales extracelulares de otras cél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00000" y="476280"/>
          <a:ext cx="4638960" cy="55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46389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27520" y="6308640"/>
            <a:ext cx="421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Molecular biology of the cell, Alberts et al., 3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7960" y="28404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85560" y="500040"/>
            <a:ext cx="375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aracterísticas fundament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tamente Ord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inamente regu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0120" y="5410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508640"/>
            <a:ext cx="413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unciona un número fin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 v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una población celular en divis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pués: senescencia y apop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329440" cy="361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373720"/>
            <a:ext cx="7201080" cy="916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Experimento de fusión celular en células de mamífero. Los resultados demuestran la presencia de factores que dirigen el paso de G1 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54936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as cdks junto con proteínas reguladores llamadas ciclinas dirigen la célula a través del ciclo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2384280" cy="30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1700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in ciclinas las cdks están in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3500280"/>
            <a:ext cx="4321080" cy="10598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as ciclinas estan en un proceso constante de síntesis y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Palatino Linotype"/>
              </a:rPr>
              <a:t>Los niveles de Cdk </a:t>
            </a: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 son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608360" cy="511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867280" y="620640"/>
            <a:ext cx="237672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istema de control del cicl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85264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36520" y="2760840"/>
            <a:ext cx="38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las ciclinas se degradan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ya no se neces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 </a:t>
            </a: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en la etapa correspondi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cc"/>
                </a:solidFill>
                <a:latin typeface="Palatino Linotype"/>
              </a:rPr>
              <a:t>del cicl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620640"/>
            <a:ext cx="698508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Base estructural de la activación de Cd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79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3:50:12Z</dcterms:created>
  <dc:creator>PARIS</dc:creator>
  <dc:description/>
  <dc:language>en-US</dc:language>
  <cp:lastModifiedBy>PARIS</cp:lastModifiedBy>
  <dcterms:modified xsi:type="dcterms:W3CDTF">2010-04-12T11:22:31Z</dcterms:modified>
  <cp:revision>4</cp:revision>
  <dc:subject/>
  <dc:title>Diapositiva 1</dc:title>
</cp:coreProperties>
</file>