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jpeg" ContentType="image/jpeg"/>
  <Override PartName="/ppt/media/image27.wmf" ContentType="image/x-wmf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18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7C8B-00D7-418A-965F-36CC78DA3DF1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C7DE-133E-4C68-B7F5-90FE8CD84ED2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Rockwell"/>
              </a:rPr>
              <a:t>EXTENCIONES DEL</a:t>
            </a:r>
            <a:br>
              <a:rPr sz="3600"/>
            </a:br>
            <a:r>
              <a:rPr b="1" lang="es-ES_tradnl" sz="3600" spc="-1" strike="noStrike">
                <a:solidFill>
                  <a:srgbClr val="ff3300"/>
                </a:solidFill>
                <a:latin typeface="Rockwell"/>
              </a:rPr>
              <a:t>ANALISIS MENDELI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0481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352680"/>
            <a:ext cx="7772400" cy="205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Rockwell"/>
              </a:rPr>
              <a:t>CROMOSOMAS SEXUALES Y HERENCIA LIGADA AL SEX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Rockwell"/>
              </a:rPr>
              <a:t>RASGOS LIMITADOS AL SE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Rockwell"/>
              </a:rPr>
              <a:t>RASGOS INFLUENCIADOS POR EL SE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2670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502920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CRUZAMIENTO RECIPRO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Hembra ojos blancos y macho ojos ro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F1</a:t>
            </a: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100%</a:t>
            </a:r>
            <a:r>
              <a:rPr b="1" lang="es-ES_tradnl" sz="2000" spc="-1" strike="noStrike">
                <a:solidFill>
                  <a:srgbClr val="ff3300"/>
                </a:solidFill>
                <a:latin typeface="Rockwell"/>
              </a:rPr>
              <a:t>HEMBRAS OJOS ROJOS Y 100%</a:t>
            </a:r>
            <a:r>
              <a:rPr b="1" lang="es-ES_tradnl" sz="2000" spc="-1" strike="noStrike">
                <a:solidFill>
                  <a:srgbClr val="ff3300"/>
                </a:solidFill>
                <a:latin typeface="Rockwell"/>
              </a:rPr>
              <a:t>	</a:t>
            </a:r>
            <a:r>
              <a:rPr b="1" lang="es-ES_tradnl" sz="2000" spc="-1" strike="noStrike">
                <a:solidFill>
                  <a:srgbClr val="ff3300"/>
                </a:solidFill>
                <a:latin typeface="Rockwell"/>
              </a:rPr>
              <a:t>MACHOS OJOS BL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79874"/>
          <a:stretch/>
        </p:blipFill>
        <p:spPr>
          <a:xfrm>
            <a:off x="5157720" y="103320"/>
            <a:ext cx="3757680" cy="1344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86400" y="852480"/>
            <a:ext cx="3124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+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Y          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476760" y="1219320"/>
            <a:ext cx="106668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121932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715000" y="1295280"/>
            <a:ext cx="763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467480" y="13716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408640" y="2162160"/>
            <a:ext cx="2674080" cy="459720"/>
            <a:chOff x="5408640" y="2162160"/>
            <a:chExt cx="2674080" cy="459720"/>
          </a:xfrm>
        </p:grpSpPr>
        <p:sp>
          <p:nvSpPr>
            <p:cNvPr id="105" name=""/>
            <p:cNvSpPr/>
            <p:nvPr/>
          </p:nvSpPr>
          <p:spPr>
            <a:xfrm>
              <a:off x="5408640" y="2162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 Black"/>
                </a:rPr>
                <a:t>w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01200" y="2162160"/>
              <a:ext cx="49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17280" y="2162160"/>
              <a:ext cx="49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29920" y="2162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Blac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2209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722840" y="37339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15400" y="3733920"/>
            <a:ext cx="4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83960" y="3733920"/>
            <a:ext cx="4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75700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79680" y="3733920"/>
            <a:ext cx="9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56960" y="373392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+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81480" y="2590920"/>
            <a:ext cx="45720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790960" y="2590920"/>
            <a:ext cx="160020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2590920"/>
            <a:ext cx="15228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29040" y="259092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2590920"/>
            <a:ext cx="175248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2666880"/>
            <a:ext cx="220968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2590920"/>
            <a:ext cx="228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2666880"/>
            <a:ext cx="7621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365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 Black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3434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atron de herencia X-L es difer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ombres reciben su único X de la madre; los genes X-L se transmiten de madre a hijo var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2057400"/>
            <a:ext cx="8610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1º.</a:t>
            </a: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LOS GENES X-L PARTICIPAN EN LA FORMACIO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GAMETOS SIGUIENDO LOS PRINCIPIOS MENDELIAN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AL IGUAL QUE LOS GENES AUTOSO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2°.</a:t>
            </a: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CRUCES RECIPROCOS DAN DIFERENTES RESULTADOS EN LA PROPORCION FENOTIP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3º.</a:t>
            </a: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Rockwell"/>
              </a:rPr>
              <a:t>LA DIFERENCIA ENTRE X-L Y HERENCIA AUTOSÓMICA ES QUE UN SEXO PORTA 1 COPIA Y EL OTRO 2. AMBOS PADRES NO CONTRIBUYEN POR IGUAL. LAS PROPORCIONES FENOTÍPICAS SON DIFERENTES ENTRE LOS SEX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Rockwell"/>
              </a:rPr>
              <a:t>HERENCIA LIGADA AL SEX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07040" cy="340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137440" cy="4941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324480" y="1295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1881360"/>
            <a:ext cx="205740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HERENCIA X-L RECE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049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28600"/>
            <a:ext cx="891540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FECTAD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SÓL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HOM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FECTADOS  NACEN DE PADRES SANOS; MADRE PORTADORA ASINTOMÁTICA, PUED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NER PARIENTES HOMBRES AFEC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 EXISTE TRANSMISIÓN DE PADRE A HIJO VAR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Verdana"/>
              </a:rPr>
              <a:t>CRITERIOS QUE DETERMINAN HERENCIA RECESIVA X-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584360"/>
            <a:ext cx="80010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1. INCIDENCIA MAS ALTA EN HOMBRES QUE EN MUJ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2. EL GEN RESPONSABLE ES TRANSMITIDO DESDE UN HOMBRE AFECTADO A TRAVES DE TODAS SUS HIJAS, DE ELLAS EL 50% DE SUS HIJOS VARONES LO HERE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3. EL GEN NUNCA ES TRANSMITIDO DE PADRE A HIJO VA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4. LOS HOMBRES AFECTADOS SE RELACIONAN A MUJERES PORTADORAS EN UNA MISMA GENEALOG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5. MUJERES HETEROCIGOTAS SON NORMALMENTE SANAS, PUEDEN EXPRESAR LA CONDICION CON SEVERIDAD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5562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Rockwell"/>
              </a:rPr>
              <a:t>GENEALOGIA FAMILIA REAL EUROPEA HEMOFILIA A  FRECUENCIA 1:10.000 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Verdana"/>
              </a:rPr>
              <a:t>ENFERMEDADES L -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1752480"/>
            <a:ext cx="762012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HEMOFILIA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RECES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ALTONISMO (CEGUERA PARA COLOR)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RECES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STROFIA MUSCULAR DE DUCHENN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RECES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FICIENCIA DE LA GLUCOSA 6- FOSFATO DESHIDROGENASA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E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NEUROPATÍA Charcot-Marie-Tooth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OMIN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NEUROPATÍA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harcot-Marie-Tooth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RECESIVO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 SINDROME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DE LESCH-NYHAN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RECE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TINITIS PIGMENTOSA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E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NDODISPLASIA PUNCTATA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OMIN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Xq FRAGIL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E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HIPOFOSFATEMIA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OMINA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GAMGLOBULINEMIA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RECESIVO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629400" y="609480"/>
            <a:ext cx="2136600" cy="2156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3086280"/>
            <a:ext cx="2381400" cy="1562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819520" y="3467160"/>
            <a:ext cx="2381040" cy="1562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952880" y="3848040"/>
            <a:ext cx="2381400" cy="1562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609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746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Causas del SXF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9" descr="fragil1"/>
          <p:cNvPicPr/>
          <p:nvPr/>
        </p:nvPicPr>
        <p:blipFill>
          <a:blip r:embed="rId5"/>
          <a:stretch/>
        </p:blipFill>
        <p:spPr>
          <a:xfrm>
            <a:off x="838080" y="1143000"/>
            <a:ext cx="1863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5029200" cy="5879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920" y="10666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1523880"/>
            <a:ext cx="41148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ockwell"/>
              </a:rPr>
              <a:t>Mujeres pueden ser afectad</a:t>
            </a:r>
            <a:r>
              <a:rPr b="1" lang="es-CL" sz="2400" spc="-1" strike="noStrike">
                <a:solidFill>
                  <a:srgbClr val="000000"/>
                </a:solidFill>
                <a:latin typeface="Rockwell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Rockwell"/>
              </a:rPr>
              <a:t>s si su padre es afectado y su madre es portadora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 producto de la consanguinidad o de una afección frecuen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2286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HERENCIA X-L RECESIVA + CONSANGUI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3880" y="1905120"/>
            <a:ext cx="8447400" cy="500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0440" y="-76320"/>
            <a:ext cx="86835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fectados de ambos sexos, más mujeres que hom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enotipo mas severo en hom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a mujer afectada tiene 50% de riesgo de tener un hijo afectado (independiente del se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a un hombre afectado, todas sus hijas serán afectadas y todos sus hijos serán s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20960"/>
            <a:ext cx="34290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HERENCIA X-L DOMIN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381240" y="228600"/>
            <a:ext cx="41126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  <a:ea typeface="ＭＳ Ｐゴシック"/>
              </a:rPr>
              <a:t>Los cromosomas sex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762120" y="914400"/>
            <a:ext cx="36576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XY"/>
          <p:cNvPicPr/>
          <p:nvPr/>
        </p:nvPicPr>
        <p:blipFill>
          <a:blip r:embed="rId1"/>
          <a:stretch/>
        </p:blipFill>
        <p:spPr>
          <a:xfrm>
            <a:off x="1905120" y="1143000"/>
            <a:ext cx="5227560" cy="44784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"/>
          <p:cNvSpPr/>
          <p:nvPr/>
        </p:nvSpPr>
        <p:spPr>
          <a:xfrm>
            <a:off x="3963240" y="50515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omosoma Y 58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906200" y="116532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omosoma X 155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40240" y="4572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7469640" y="28195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7" descr="simboloMasculino"/>
          <p:cNvPicPr/>
          <p:nvPr/>
        </p:nvPicPr>
        <p:blipFill>
          <a:blip r:embed="rId2"/>
          <a:stretch/>
        </p:blipFill>
        <p:spPr>
          <a:xfrm>
            <a:off x="7391520" y="3276720"/>
            <a:ext cx="13446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simbolo-mujer"/>
          <p:cNvPicPr/>
          <p:nvPr/>
        </p:nvPicPr>
        <p:blipFill>
          <a:blip r:embed="rId3"/>
          <a:stretch/>
        </p:blipFill>
        <p:spPr>
          <a:xfrm>
            <a:off x="533520" y="5029200"/>
            <a:ext cx="10573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380880" y="2463840"/>
            <a:ext cx="6858000" cy="4052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692280" y="53352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rencia holánd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762120" y="914400"/>
            <a:ext cx="27432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Imagen 4" descr="Imagen 1.png"/>
          <p:cNvPicPr/>
          <p:nvPr/>
        </p:nvPicPr>
        <p:blipFill>
          <a:blip r:embed="rId2"/>
          <a:stretch/>
        </p:blipFill>
        <p:spPr>
          <a:xfrm>
            <a:off x="5638680" y="152280"/>
            <a:ext cx="3227400" cy="2457720"/>
          </a:xfrm>
          <a:prstGeom prst="rect">
            <a:avLst/>
          </a:prstGeom>
          <a:ln w="0">
            <a:noFill/>
          </a:ln>
        </p:spPr>
      </p:pic>
      <p:sp>
        <p:nvSpPr>
          <p:cNvPr id="164" name="CuadroTexto 5"/>
          <p:cNvSpPr/>
          <p:nvPr/>
        </p:nvSpPr>
        <p:spPr>
          <a:xfrm>
            <a:off x="777600" y="1523880"/>
            <a:ext cx="366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smisión directa y estricta padre-h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Rockwell"/>
              </a:rPr>
              <a:t>RASGOS LIMITADOS AL SEXO  </a:t>
            </a:r>
            <a:br>
              <a:rPr sz="2800"/>
            </a:br>
            <a:r>
              <a:rPr b="1" lang="es-ES_tradnl" sz="2800" spc="-1" strike="noStrike">
                <a:solidFill>
                  <a:srgbClr val="ff3300"/>
                </a:solidFill>
                <a:latin typeface="Rockwell"/>
              </a:rPr>
              <a:t>RASGOS INFLUENCIADOS POR EL SE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981080"/>
            <a:ext cx="7543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LAS HORMONAS SEXUALES (ESTEROIDALES) CONTROLAN LA EXPRESION DE CIERTOS G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RASGOS LIMITADOS AL SEXO: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 BARBA EN LOS VARONES Y PRODUCCION DE LECHE EN LAS HEM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RASGO INFLUENCIADO POR EL SEXO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CALVICIE: EL MISMO ALELO ES DOMINANTE EN HOMBRES Y RECESIVO EN 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1"/>
          <a:stretch/>
        </p:blipFill>
        <p:spPr>
          <a:xfrm>
            <a:off x="7467480" y="4876920"/>
            <a:ext cx="1476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Rockwell"/>
              </a:rPr>
              <a:t>DETERMINACION DEL SEXO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(en mamíferos e insectos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752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CROMOSOMAS SEXUALE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19320" y="2286000"/>
            <a:ext cx="2438280" cy="2666880"/>
            <a:chOff x="1219320" y="2286000"/>
            <a:chExt cx="2438280" cy="2666880"/>
          </a:xfrm>
        </p:grpSpPr>
        <p:graphicFrame>
          <p:nvGraphicFramePr>
            <p:cNvPr id="57" name=""/>
            <p:cNvGraphicFramePr/>
            <p:nvPr/>
          </p:nvGraphicFramePr>
          <p:xfrm>
            <a:off x="1219320" y="2286000"/>
            <a:ext cx="2438280" cy="266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2286000"/>
                      <a:ext cx="2438280" cy="26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1981080" y="4343400"/>
              <a:ext cx="76212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800600" y="2286000"/>
            <a:ext cx="1676160" cy="2666880"/>
            <a:chOff x="4800600" y="2286000"/>
            <a:chExt cx="1676160" cy="2666880"/>
          </a:xfrm>
        </p:grpSpPr>
        <p:graphicFrame>
          <p:nvGraphicFramePr>
            <p:cNvPr id="61" name=""/>
            <p:cNvGraphicFramePr/>
            <p:nvPr/>
          </p:nvGraphicFramePr>
          <p:xfrm>
            <a:off x="4800600" y="2286000"/>
            <a:ext cx="931320" cy="266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2286000"/>
                      <a:ext cx="931320" cy="266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5731920" y="2286000"/>
            <a:ext cx="744840" cy="266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31920" y="2286000"/>
                      <a:ext cx="744840" cy="26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" name=""/>
          <p:cNvSpPr/>
          <p:nvPr/>
        </p:nvSpPr>
        <p:spPr>
          <a:xfrm>
            <a:off x="4800600" y="4648320"/>
            <a:ext cx="16765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79132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En AVES:</a:t>
            </a:r>
            <a:r>
              <a:rPr b="1" lang="es-ES_tradnl" sz="1800" spc="-1" strike="noStrike">
                <a:solidFill>
                  <a:srgbClr val="000000"/>
                </a:solidFill>
                <a:latin typeface="Rockwell"/>
              </a:rPr>
              <a:t> ZW SEXO FEMENINO ZZ SEXO MASCULINO. T</a:t>
            </a: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ambién existe el caso X0, como en algunos </a:t>
            </a:r>
            <a:r>
              <a:rPr b="1" lang="es-ES" sz="1800" spc="-1" strike="noStrike">
                <a:solidFill>
                  <a:srgbClr val="ff3300"/>
                </a:solidFill>
                <a:latin typeface="Rockwell"/>
              </a:rPr>
              <a:t>saltamontes y escarabajos</a:t>
            </a: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, donde hay un solo cromosoma sexual, las hembras son generalmente XX y los machos X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50292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Rockwell"/>
              </a:rPr>
              <a:t>HOMOGAME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105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Rockwell"/>
              </a:rPr>
              <a:t>HETEROGAME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icture 2"/>
          <p:cNvPicPr/>
          <p:nvPr/>
        </p:nvPicPr>
        <p:blipFill>
          <a:blip r:embed="rId1"/>
          <a:srcRect l="0" t="0" r="28661" b="0"/>
          <a:stretch/>
        </p:blipFill>
        <p:spPr>
          <a:xfrm>
            <a:off x="4876920" y="228600"/>
            <a:ext cx="3668760" cy="621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Picture 1"/>
          <p:cNvPicPr/>
          <p:nvPr/>
        </p:nvPicPr>
        <p:blipFill>
          <a:blip r:embed="rId2"/>
          <a:srcRect l="94" t="14" r="34460" b="0"/>
          <a:stretch/>
        </p:blipFill>
        <p:spPr>
          <a:xfrm>
            <a:off x="380880" y="152280"/>
            <a:ext cx="3818160" cy="6324840"/>
          </a:xfrm>
          <a:prstGeom prst="rect">
            <a:avLst/>
          </a:prstGeom>
          <a:ln w="0">
            <a:noFill/>
          </a:ln>
        </p:spPr>
      </p:pic>
      <p:sp>
        <p:nvSpPr>
          <p:cNvPr id="71" name="Oval 6"/>
          <p:cNvSpPr/>
          <p:nvPr/>
        </p:nvSpPr>
        <p:spPr>
          <a:xfrm>
            <a:off x="1143000" y="152280"/>
            <a:ext cx="990720" cy="304920"/>
          </a:xfrm>
          <a:prstGeom prst="ellipse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9" descr="Picture 2"/>
          <p:cNvPicPr/>
          <p:nvPr/>
        </p:nvPicPr>
        <p:blipFill>
          <a:blip r:embed="rId3"/>
          <a:srcRect l="0" t="0" r="28661" b="0"/>
          <a:stretch/>
        </p:blipFill>
        <p:spPr>
          <a:xfrm>
            <a:off x="4876920" y="228600"/>
            <a:ext cx="3668760" cy="6210360"/>
          </a:xfrm>
          <a:prstGeom prst="rect">
            <a:avLst/>
          </a:prstGeom>
          <a:ln w="0">
            <a:noFill/>
          </a:ln>
        </p:spPr>
      </p:pic>
      <p:sp>
        <p:nvSpPr>
          <p:cNvPr id="73" name="Oval 7"/>
          <p:cNvSpPr/>
          <p:nvPr/>
        </p:nvSpPr>
        <p:spPr>
          <a:xfrm>
            <a:off x="5562720" y="152280"/>
            <a:ext cx="990360" cy="304920"/>
          </a:xfrm>
          <a:prstGeom prst="ellipse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0"/>
          <p:cNvSpPr/>
          <p:nvPr/>
        </p:nvSpPr>
        <p:spPr>
          <a:xfrm>
            <a:off x="6705720" y="5459400"/>
            <a:ext cx="755640" cy="304920"/>
          </a:xfrm>
          <a:prstGeom prst="ellipse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1"/>
          <p:cNvSpPr/>
          <p:nvPr/>
        </p:nvSpPr>
        <p:spPr>
          <a:xfrm>
            <a:off x="2286000" y="5486400"/>
            <a:ext cx="990720" cy="304920"/>
          </a:xfrm>
          <a:prstGeom prst="ellipse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2"/>
          <p:cNvSpPr/>
          <p:nvPr/>
        </p:nvSpPr>
        <p:spPr>
          <a:xfrm>
            <a:off x="1676520" y="6095880"/>
            <a:ext cx="990360" cy="304920"/>
          </a:xfrm>
          <a:prstGeom prst="ellipse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3"/>
          <p:cNvSpPr/>
          <p:nvPr/>
        </p:nvSpPr>
        <p:spPr>
          <a:xfrm>
            <a:off x="6172200" y="6095880"/>
            <a:ext cx="762120" cy="304920"/>
          </a:xfrm>
          <a:prstGeom prst="ellipse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338280" y="133200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7850160" y="12952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6"/>
          <p:cNvSpPr/>
          <p:nvPr/>
        </p:nvSpPr>
        <p:spPr>
          <a:xfrm>
            <a:off x="4495680" y="228600"/>
            <a:ext cx="0" cy="617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00"/>
                </a:solidFill>
                <a:latin typeface="Verdana"/>
              </a:rPr>
              <a:t>DETERMINACION DEL SEX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905120"/>
            <a:ext cx="8305560" cy="47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Verdana"/>
              </a:rPr>
              <a:t>Drosophila melanogaster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 Bridges, 1916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El sexo es determinado por los cromosomas X y por los autosomas: balance génico entre el n° de cromosomas X y set de autosom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X/A=1 HEMBRA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X/A=0,5 MA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SEXO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CROMOSOMA X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AUTOSOMAS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X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SUPERHEMBRA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HEMBRA NORMAL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INTERSEXO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MACHO NORMAL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0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SUPER MACHO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Rockwell"/>
              </a:rPr>
              <a:t>INACTIVACION </a:t>
            </a:r>
            <a:br>
              <a:rPr sz="3200"/>
            </a:br>
            <a:r>
              <a:rPr b="1" lang="es-ES" sz="3200" spc="-1" strike="noStrike">
                <a:solidFill>
                  <a:srgbClr val="ff3300"/>
                </a:solidFill>
                <a:latin typeface="Rockwell"/>
              </a:rPr>
              <a:t>DEL CROMOSOMA X</a:t>
            </a:r>
            <a:r>
              <a:rPr b="1" lang="es-ES_tradnl" sz="3200" spc="-1" strike="noStrike">
                <a:solidFill>
                  <a:srgbClr val="ff3300"/>
                </a:solidFill>
                <a:latin typeface="Rockwell"/>
              </a:rPr>
              <a:t> </a:t>
            </a:r>
            <a:br>
              <a:rPr sz="3200"/>
            </a:br>
            <a:r>
              <a:rPr b="1" lang="es-ES_tradnl" sz="3200" spc="-1" strike="noStrike">
                <a:solidFill>
                  <a:srgbClr val="ff3300"/>
                </a:solidFill>
                <a:latin typeface="Rockwell"/>
              </a:rPr>
              <a:t>(T</a:t>
            </a: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eoría de M. Lyon, 19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03760" y="0"/>
            <a:ext cx="4452840" cy="6794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280" y="1600200"/>
            <a:ext cx="4419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Rockwell"/>
              </a:rPr>
              <a:t>Mecanismo de compensación del dosage génico: l</a:t>
            </a:r>
            <a:r>
              <a:rPr b="1" lang="es-ES" sz="2000" spc="-1" strike="noStrike">
                <a:solidFill>
                  <a:srgbClr val="000000"/>
                </a:solidFill>
                <a:latin typeface="Rockwell"/>
              </a:rPr>
              <a:t>as mujeres son funcionalmente </a:t>
            </a:r>
            <a:r>
              <a:rPr b="1" lang="es-CL" sz="2000" spc="-1" strike="noStrike">
                <a:solidFill>
                  <a:srgbClr val="000000"/>
                </a:solidFill>
                <a:latin typeface="Rockwell"/>
              </a:rPr>
              <a:t>un </a:t>
            </a:r>
            <a:r>
              <a:rPr b="1" lang="es-ES" sz="2000" spc="-1" strike="noStrike">
                <a:solidFill>
                  <a:srgbClr val="000000"/>
                </a:solidFill>
                <a:latin typeface="Rockwell"/>
              </a:rPr>
              <a:t>mosaico </a:t>
            </a:r>
            <a:r>
              <a:rPr b="1" lang="es-CL" sz="2000" spc="-1" strike="noStrike">
                <a:solidFill>
                  <a:srgbClr val="000000"/>
                </a:solidFill>
                <a:latin typeface="Rockwell"/>
              </a:rPr>
              <a:t>de expresión de</a:t>
            </a:r>
            <a:r>
              <a:rPr b="1" lang="es-ES" sz="2000" spc="-1" strike="noStrike">
                <a:solidFill>
                  <a:srgbClr val="000000"/>
                </a:solidFill>
                <a:latin typeface="Rockwell"/>
              </a:rPr>
              <a:t> genes del cromosoma X</a:t>
            </a:r>
            <a:r>
              <a:rPr b="1" lang="es-CL" sz="2000" spc="-1" strike="noStrike">
                <a:solidFill>
                  <a:srgbClr val="000000"/>
                </a:solidFill>
                <a:latin typeface="Rockwell"/>
              </a:rPr>
              <a:t> materno o pa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5000" y="3276720"/>
            <a:ext cx="237960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743200" y="5105520"/>
            <a:ext cx="2414520" cy="14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228600"/>
            <a:ext cx="7543800" cy="155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ockwell"/>
              </a:rPr>
              <a:t>Un ejemplo en Veterinaria es el de el Gen Naranja en los gatos que está ligado al sexo y a su vez es epistático sobre el gen del color Negro o gris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5438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57720" y="103320"/>
            <a:ext cx="3757680" cy="6678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7200" y="1192320"/>
            <a:ext cx="4918320" cy="5445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Thomas H. Morgan</a:t>
            </a:r>
            <a:r>
              <a:rPr b="1" lang="es-ES_tradnl" sz="1600" spc="-1" strike="noStrike">
                <a:solidFill>
                  <a:srgbClr val="000000"/>
                </a:solidFill>
                <a:latin typeface="Rockwell"/>
              </a:rPr>
              <a:t> (1910) Estudiando la herencia del color de ojos en </a:t>
            </a:r>
            <a:r>
              <a:rPr b="1" i="1" lang="es-ES_tradnl" sz="1600" spc="-1" strike="noStrike">
                <a:solidFill>
                  <a:srgbClr val="000000"/>
                </a:solidFill>
                <a:latin typeface="Rockwell"/>
              </a:rPr>
              <a:t>Drosophila melanogaster </a:t>
            </a:r>
            <a:r>
              <a:rPr b="1" lang="es-ES_tradnl" sz="1600" spc="-1" strike="noStrike">
                <a:solidFill>
                  <a:srgbClr val="000000"/>
                </a:solidFill>
                <a:latin typeface="Rockwell"/>
              </a:rPr>
              <a:t>cruzó hembras ojos rojos dominante con machos ojos blancos hemicigoto rece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F1</a:t>
            </a: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HEMBRAS Y MACHOS </a:t>
            </a: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OJOS RO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F2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Rockwell"/>
              </a:rPr>
              <a:t>100% HEMBRAS OJOS RO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Rockwell"/>
              </a:rPr>
              <a:t>50% MACHOSOJOS RO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Rockwell"/>
              </a:rPr>
              <a:t>50% MACHOS OJOS BLANCOS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HERENCIA LIGADA AL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Rockwell"/>
              </a:rPr>
              <a:t>HERENCIA LIGADA AL SEX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013120"/>
            <a:ext cx="7696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GENES LIGADOS AL X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: Genes que se ubican en el cromosoma X pero no tienen función específica en la determinación sexu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GENES HOLANDRICOS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: se encuentran solo en el cromosoma Y, solo se presentan en hombres, lo heredan todos los hijos varo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0:28:35Z</dcterms:created>
  <dc:creator>INTA</dc:creator>
  <dc:description/>
  <dc:language>en-US</dc:language>
  <cp:lastModifiedBy>PARIS</cp:lastModifiedBy>
  <dcterms:modified xsi:type="dcterms:W3CDTF">2010-06-07T10:40:51Z</dcterms:modified>
  <cp:revision>60</cp:revision>
  <dc:subject/>
  <dc:title>Presentación de PowerPoint</dc:title>
</cp:coreProperties>
</file>