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2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33.jpeg" ContentType="image/jpeg"/>
  <Override PartName="/ppt/media/image41.jpeg" ContentType="image/jpeg"/>
  <Override PartName="/ppt/media/image42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195-0941-44B8-B0DE-8127F8E3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73B-7D18-4562-ABAA-BEC92323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C66-50BF-49AB-BB3F-A2793217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0F2-9761-4D49-A8A5-F9ED4A4F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71E-8882-47BD-8904-00FB0F4D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784-0557-4CCE-93D7-C0DEB794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859-BA1D-44DC-B459-DF48DFD7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65F-C0DE-402A-9731-07112ED8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18B-041A-4BD8-A494-A8CA9993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BA9-1AC3-473D-9658-58568E0B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C9E-8371-4890-BC36-A96F3118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FDB-3451-4876-A1BE-20AE5494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B10D-9D54-4D16-AB6C-BF945BE4F2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ORÍA CROMOSÓMICA DE LA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66920" y="1219320"/>
            <a:ext cx="6862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70080" y="304920"/>
            <a:ext cx="4862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46561" t="0" r="0" b="0"/>
          <a:stretch/>
        </p:blipFill>
        <p:spPr>
          <a:xfrm>
            <a:off x="0" y="371520"/>
            <a:ext cx="6095880" cy="602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72200" y="304920"/>
            <a:ext cx="2514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ff"/>
                </a:solidFill>
                <a:latin typeface="Times New Roman"/>
              </a:rPr>
              <a:t>Síndrome de Turner. 45,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ff"/>
                </a:solidFill>
                <a:latin typeface="Times New Roman"/>
              </a:rPr>
              <a:t>Ocurre 1/3000 nacimien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ff"/>
                </a:solidFill>
                <a:latin typeface="Times New Roman"/>
              </a:rPr>
              <a:t>Gran proporción mueren en út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304920"/>
            <a:ext cx="8458200" cy="259056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Caso 47,XXX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Diferenciación femenina, ocurre 1/1200 nacimientos femeninos. Normales, algunas veces menor desarrollo de características sexuales secundarias, esterilidad y retraso m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Ocurren casos 48,XXXX y 49,XXXXX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76720"/>
            <a:ext cx="8534160" cy="11430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Caso 47,XYY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Varones estatura &gt; 1.80 y aptitudes criminales, inteligencia bajo lo norm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486400" cy="1143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Monosom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828800"/>
          </a:xfrm>
          <a:prstGeom prst="rect">
            <a:avLst/>
          </a:prstGeom>
          <a:solidFill>
            <a:srgbClr val="ff9966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Times New Roman"/>
              </a:rPr>
              <a:t>Pérdida de un cromos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Times New Roman"/>
              </a:rPr>
              <a:t>Muchas veces es letal sobre todo en autoso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Times New Roman"/>
              </a:rPr>
              <a:t>Hemicigocidad de alelos letales reces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038480" y="1289160"/>
            <a:ext cx="5061240" cy="3573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840" y="228600"/>
            <a:ext cx="4572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ff"/>
                </a:solidFill>
                <a:latin typeface="Times New Roman"/>
              </a:rPr>
              <a:t>Monosomía parcial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ff"/>
                </a:solidFill>
                <a:latin typeface="Times New Roman"/>
              </a:rPr>
              <a:t>síndrome </a:t>
            </a:r>
            <a:r>
              <a:rPr b="1" i="1" lang="es-CR" sz="2600" spc="-1" strike="noStrike">
                <a:solidFill>
                  <a:srgbClr val="0000ff"/>
                </a:solidFill>
                <a:latin typeface="Times New Roman"/>
              </a:rPr>
              <a:t>cri-du-chat</a:t>
            </a: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Se pierde parte del cromosoma 5. 46,-5p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Llanto parecido al maullido de un ga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Malformaciones en glotis y lari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Malformaciones anatóm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Complicaciones gastrointestinales, cardíacas y retraso mental. (sobrevive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1/5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429000" y="3105000"/>
            <a:ext cx="5715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909720"/>
            <a:ext cx="4495680" cy="1833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20" y="304920"/>
            <a:ext cx="4800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Trisomí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n cromosomas sexuales efecto es menor que en autosom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47,XYY y 47;XXX son vi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e pueden detectar trisomías por observación de la división meiótica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e forman trivalentes Desplazandose uno a un lado y los otros dos al otro pol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92680" cy="6781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9920" y="66600"/>
            <a:ext cx="2857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Síndrome de 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Pliegue prominente en el ángulo de cada ojo y son baj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Cabezas pequeñas y redond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Lengua saburral y sobresali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Manos anchas y cortas, mueren a los 50 añ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Propensos a enfermedades respiratorias, cardíacas y leucem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Sufren Alzheim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3/2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635120"/>
            <a:ext cx="7924680" cy="327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 una clasificación de las mutaciones basada en la cantidad de material hereditario afectado por la mut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Times New Roman"/>
              </a:rPr>
              <a:t>Mutación génic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mutación que afecta a un solo 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Times New Roman"/>
              </a:rPr>
              <a:t>Mutación cromosómic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mutación que afecta a un segmento cromosómico que incluye varios g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Times New Roman"/>
              </a:rPr>
              <a:t>Mutación genómic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mutación que afecta a cromosomas completos (por exceso o por defecto) o a juegos cromosómicos comple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04920"/>
            <a:ext cx="3429000" cy="3682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VELES MUT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11680" y="1252440"/>
            <a:ext cx="4354560" cy="4386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920" y="304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Consejo Genético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Diagnóstico prenatal, como amniocentesis. Se determina el cariotipo por análisis citogenético, y puede darse un aborto terapéu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Ocurre el Síndrome de Down familiar, debido a una translocación del cromosoma 2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33337" r="0" b="0"/>
          <a:stretch/>
        </p:blipFill>
        <p:spPr>
          <a:xfrm>
            <a:off x="4764240" y="457200"/>
            <a:ext cx="4379760" cy="563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304920"/>
            <a:ext cx="487656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Síndrome Patau 47, +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Profundo retraso mental, fisura labiopalatina y polidactilia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Malformaciones en muchos sistemas orgánic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Mueren a los 6 meses y la mayoría son varon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dad promedio de padres 32 añ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1/20,000 nacimie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266920" cy="3295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0" t="0" r="50003" b="0"/>
          <a:stretch/>
        </p:blipFill>
        <p:spPr>
          <a:xfrm>
            <a:off x="4405320" y="565200"/>
            <a:ext cx="46702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15080" cy="6435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9880" y="533520"/>
            <a:ext cx="28958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34147" r="0" b="0"/>
          <a:stretch/>
        </p:blipFill>
        <p:spPr>
          <a:xfrm>
            <a:off x="4876920" y="990720"/>
            <a:ext cx="4330440" cy="5181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304920"/>
            <a:ext cx="48769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Síndrome Edwards 47,+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Niños + pequeños, cráneos alargados, orejas faunescas, cuello ancho, dislocación congénita de las caderas, mentón deprimi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cabalgamiento de los de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Viven menos de 4 meses, mueren por neumonía o fallo cardía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dad materna alta 34.7 años, bebés mayormente hembras, se presenta 1/8000 naci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809880" cy="364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48751" t="0" r="0" b="0"/>
          <a:stretch/>
        </p:blipFill>
        <p:spPr>
          <a:xfrm>
            <a:off x="4572000" y="914400"/>
            <a:ext cx="442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Trisomía 3 con d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038240"/>
            <a:ext cx="3809880" cy="5819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Síndrome Wolf-Hirs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roblemas morf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Cabeza grande ict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Retraso y mortalidad tempr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686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Lugares frági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Lugares susceptibles a sufrir roturas cromosómicas. Síndrome del X frágil (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Martin Bell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Forma más corriente de retraso mental hereditario 1/2500 H, 1/5000 M. Es un carácter dominan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Pero el 30 % de las mujeres son retrasadas y el 80 % de los hombres; sufren rostos alargados y estrechos, mentones salientes, orejas grandes y tamaño testicular aument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635" t="0" r="0" b="0"/>
          <a:stretch/>
        </p:blipFill>
        <p:spPr>
          <a:xfrm>
            <a:off x="1981080" y="2286000"/>
            <a:ext cx="5791320" cy="3886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457200"/>
            <a:ext cx="7162920" cy="174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-MUTACIONES GÉNICAS O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 mutaciones a nivel molecular son llamadas génicas o puntuales y afectan la constitución química de los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ustit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976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ans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81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se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500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le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X frág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51040" y="1752480"/>
            <a:ext cx="38102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Variaci</a:t>
            </a:r>
            <a:r>
              <a:rPr b="1" lang="es-CR" sz="3600" spc="-1" strike="noStrike">
                <a:solidFill>
                  <a:srgbClr val="0000ff"/>
                </a:solidFill>
                <a:latin typeface="Times New Roman"/>
              </a:rPr>
              <a:t>ón en estructura de cromoso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219320"/>
            <a:ext cx="8534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Cambios estructurales que eliminan, añaden o reodernan partes sustanciales de 1 o + cromosom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Delecciones, Dupli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Reordenaciones, Translo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e deben a una o más roturas en el cromosoma, seguidas por la pérdida o reordenación del material genético, los extremos producidos son pegajosos y pueden unirse con extremos rot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Cuando la aberración ocurre en solo uno de los homólogos, se dice que el individuo es heterocigoto para la aberr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4708440"/>
            <a:ext cx="8686800" cy="1768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304920"/>
            <a:ext cx="8381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Dupl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s cuando hay más de un locus o fragmento grande de cromosoma repetido en el genom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ucede por un entrecruzamiento desigual entre cromosom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1. Pueden provocar redundancia genét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2. Pueden tener efectos fenotíp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3. Fuente de variabilidad genética en la evolu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696080" cy="3560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" y="304920"/>
            <a:ext cx="8686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Inversiones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Ocurre cuando un segmento de un cromosoma está girado 180º sobre sí mismo. Es un reodenamiento lineal de la secuencia del cromosoma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Pericé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centromero incluído, cambio en longitud de los brazos),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Parace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no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191120" cy="3724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304920"/>
            <a:ext cx="4343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Consecuencias de inversiones</a:t>
            </a: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i solo uno de los cromosomas homólogos tiene inversión, se da una sipnasis anormal, ocupa formarse un lazo de inversión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411480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038480"/>
            <a:ext cx="8763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i hay entrecruzamiento dentro del lazo de inversión se producen cromátidas anormales.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Dicé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con 2 centrómeros, en anafase en atraída hacia ambos polos, forma un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puente dicéntrico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y termina por romperse),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acé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sin centrómeros, en anafase se pierde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4680" y="704880"/>
            <a:ext cx="8564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4920" y="304920"/>
            <a:ext cx="5029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Translocaciones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CR" sz="2900" spc="-1" strike="noStrike">
                <a:solidFill>
                  <a:srgbClr val="0000ff"/>
                </a:solidFill>
                <a:latin typeface="Times New Roman"/>
              </a:rPr>
              <a:t>Es el desplazamiento de un segmento de cromosoma a un nuevo lugar en el genoma. La </a:t>
            </a:r>
            <a:r>
              <a:rPr b="1" lang="es-CR" sz="2900" spc="-1" strike="noStrike">
                <a:solidFill>
                  <a:srgbClr val="0000ff"/>
                </a:solidFill>
                <a:latin typeface="Times New Roman"/>
              </a:rPr>
              <a:t>recíproca</a:t>
            </a:r>
            <a:r>
              <a:rPr b="0" lang="es-CR" sz="2900" spc="-1" strike="noStrike">
                <a:solidFill>
                  <a:srgbClr val="0000ff"/>
                </a:solidFill>
                <a:latin typeface="Times New Roman"/>
              </a:rPr>
              <a:t> ocurre cuando hay intercambio entre dos cromosomas homólogos. Se origina debido a sinapsis complejas en meiosis, se producen gametos aberrantes. Solo el 50% de los descendientes de padres heterocigóticos sobreviven, sufren de </a:t>
            </a:r>
            <a:r>
              <a:rPr b="1" lang="es-CR" sz="2900" spc="-1" strike="noStrike">
                <a:solidFill>
                  <a:srgbClr val="0000ff"/>
                </a:solidFill>
                <a:latin typeface="Times New Roman"/>
              </a:rPr>
              <a:t>Semiesterilidad</a:t>
            </a:r>
            <a:r>
              <a:rPr b="0" lang="es-CR" sz="29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16560" y="990720"/>
            <a:ext cx="3575160" cy="4998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304920"/>
            <a:ext cx="5333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Translocación por fusión céntrica o Robertsoniana.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Cuando hay roturas en los brazos cortos de 2 cromosomas acrocéntricos no homólogos, se fusionan los fragmentos  y los restos de los cromosom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Provocan el Síndrome de Down familiar, un padre tiene la translocación 14/21 D/G, en meiosis 1/4 parte de los gametos tendrá 2 copias del 21, a ser fecundado provocará trisomía 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320" y="530280"/>
            <a:ext cx="883908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457200"/>
            <a:ext cx="739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poliploid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 es más frecuente en vegetales que en animales y la monoploidía se da en insectos sociales (zánganos). Estas mutaciones son debidas a errores en la separación de los pares de cromosomas homólogos durante la meiosis, no separándose ninguno de es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724280" cy="26812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41880" y="2590920"/>
            <a:ext cx="400212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8067" t="3789" r="9677" b="35646"/>
          <a:stretch/>
        </p:blipFill>
        <p:spPr>
          <a:xfrm>
            <a:off x="762120" y="3200400"/>
            <a:ext cx="3886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5029200"/>
            <a:ext cx="8915400" cy="1465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os organismos poliploídes generalmente son más grandes y vigorosos, y frecuentemente presentan gigantismo. En numerosas plantas cultivadas esto se ha capitalizado, especialmente donde el tamaño de hojas, semilla, fruto o flor es económicamente importante, por ejemplo en alfalfa, tabaco, café, plátano, manzana, pera, lila y crisant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4262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457200"/>
            <a:ext cx="784872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risom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 trisomía del cromosoma 21 produce el síndrome de Down (47, XX + 21 ó 47, XY + 21). Los afectados tienen retardo mental en diferente grado, corazón defectuoso, baja estatura, párpados rasgados, boca pequeña, lengua salida, cráneo ancho y marcha lenta. Las mujeres son fértiles y los transmiten al 50% de su progenie; los hombres son estér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cromosomas sexuales también pueden afectarse por una trisomí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individuos afectados por el síndrome de Klinefelter (47, XXY) son varones estériles con rasgos femeninos y retraso mental. Son fértiles, altos y de conducta controversial. Sus células tienen un número anormal de cuerpos de Bar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el síndrome triequis o metahembras (47, XXX) son mujeres fértiles de apariencia normal pero con tendencia al retardo ment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la polisomía XYY (47, XYY) Los afectados presentan estatura elevada, acné, un tamaño mayor de dientes, conducta agresiva y la espermatogénesis puede o no estar alte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09480" y="457200"/>
            <a:ext cx="77724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nosom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falta de un cromosoma produce una monosomía conocida como el síndrome de Turner (45, X) que ocurre en mujeres quiénes desarrollan baja estatura, dobleces característicos en el cuello y retardo mental moderado. En la pubertad no menstrúan ni desarrollan caracteres sexuales secundarios. No presentan cuerpo de Barr como las mujeres normales, pues el único cromosoma X que presentan está activ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4864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7379" t="0" r="0" b="0"/>
          <a:stretch/>
        </p:blipFill>
        <p:spPr>
          <a:xfrm>
            <a:off x="838080" y="609480"/>
            <a:ext cx="4781520" cy="10573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8571" t="0" r="0" b="0"/>
          <a:stretch/>
        </p:blipFill>
        <p:spPr>
          <a:xfrm>
            <a:off x="2743200" y="1905120"/>
            <a:ext cx="4876920" cy="35049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7566" t="0" r="2847" b="0"/>
          <a:stretch/>
        </p:blipFill>
        <p:spPr>
          <a:xfrm>
            <a:off x="380880" y="114300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57200" y="457200"/>
            <a:ext cx="8001000" cy="6019920"/>
            <a:chOff x="457200" y="457200"/>
            <a:chExt cx="8001000" cy="6019920"/>
          </a:xfrm>
        </p:grpSpPr>
        <p:grpSp>
          <p:nvGrpSpPr>
            <p:cNvPr id="59" name=""/>
            <p:cNvGrpSpPr/>
            <p:nvPr/>
          </p:nvGrpSpPr>
          <p:grpSpPr>
            <a:xfrm>
              <a:off x="461160" y="460800"/>
              <a:ext cx="7992360" cy="6011640"/>
              <a:chOff x="461160" y="460800"/>
              <a:chExt cx="7992360" cy="60116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461160" y="460800"/>
                <a:ext cx="2797560" cy="539280"/>
                <a:chOff x="461160" y="460800"/>
                <a:chExt cx="2797560" cy="539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61160" y="460800"/>
                  <a:ext cx="279756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461160" y="460800"/>
                  <a:ext cx="2797560" cy="539280"/>
                  <a:chOff x="461160" y="460800"/>
                  <a:chExt cx="2797560" cy="53928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461160" y="460800"/>
                    <a:ext cx="279756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ipos de mutaciones génica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61160" y="460800"/>
                    <a:ext cx="279756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" name=""/>
              <p:cNvGrpSpPr/>
              <p:nvPr/>
            </p:nvGrpSpPr>
            <p:grpSpPr>
              <a:xfrm>
                <a:off x="3258720" y="460800"/>
                <a:ext cx="5194800" cy="539280"/>
                <a:chOff x="3258720" y="460800"/>
                <a:chExt cx="5194800" cy="539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258720" y="460800"/>
                  <a:ext cx="519480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3258720" y="460800"/>
                  <a:ext cx="5194800" cy="539280"/>
                  <a:chOff x="3258720" y="460800"/>
                  <a:chExt cx="5194800" cy="53928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3258720" y="460800"/>
                    <a:ext cx="519480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sultados y ejempl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258720" y="460800"/>
                    <a:ext cx="519480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" name=""/>
              <p:cNvGrpSpPr/>
              <p:nvPr/>
            </p:nvGrpSpPr>
            <p:grpSpPr>
              <a:xfrm>
                <a:off x="461160" y="1000080"/>
                <a:ext cx="2797560" cy="539280"/>
                <a:chOff x="461160" y="1000080"/>
                <a:chExt cx="2797560" cy="5392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61160" y="1000080"/>
                  <a:ext cx="279756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461160" y="1000080"/>
                  <a:ext cx="2797560" cy="539280"/>
                  <a:chOff x="461160" y="1000080"/>
                  <a:chExt cx="2797560" cy="53928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461160" y="1000080"/>
                    <a:ext cx="279756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el AD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461160" y="1000080"/>
                    <a:ext cx="279756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"/>
              <p:cNvGrpSpPr/>
              <p:nvPr/>
            </p:nvGrpSpPr>
            <p:grpSpPr>
              <a:xfrm>
                <a:off x="3258720" y="1000080"/>
                <a:ext cx="5194800" cy="539280"/>
                <a:chOff x="3258720" y="1000080"/>
                <a:chExt cx="5194800" cy="539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258720" y="1000080"/>
                  <a:ext cx="519480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3258720" y="1000080"/>
                  <a:ext cx="5194800" cy="539280"/>
                  <a:chOff x="3258720" y="1000080"/>
                  <a:chExt cx="5194800" cy="53928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3258720" y="1000080"/>
                    <a:ext cx="519480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el AD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3258720" y="1000080"/>
                    <a:ext cx="519480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" name=""/>
              <p:cNvGrpSpPr/>
              <p:nvPr/>
            </p:nvGrpSpPr>
            <p:grpSpPr>
              <a:xfrm>
                <a:off x="461160" y="1539720"/>
                <a:ext cx="2797560" cy="539280"/>
                <a:chOff x="461160" y="1539720"/>
                <a:chExt cx="2797560" cy="539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61160" y="1539720"/>
                  <a:ext cx="27975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ic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61160" y="1539720"/>
                  <a:ext cx="27975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258720" y="1539720"/>
                <a:ext cx="5194800" cy="539280"/>
                <a:chOff x="3258720" y="1539720"/>
                <a:chExt cx="5194800" cy="539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258720" y="1539720"/>
                  <a:ext cx="5194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u→Pu o Pi→Pi: AT→GC, GC→AT, CG→TA y TA→C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258720" y="1539720"/>
                  <a:ext cx="5194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1160" y="2079360"/>
                <a:ext cx="2797560" cy="693720"/>
                <a:chOff x="461160" y="2079360"/>
                <a:chExt cx="2797560" cy="6937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61160" y="2079360"/>
                  <a:ext cx="279756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vers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1160" y="2079360"/>
                  <a:ext cx="279756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3258720" y="2079360"/>
                <a:ext cx="5194800" cy="693720"/>
                <a:chOff x="3258720" y="2079360"/>
                <a:chExt cx="5194800" cy="693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258720" y="2079360"/>
                  <a:ext cx="519480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u→Pi o Pi→Pu: AT→CG, AT→TA, GC→TA, GC→CG, TA→GC, TA→AT, CG→AT y CG→G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258720" y="2079360"/>
                  <a:ext cx="519480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1160" y="2773080"/>
                <a:ext cx="2797560" cy="539280"/>
                <a:chOff x="461160" y="2773080"/>
                <a:chExt cx="2797560" cy="5392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61160" y="2773080"/>
                  <a:ext cx="279756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" name=""/>
                <p:cNvGrpSpPr/>
                <p:nvPr/>
              </p:nvGrpSpPr>
              <p:grpSpPr>
                <a:xfrm>
                  <a:off x="461160" y="2773080"/>
                  <a:ext cx="2797560" cy="539280"/>
                  <a:chOff x="461160" y="2773080"/>
                  <a:chExt cx="2797560" cy="5392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61160" y="2773080"/>
                    <a:ext cx="279756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la proteín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61160" y="2773080"/>
                    <a:ext cx="279756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" name=""/>
              <p:cNvGrpSpPr/>
              <p:nvPr/>
            </p:nvGrpSpPr>
            <p:grpSpPr>
              <a:xfrm>
                <a:off x="3258720" y="2773080"/>
                <a:ext cx="5194800" cy="539280"/>
                <a:chOff x="3258720" y="2773080"/>
                <a:chExt cx="5194800" cy="5392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258720" y="2773080"/>
                  <a:ext cx="519480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" name=""/>
                <p:cNvGrpSpPr/>
                <p:nvPr/>
              </p:nvGrpSpPr>
              <p:grpSpPr>
                <a:xfrm>
                  <a:off x="3258720" y="2773080"/>
                  <a:ext cx="5194800" cy="539280"/>
                  <a:chOff x="3258720" y="2773080"/>
                  <a:chExt cx="5194800" cy="53928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3258720" y="2773080"/>
                    <a:ext cx="519480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la proteín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258720" y="2773080"/>
                    <a:ext cx="519480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" name=""/>
              <p:cNvGrpSpPr/>
              <p:nvPr/>
            </p:nvGrpSpPr>
            <p:grpSpPr>
              <a:xfrm>
                <a:off x="461160" y="3312720"/>
                <a:ext cx="2797560" cy="539280"/>
                <a:chOff x="461160" y="3312720"/>
                <a:chExt cx="2797560" cy="539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61160" y="3312720"/>
                  <a:ext cx="27975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silencios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61160" y="3312720"/>
                  <a:ext cx="27975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58720" y="3312720"/>
                <a:ext cx="5194800" cy="539280"/>
                <a:chOff x="3258720" y="3312720"/>
                <a:chExt cx="5194800" cy="539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258720" y="3312720"/>
                  <a:ext cx="5194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ipletes que codifican para el mismo aminoácido: AAG(arg)→CGG(ar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258720" y="3312720"/>
                  <a:ext cx="5194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61160" y="3852360"/>
                <a:ext cx="2797560" cy="693360"/>
                <a:chOff x="461160" y="3852360"/>
                <a:chExt cx="2797560" cy="6933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61160" y="3852360"/>
                  <a:ext cx="279756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neut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1160" y="3852360"/>
                  <a:ext cx="279756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258720" y="3852360"/>
                <a:ext cx="5194800" cy="693360"/>
                <a:chOff x="3258720" y="3852360"/>
                <a:chExt cx="5194800" cy="6933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258720" y="3852360"/>
                  <a:ext cx="519480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ipletes que codifican para aminoácidos equivalentes distintos. AAA(lys)→AGA(arg). Ambos son aminoácidos bás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258720" y="3852360"/>
                  <a:ext cx="519480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61160" y="4545720"/>
                <a:ext cx="2797560" cy="693360"/>
                <a:chOff x="461160" y="4545720"/>
                <a:chExt cx="2797560" cy="6933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61160" y="4545720"/>
                  <a:ext cx="279756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cambio de sent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61160" y="4545720"/>
                  <a:ext cx="279756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258720" y="4545720"/>
                <a:ext cx="5194800" cy="693360"/>
                <a:chOff x="3258720" y="4545720"/>
                <a:chExt cx="5194800" cy="693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258720" y="4545720"/>
                  <a:ext cx="519480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arece un nuevo triplete que codifica para un aminoácido de distinto tipo. La proteína pierde su fun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58720" y="4545720"/>
                  <a:ext cx="519480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61160" y="5239440"/>
                <a:ext cx="2797560" cy="539280"/>
                <a:chOff x="461160" y="5239440"/>
                <a:chExt cx="2797560" cy="539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61160" y="5239440"/>
                  <a:ext cx="27975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sin sent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61160" y="5239440"/>
                  <a:ext cx="27975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258720" y="5239440"/>
                <a:ext cx="5194800" cy="539280"/>
                <a:chOff x="3258720" y="5239440"/>
                <a:chExt cx="5194800" cy="539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258720" y="5239440"/>
                  <a:ext cx="5194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arece un triplete de terminación o FIN: CAG(gln)→UAG(FI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8720" y="5239440"/>
                  <a:ext cx="5194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61160" y="5778720"/>
                <a:ext cx="2797560" cy="693720"/>
                <a:chOff x="461160" y="5778720"/>
                <a:chExt cx="2797560" cy="6937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61160" y="5778720"/>
                  <a:ext cx="279756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cambio de fase o pauta de le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61160" y="5778720"/>
                  <a:ext cx="279756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258720" y="5778720"/>
                <a:ext cx="5194800" cy="693720"/>
                <a:chOff x="3258720" y="5778720"/>
                <a:chExt cx="5194800" cy="6937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258720" y="5778720"/>
                  <a:ext cx="519480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ición o deleción de un único par de nucleótidos o de varios pares de nucleótidos, siempre que no sean múltiplo de tr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58720" y="5778720"/>
                  <a:ext cx="519480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457200" y="457200"/>
              <a:ext cx="8001000" cy="6019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457200"/>
            <a:ext cx="7696080" cy="13816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-MUTACIONES CROMOS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cambio afecta a un segmento de cromosoma (mayor de un gen), por tanto a su estruc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438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52680" y="1760400"/>
            <a:ext cx="5791320" cy="4859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ff"/>
                </a:solidFill>
                <a:latin typeface="Times New Roman"/>
              </a:rPr>
              <a:t>3. Variación en número de cromoso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581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Aneuploidí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Monosomía -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Trisomía +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Euploidía: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Poliploidía +3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Triploides 3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Tetraploides 4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23:41:25Z</dcterms:created>
  <dc:creator>Mónica</dc:creator>
  <dc:description/>
  <dc:language>en-US</dc:language>
  <cp:lastModifiedBy>PARIS</cp:lastModifiedBy>
  <dcterms:modified xsi:type="dcterms:W3CDTF">2010-06-03T11:21:54Z</dcterms:modified>
  <cp:revision>5</cp:revision>
  <dc:subject/>
  <dc:title>Presentación de PowerPoint</dc:title>
</cp:coreProperties>
</file>