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8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08C-62E4-4518-9E1C-A3D575E4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608-1C4F-42CD-9A05-C0DA0E4C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B1E-270B-499D-9EBB-16CCAAAC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9B0-8063-4B77-A62C-ED7EB501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1D6-0EC9-484A-911A-8D4AE75D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EF3-21F0-422E-9B50-36892885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227-2302-4DE6-8136-BC85DD1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18E-8108-45EE-9969-4AF928E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225-3AF0-4006-BFA0-F6EF5B9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130-3872-41B0-B9CC-69B34BB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55B-3B90-4EE9-9F23-B60A68D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45B-443E-41E0-B9E3-50E0535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5878-5CE4-43DE-A8BD-2957DF76BF3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6080"/>
            <a:ext cx="7848360" cy="37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crea nuevas combinaciones de genes en el cromosoma incrementando de esta manera la supervivencia de un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supervivencia a nivel de individuo depende de los mecanismos de reparación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obstante algunos tipos de reparación del DNA dependen de la recombinación del DNA y por lo tanto es posible que la recombinación halla evolucionado como un mecanismo de r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476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476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ranspositional Site-specific Recombination Can Insert Mobile Genetic Elements into Any DNA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70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707160" cy="264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371628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Figure 5-69. Tres de los diferentes elementos genéticos móviles hallados en bac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da uno de estos elementos contiene un gen que codifica para una transpos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os de los tres elementos móviles llevan genes que codifican enzimas que inactivan antibióticos como ampici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ampR)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y Tetracicli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(tetR)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12000" cy="287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5800" y="476280"/>
            <a:ext cx="68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conservativa sitio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9888" t="0" r="2971" b="0"/>
          <a:stretch/>
        </p:blipFill>
        <p:spPr>
          <a:xfrm>
            <a:off x="1619280" y="4365720"/>
            <a:ext cx="68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omic Sans MS"/>
              </a:rPr>
              <a:t>LIGAMIENTO DE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W.BATESON Y R.C. PUNNET 19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Comic Sans MS"/>
              </a:rPr>
              <a:t>Excepción a  principios Mendel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57680" cy="389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617220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514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iotipo bo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33520"/>
            <a:ext cx="19047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ari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5466" t="0" r="10316" b="0"/>
          <a:stretch/>
        </p:blipFill>
        <p:spPr>
          <a:xfrm>
            <a:off x="250920" y="549360"/>
            <a:ext cx="8424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7058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104920"/>
            <a:ext cx="7848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ligamiento puede definirse como la tendencia de los alelos cercanos en el mismo cromosoma, de ser transmitidos juntos, como una unidad intacta a través de la 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965240"/>
            <a:ext cx="91440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0"/>
            <a:ext cx="84582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Ligamien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Descubrimiento del ligamiento (Morgan con mutantes de </a:t>
            </a:r>
            <a:r>
              <a:rPr b="0" i="1" lang="es-ES_tradnl" sz="28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0" lang="es-ES_tradnl" sz="2800" spc="-1" strike="noStrike">
                <a:solidFill>
                  <a:srgbClr val="660033"/>
                </a:solidFill>
                <a:latin typeface="Comic Sans MS"/>
              </a:rPr>
              <a:t>)</a:t>
            </a: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54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aracterísticas de los diferentes tipos de recombinación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596960"/>
          <a:ext cx="8136000" cy="4518000"/>
        </p:xfrm>
        <a:graphic>
          <a:graphicData uri="http://schemas.openxmlformats.org/drawingml/2006/table">
            <a:tbl>
              <a:tblPr/>
              <a:tblGrid>
                <a:gridCol w="1224000"/>
                <a:gridCol w="2030400"/>
                <a:gridCol w="1627200"/>
                <a:gridCol w="2174760"/>
                <a:gridCol w="1079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omología de secu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cuencias heterodú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teínas impl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íntesis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ólo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ensa aunque la homología es independiente de la secuencia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r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A, RecBCD, RuvAB; RuvC y enzimas de reparación del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cífica de Si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, aunque requiere secuencias específicas en amb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ombin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i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e requiere homología. Son necesarias secuencias específicas en uno de los 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s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ínima, solo para llenar hu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1440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Comic Sans MS"/>
              </a:rPr>
              <a:t>Mutantes de </a:t>
            </a:r>
            <a:r>
              <a:rPr b="1" i="1" lang="es-ES_tradnl" sz="3200" spc="-1" strike="noStrike">
                <a:solidFill>
                  <a:srgbClr val="660033"/>
                </a:solidFill>
                <a:latin typeface="Comic Sans MS"/>
              </a:rPr>
              <a:t>Drosophila melanogater</a:t>
            </a:r>
            <a:r>
              <a:rPr b="1" lang="es-ES_tradnl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4940"/>
          <a:stretch/>
        </p:blipFill>
        <p:spPr>
          <a:xfrm>
            <a:off x="63360" y="457200"/>
            <a:ext cx="4051440" cy="586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40" y="22654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26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y: Cu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0" y="42084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ap: ap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3120" y="4208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vg: vestig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8200" y="22654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sd: scal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9400" y="42084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p: dum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7520" y="6308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D: Dicha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25760" y="630864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: 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086600" y="1981080"/>
          <a:ext cx="167652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981080"/>
                    <a:ext cx="1676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876920" y="1981080"/>
          <a:ext cx="1695240" cy="10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981080"/>
                    <a:ext cx="1695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00600" y="3581280"/>
          <a:ext cx="1666800" cy="106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581280"/>
                    <a:ext cx="166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62920" y="3581280"/>
          <a:ext cx="167616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676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910400" y="304812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+: salv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58680" y="30481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w: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8960" y="4800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e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2440" y="47991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836640"/>
            <a:ext cx="4356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Estudio del ligamiento con mutantes</a:t>
            </a: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25600" y="1989000"/>
            <a:ext cx="8177040" cy="2775960"/>
            <a:chOff x="525600" y="1989000"/>
            <a:chExt cx="8177040" cy="2775960"/>
          </a:xfrm>
        </p:grpSpPr>
        <p:sp>
          <p:nvSpPr>
            <p:cNvPr id="105" name=""/>
            <p:cNvSpPr/>
            <p:nvPr/>
          </p:nvSpPr>
          <p:spPr>
            <a:xfrm>
              <a:off x="525600" y="1989000"/>
              <a:ext cx="81727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enotip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amet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bservad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sperado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2476440"/>
              <a:ext cx="8169120" cy="228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Silvestre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5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ormal,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+ vg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17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norm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+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3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Negro, vestigi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b vg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97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4000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-209160" y="274680"/>
            <a:ext cx="98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ruzamiento de prueba en Drosophila: Evidencia de lig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tre genes para color del cuerpo (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b+ normal b neg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y tamaño de alas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 (vg+ normal vg vestig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b+b/vg+vg  x  bb/vgv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7440" y="440064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 Número esperado suponiendo segregación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120" y="4756320"/>
            <a:ext cx="76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genes para el color del cuerpo y form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as en la Drosophila están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mayor frecuencia de descendientes        in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el dihíbrido tiene sus genes en fase acop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360" y="2467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48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2000" y="54928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55640" y="2852640"/>
          <a:ext cx="748836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4883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380880"/>
            <a:ext cx="7772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s loci ligados pueden estar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Acoplamient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los dos alelos dominantes sobre el mismo cromosoma, y los dos recesivos sobre el cromosoma homologo) o e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Fase de Repulsió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Ab/aB (un alelo dominante y otro recesivo sobre cada cromosom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4816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30492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mbinación en meiosis entre homó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371600"/>
            <a:ext cx="320040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cromosoma heredado por un hijo, nunca es exactamente igual a ninguna de las dos copias de ese cromosoma en su progenitor, contiene algunos segmentos de su abuelo y de su ab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Comic Sans MS"/>
              </a:rPr>
              <a:t>RECOMBINACIÓN</a:t>
            </a:r>
            <a:r>
              <a:rPr b="1" lang="es-CL" sz="4400" spc="-1" strike="noStrike">
                <a:solidFill>
                  <a:srgbClr val="800000"/>
                </a:solidFill>
                <a:latin typeface="Comic Sans MS"/>
              </a:rPr>
              <a:t> MEIO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10480" cy="281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Durante la meiosis l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 información genética es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reciprocament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tercambiada entre regiones del DNA que comparten secuencias homologas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, heredadas del padre y de la madre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ROSSING-OVE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avorece los cambios genéticos, la diversidad y la evolución de las espe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OSSING OV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66960"/>
            <a:ext cx="914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un ordenamiento nuevo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de secuencias gé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cas existentes,</a:t>
            </a: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l combinar el DNA paterno y materno sin creación de secuencias nue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tervienen solo 2 de las 4 cromátides del par de cromosomas homólogos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léculas de DNA sin cambio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EN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uevas combinaciones entre genes no alelos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1533" b="0"/>
          <a:stretch/>
        </p:blipFill>
        <p:spPr>
          <a:xfrm>
            <a:off x="2843280" y="1916280"/>
            <a:ext cx="2971800" cy="435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875" r="0" b="0"/>
          <a:stretch/>
        </p:blipFill>
        <p:spPr>
          <a:xfrm>
            <a:off x="2367000" y="2060640"/>
            <a:ext cx="414972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875" r="0" b="0"/>
          <a:stretch/>
        </p:blipFill>
        <p:spPr>
          <a:xfrm>
            <a:off x="4460760" y="2166840"/>
            <a:ext cx="4149720" cy="430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1533" b="0"/>
          <a:stretch/>
        </p:blipFill>
        <p:spPr>
          <a:xfrm>
            <a:off x="380880" y="2124000"/>
            <a:ext cx="2971800" cy="435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38120" y="228600"/>
            <a:ext cx="652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Entrecruzamiento visto medi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33"/>
                </a:solidFill>
                <a:latin typeface="Comic Sans MS"/>
              </a:rPr>
              <a:t>microscopía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1003"/>
          <a:stretch/>
        </p:blipFill>
        <p:spPr>
          <a:xfrm>
            <a:off x="3462480" y="0"/>
            <a:ext cx="4309920" cy="198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37339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Entrecruzamiento en el nivel del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8330" r="0" b="35955"/>
          <a:stretch/>
        </p:blipFill>
        <p:spPr>
          <a:xfrm>
            <a:off x="3492360" y="1916280"/>
            <a:ext cx="4310280" cy="244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61952" r="0" b="0"/>
          <a:stretch/>
        </p:blipFill>
        <p:spPr>
          <a:xfrm>
            <a:off x="3492360" y="4221000"/>
            <a:ext cx="4310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7543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762120" y="30240"/>
            <a:ext cx="10668240" cy="5799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Ligamiento y mapas  genét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76500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349360"/>
            <a:ext cx="741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principal requerimiento es que las dos moléculas que recombinen sean homól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es un mecanismo complejo con varios pasos catalizados por un gran número de proteínas diferentes: Rec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7632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410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0" y="2133720"/>
            <a:ext cx="1440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ssing-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269244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13244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iosis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0560" y="5962680"/>
            <a:ext cx="136836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4920" y="6437160"/>
            <a:ext cx="115236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ar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44280"/>
            <a:ext cx="2156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5840" y="349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428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3762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9440" y="148428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1816200"/>
            <a:ext cx="2142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51280" y="3141720"/>
            <a:ext cx="217080" cy="518400"/>
            <a:chOff x="3851280" y="3141720"/>
            <a:chExt cx="217080" cy="518400"/>
          </a:xfrm>
        </p:grpSpPr>
        <p:sp>
          <p:nvSpPr>
            <p:cNvPr id="151" name=""/>
            <p:cNvSpPr/>
            <p:nvPr/>
          </p:nvSpPr>
          <p:spPr>
            <a:xfrm>
              <a:off x="3852360" y="314172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341388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06920" y="4869000"/>
            <a:ext cx="217080" cy="518400"/>
            <a:chOff x="3706920" y="4869000"/>
            <a:chExt cx="217080" cy="518400"/>
          </a:xfrm>
        </p:grpSpPr>
        <p:sp>
          <p:nvSpPr>
            <p:cNvPr id="154" name=""/>
            <p:cNvSpPr/>
            <p:nvPr/>
          </p:nvSpPr>
          <p:spPr>
            <a:xfrm>
              <a:off x="3708000" y="486900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6920" y="5141160"/>
              <a:ext cx="21600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867280" y="347184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520056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14920" y="4869000"/>
            <a:ext cx="216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4560" y="3112920"/>
            <a:ext cx="236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762120"/>
            <a:ext cx="331128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BICADOS EN EL MISMO                CROMOSOMA (Sinténicos), EN DISTINTO LOCUS NO ALE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 NO SE DISTRIBUYEN INDEPENDIENTE UNO DEL O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FIRMAN LA BASE CROMOSOMICA DE LA H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ÁCTER VARIABLE DADO POR LA RECOMBINACION MEIOTICA DE LOS CROMOSO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762120"/>
            <a:ext cx="10080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ina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952560"/>
            <a:ext cx="754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44960" y="1066680"/>
            <a:ext cx="49467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920" y="315288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ES LIG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HIBRID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AL EN MÁS DEL 50%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S DEL 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MBINANTE EN MENOS DEL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34596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s no lig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0792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híbrido produce 4 gametos en iguales propor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01080" y="1052640"/>
            <a:ext cx="194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no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1076400"/>
            <a:ext cx="16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Genes 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981000"/>
            <a:ext cx="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498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548640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La probabilidad de ocurrencia de “crossing-o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varía directamente con la distancia física entre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genes en un cromo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0320" y="189000"/>
            <a:ext cx="88344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son genes no alelos que están en el mismo cromosoma. Se caracterizan por la tendencia a permanecer juntos en la formación de gam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s ligados forman recombinantes a través de “crossing-over” en menos del 50% de los gametos formados; los del tipo parental son más del 50%. La frecuencia exacta depende de la distancia entr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definir ligamiento entre genes se puede examinar la progenie de un cruzamiento de prueba de 2 pun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Genes dispuestos en fase acoplamiento o repul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La descendencia estará distribuida en dos clases de alta y 2 clases de baja frecuencia (genes recombin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92280"/>
            <a:ext cx="49528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34040" y="189000"/>
            <a:ext cx="794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pas genéticos son construidos a partir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ciones de ligamiento establecidas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r cruzas gen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ación de la de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s li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1337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913120"/>
            <a:ext cx="6858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16280"/>
            <a:ext cx="719280" cy="446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013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recuencia de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05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Medida 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2293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486400" y="2895480"/>
            <a:ext cx="1143000" cy="38124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"/>
          <p:cNvSpPr/>
          <p:nvPr/>
        </p:nvSpPr>
        <p:spPr>
          <a:xfrm>
            <a:off x="2286000" y="1371600"/>
            <a:ext cx="304920" cy="3808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026120" y="2025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3440" y="2286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685800" y="6858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8600" y="762120"/>
            <a:ext cx="8381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e la distancia relativa entre dos genes dependiendo de la tendencia a segregar juntos en la mei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presenta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 frecuencia de recombinación entre dos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803160" y="2698920"/>
            <a:ext cx="30492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797200" y="2711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102120" y="263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3454560" y="2620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2784600" y="30639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089160" y="2987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441600" y="2973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2874960" y="225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3319560" y="22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1143000" y="2514600"/>
            <a:ext cx="5791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y 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no 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010640" y="1981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147080" y="291456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7451640" y="2838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7804080" y="2824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175520" y="35179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80440" y="34416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7832880" y="342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6899400" y="2470320"/>
            <a:ext cx="1600200" cy="5778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6858000" y="3048120"/>
            <a:ext cx="1600200" cy="65376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1219320" y="1084320"/>
            <a:ext cx="190476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3124080" y="1828800"/>
            <a:ext cx="32004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4"/>
          <p:cNvSpPr/>
          <p:nvPr/>
        </p:nvSpPr>
        <p:spPr>
          <a:xfrm rot="16200000">
            <a:off x="8110440" y="28270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724068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7608960" y="242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8976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3418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24104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7685280" y="31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257800" y="441972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727200" y="422280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057400" y="426708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21207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5"/>
          <p:cNvSpPr/>
          <p:nvPr/>
        </p:nvSpPr>
        <p:spPr>
          <a:xfrm>
            <a:off x="3048120" y="41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2044800" y="461952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7"/>
          <p:cNvSpPr/>
          <p:nvPr/>
        </p:nvSpPr>
        <p:spPr>
          <a:xfrm>
            <a:off x="2108160" y="45435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3048120" y="452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19832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2821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1143000" y="4038480"/>
            <a:ext cx="5410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y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A y B. Li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e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267080" y="54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≤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≤ 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267080" y="5486400"/>
            <a:ext cx="1600200" cy="533520"/>
          </a:xfrm>
          <a:prstGeom prst="rect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0"/>
          <p:cNvSpPr/>
          <p:nvPr/>
        </p:nvSpPr>
        <p:spPr>
          <a:xfrm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1"/>
          <p:cNvSpPr/>
          <p:nvPr/>
        </p:nvSpPr>
        <p:spPr>
          <a:xfrm flipH="1">
            <a:off x="2362320" y="42670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2"/>
          <p:cNvSpPr/>
          <p:nvPr/>
        </p:nvSpPr>
        <p:spPr>
          <a:xfrm>
            <a:off x="5329080" y="4707000"/>
            <a:ext cx="91944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978200" y="37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898000" y="376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>
            <a:off x="7099200" y="43560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5"/>
          <p:cNvSpPr/>
          <p:nvPr/>
        </p:nvSpPr>
        <p:spPr>
          <a:xfrm>
            <a:off x="7404120" y="428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6"/>
          <p:cNvSpPr/>
          <p:nvPr/>
        </p:nvSpPr>
        <p:spPr>
          <a:xfrm>
            <a:off x="7756560" y="4265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7099200" y="4965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7404120" y="488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7756560" y="4875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54"/>
          <p:cNvSpPr/>
          <p:nvPr/>
        </p:nvSpPr>
        <p:spPr>
          <a:xfrm>
            <a:off x="6851520" y="39117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55"/>
          <p:cNvSpPr/>
          <p:nvPr/>
        </p:nvSpPr>
        <p:spPr>
          <a:xfrm>
            <a:off x="6781680" y="44956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7175520" y="5651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7480440" y="557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4"/>
          <p:cNvSpPr/>
          <p:nvPr/>
        </p:nvSpPr>
        <p:spPr>
          <a:xfrm>
            <a:off x="7832880" y="5560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7"/>
          <p:cNvSpPr/>
          <p:nvPr/>
        </p:nvSpPr>
        <p:spPr>
          <a:xfrm>
            <a:off x="7251840" y="63374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8"/>
          <p:cNvSpPr/>
          <p:nvPr/>
        </p:nvSpPr>
        <p:spPr>
          <a:xfrm>
            <a:off x="7556400" y="626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9"/>
          <p:cNvSpPr/>
          <p:nvPr/>
        </p:nvSpPr>
        <p:spPr>
          <a:xfrm>
            <a:off x="7908840" y="6246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2"/>
          <p:cNvSpPr/>
          <p:nvPr/>
        </p:nvSpPr>
        <p:spPr>
          <a:xfrm>
            <a:off x="6927840" y="52070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73"/>
          <p:cNvSpPr/>
          <p:nvPr/>
        </p:nvSpPr>
        <p:spPr>
          <a:xfrm>
            <a:off x="6934320" y="58672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6248520" y="38098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5"/>
          <p:cNvSpPr/>
          <p:nvPr/>
        </p:nvSpPr>
        <p:spPr>
          <a:xfrm rot="16200000">
            <a:off x="5962680" y="4327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6"/>
          <p:cNvSpPr/>
          <p:nvPr/>
        </p:nvSpPr>
        <p:spPr>
          <a:xfrm rot="16200000">
            <a:off x="7880760" y="5610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603720" y="6019920"/>
            <a:ext cx="61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recuencia de gametos recombinantes depend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frecuencia de re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79"/>
          <p:cNvSpPr/>
          <p:nvPr/>
        </p:nvSpPr>
        <p:spPr>
          <a:xfrm>
            <a:off x="700200" y="6372360"/>
            <a:ext cx="58528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0"/>
          <p:cNvSpPr/>
          <p:nvPr/>
        </p:nvSpPr>
        <p:spPr>
          <a:xfrm>
            <a:off x="700200" y="6669000"/>
            <a:ext cx="38718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7205760" y="384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7574040" y="382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7206120" y="452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7650360" y="451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7320240" y="5218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7688520" y="520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732024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764480" y="5891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2590920" y="3048120"/>
            <a:ext cx="18288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492960" y="1263600"/>
            <a:ext cx="1143000" cy="3808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9760" y="457200"/>
            <a:ext cx="23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eo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762120" y="914400"/>
            <a:ext cx="220968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6477480" y="12193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2"/>
          <p:cNvSpPr/>
          <p:nvPr/>
        </p:nvSpPr>
        <p:spPr>
          <a:xfrm>
            <a:off x="358920" y="2013120"/>
            <a:ext cx="304560" cy="152280"/>
          </a:xfrm>
          <a:prstGeom prst="ellipse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838080" y="3670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901800" y="359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1828800" y="3579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6"/>
          <p:cNvSpPr/>
          <p:nvPr/>
        </p:nvSpPr>
        <p:spPr>
          <a:xfrm>
            <a:off x="825480" y="4022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888840" y="39466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1828800" y="393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7639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167832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7639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1678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3"/>
          <p:cNvSpPr/>
          <p:nvPr/>
        </p:nvSpPr>
        <p:spPr>
          <a:xfrm>
            <a:off x="685800" y="1828800"/>
            <a:ext cx="5410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ó muy sepa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regación aleato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s los game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nen la misma probabilida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8"/>
          <p:cNvSpPr/>
          <p:nvPr/>
        </p:nvSpPr>
        <p:spPr>
          <a:xfrm>
            <a:off x="1219320" y="3276720"/>
            <a:ext cx="30456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79"/>
          <p:cNvSpPr/>
          <p:nvPr/>
        </p:nvSpPr>
        <p:spPr>
          <a:xfrm>
            <a:off x="3200400" y="4800600"/>
            <a:ext cx="1066680" cy="533520"/>
          </a:xfrm>
          <a:prstGeom prst="ellipse">
            <a:avLst/>
          </a:prstGeom>
          <a:noFill/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6566040" y="252720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5"/>
          <p:cNvSpPr/>
          <p:nvPr/>
        </p:nvSpPr>
        <p:spPr>
          <a:xfrm>
            <a:off x="6870600" y="245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7223040" y="2436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6566040" y="31370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0"/>
          <p:cNvSpPr/>
          <p:nvPr/>
        </p:nvSpPr>
        <p:spPr>
          <a:xfrm>
            <a:off x="6870600" y="306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1"/>
          <p:cNvSpPr/>
          <p:nvPr/>
        </p:nvSpPr>
        <p:spPr>
          <a:xfrm>
            <a:off x="7223040" y="3046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54"/>
          <p:cNvSpPr/>
          <p:nvPr/>
        </p:nvSpPr>
        <p:spPr>
          <a:xfrm>
            <a:off x="6318360" y="2082960"/>
            <a:ext cx="1600200" cy="58392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5"/>
          <p:cNvSpPr/>
          <p:nvPr/>
        </p:nvSpPr>
        <p:spPr>
          <a:xfrm>
            <a:off x="6248520" y="2666880"/>
            <a:ext cx="1600200" cy="660600"/>
          </a:xfrm>
          <a:prstGeom prst="ellipse">
            <a:avLst/>
          </a:pr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6642000" y="38228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3"/>
          <p:cNvSpPr/>
          <p:nvPr/>
        </p:nvSpPr>
        <p:spPr>
          <a:xfrm>
            <a:off x="6946920" y="374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4"/>
          <p:cNvSpPr/>
          <p:nvPr/>
        </p:nvSpPr>
        <p:spPr>
          <a:xfrm>
            <a:off x="7299360" y="3732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6718320" y="4508640"/>
            <a:ext cx="11430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7023240" y="443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7375680" y="44179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72"/>
          <p:cNvSpPr/>
          <p:nvPr/>
        </p:nvSpPr>
        <p:spPr>
          <a:xfrm>
            <a:off x="6394320" y="3378240"/>
            <a:ext cx="1600200" cy="601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3"/>
          <p:cNvSpPr/>
          <p:nvPr/>
        </p:nvSpPr>
        <p:spPr>
          <a:xfrm>
            <a:off x="6400800" y="4038480"/>
            <a:ext cx="16002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5"/>
          <p:cNvSpPr/>
          <p:nvPr/>
        </p:nvSpPr>
        <p:spPr>
          <a:xfrm rot="16200000">
            <a:off x="5429160" y="2498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6"/>
          <p:cNvSpPr/>
          <p:nvPr/>
        </p:nvSpPr>
        <p:spPr>
          <a:xfrm rot="16200000">
            <a:off x="7347240" y="3781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6672600" y="269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7117200" y="268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678672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71553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678672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7231320" y="4062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670752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075800" y="2120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920" y="260280"/>
            <a:ext cx="396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apeo genétic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560" y="1073160"/>
            <a:ext cx="5702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peo genético humano requier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arcadores genéticos son caract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endelianos, suficientemente polimor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ara mapear se requiere de marc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parados por no más de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marcadores genéticos act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usados son los Microsatélites qu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cuencias genómicas de nucleó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repetidos (repetidos de di,tri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etranucleotido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stas secuencias son fácil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mplificadas por PC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590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Recombinación genética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89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recombinación homóloga implica la formación de DNA heterodúplex requiere la rotura y posterior unión del DNA cromos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76800" y="128520"/>
            <a:ext cx="39672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838080" y="534960"/>
            <a:ext cx="7543800" cy="5560920"/>
            <a:chOff x="838080" y="534960"/>
            <a:chExt cx="7543800" cy="55609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rcRect l="11526" t="0" r="1905" b="0"/>
            <a:stretch/>
          </p:blipFill>
          <p:spPr>
            <a:xfrm>
              <a:off x="838080" y="534960"/>
              <a:ext cx="7543800" cy="46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219320" y="2820960"/>
              <a:ext cx="65530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rcRect l="2688" t="0" r="5037" b="11474"/>
            <a:stretch/>
          </p:blipFill>
          <p:spPr>
            <a:xfrm>
              <a:off x="838080" y="3811680"/>
              <a:ext cx="7543800" cy="22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27000" y="48888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recuencia de Recombinación como med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9880" y="1860480"/>
            <a:ext cx="668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antidad de crossing-over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enes ligados se mide por la frecuenc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gametos recomb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or convención se estableció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 unidad de mapa (UM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% frecuencia de recombinación = 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600" y="4908600"/>
            <a:ext cx="68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recuencia de recombinación se ob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 los datos del test de cruza, calculand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rción de progenie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33440" y="115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cuencia de recombinación (R 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4221000"/>
            <a:ext cx="3733920" cy="241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8880" y="23623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UM = 1% Recomb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720" y="585720"/>
            <a:ext cx="81727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tip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erado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058760"/>
            <a:ext cx="8169480" cy="2288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lves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rmal,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+ vg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7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norm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3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ack, vestig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b vg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7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2565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7120" y="3119400"/>
            <a:ext cx="65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ual sería la frecuencia de recombinación y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los genes en cuest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3830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 = 236 + 217 =  0,1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37893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 = progenie recomb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otal de prog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515772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5410080"/>
            <a:ext cx="4429800" cy="990720"/>
            <a:chOff x="1676520" y="5410080"/>
            <a:chExt cx="4429800" cy="990720"/>
          </a:xfrm>
        </p:grpSpPr>
        <p:sp>
          <p:nvSpPr>
            <p:cNvPr id="331" name=""/>
            <p:cNvSpPr/>
            <p:nvPr/>
          </p:nvSpPr>
          <p:spPr>
            <a:xfrm>
              <a:off x="1676520" y="6095880"/>
              <a:ext cx="441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5000" y="5867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6840" y="5456160"/>
              <a:ext cx="5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b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3480" y="54100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Comic Sans MS"/>
                </a:rPr>
                <a:t>vg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5080" y="556272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8,9 c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11280" y="479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03680" y="4724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% R= 1UM o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729080" y="1843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áxima frecuencia de Recombinación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9920" y="5373720"/>
            <a:ext cx="755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Mientras mayor es la distancia que separa dos genes,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ventos de “crossing-over” pueden ocurrir y mayor es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frecuencia de  recombin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50%= segregación independ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67360" y="149400"/>
            <a:ext cx="80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l mapa genético muestra la localización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los genes y la distancia entre ell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orcentaje de recombinación en cruz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 prue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1 unidad de distancia de mapa (UM)= 1 cM =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de recombinación (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 subestima la verdadera distancia entre 2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uando ésta es muy grande: múltiples crossing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(n°par) reproducen los parentales en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recuencia que los recombin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a mejor estimación de la distancia entr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e logra con un 3er gen que acorte el interva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765000"/>
            <a:ext cx="4876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04760" y="838080"/>
            <a:ext cx="67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PAS DE LIGAMIENTO GEN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120" y="1628640"/>
            <a:ext cx="8867880" cy="52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gan la localización relativa de genes a 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rgo de un cromosoma y la distancia rel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tre loci mu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requi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blecer ligamiento entre genes por me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 cruce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terminar la frecuencia de recomb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distancia de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omic Sans MS"/>
              </a:rPr>
              <a:t>1 unidad de distancia de mapa (UM)= 1 cM =1% Frecuencia de recombinación (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Verdana"/>
              </a:rPr>
              <a:t>Mapeo en genoma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rcadore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álculo del Lod-Score (Z)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de la probabilidad de que 2 alelos están ligados y no asociados por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557360"/>
            <a:ext cx="64771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7"/>
          <p:cNvSpPr/>
          <p:nvPr/>
        </p:nvSpPr>
        <p:spPr>
          <a:xfrm>
            <a:off x="914400" y="763560"/>
            <a:ext cx="762120" cy="4572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3"/>
          <p:cNvSpPr/>
          <p:nvPr/>
        </p:nvSpPr>
        <p:spPr>
          <a:xfrm>
            <a:off x="920880" y="7812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 =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44"/>
          <p:cNvSpPr/>
          <p:nvPr/>
        </p:nvSpPr>
        <p:spPr>
          <a:xfrm>
            <a:off x="2514600" y="10684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2432520" y="53352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están ligados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,5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2439000" y="91440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dad de los resultados si los loci NO están ligados 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0,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1371600" y="182880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≥ 3 se acepta como evidencia de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1371600" y="22096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D≤ -2 se acepta como evidencia de NO lig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2"/>
          <p:cNvSpPr/>
          <p:nvPr/>
        </p:nvSpPr>
        <p:spPr>
          <a:xfrm>
            <a:off x="1905120" y="609480"/>
            <a:ext cx="7086600" cy="990720"/>
          </a:xfrm>
          <a:prstGeom prst="rect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181480" cy="3284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09480" y="5137200"/>
            <a:ext cx="71629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calización aproximada de algunas regiones cromosómicas relacionadas con la obesidad en estudios de li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80880"/>
            <a:ext cx="73152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¿Es posible cuantificar el riesgo de desarrollar obesidad asociado a ciertos polimorfismos genétic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716040"/>
            <a:ext cx="4898880" cy="568476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4648320" y="334800"/>
            <a:ext cx="4532760" cy="6012000"/>
            <a:chOff x="4648320" y="334800"/>
            <a:chExt cx="4532760" cy="601200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rcRect l="0" t="0" r="74962" b="0"/>
            <a:stretch/>
          </p:blipFill>
          <p:spPr>
            <a:xfrm>
              <a:off x="4648320" y="334800"/>
              <a:ext cx="990360" cy="60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572440" y="1630080"/>
              <a:ext cx="297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g Proteína grupo sanguí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5840" y="2239920"/>
              <a:ext cx="32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Ictiosis (un efermedad de la pi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41200" y="2620800"/>
              <a:ext cx="177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binismo o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6120" y="3230280"/>
              <a:ext cx="32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ngioqueratoma (crecto celul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66960" y="361152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Centróm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15840" y="3840120"/>
              <a:ext cx="23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Fosfoglicerato-quin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0680" y="4068720"/>
              <a:ext cx="191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Alfa-galactosid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9040" y="4189320"/>
              <a:ext cx="48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X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9920" y="475452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Deutan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7080" y="51354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G6P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9320" y="5440320"/>
              <a:ext cx="34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Protano (ceguera color rojo-ver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9680" y="571320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660033"/>
                  </a:solidFill>
                  <a:latin typeface="Comic Sans MS"/>
                </a:rPr>
                <a:t>Hemofilí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56160" y="60480"/>
            <a:ext cx="71348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Cartografía a través de la herencia ligada al cromosoma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33"/>
                </a:solidFill>
                <a:latin typeface="Comic Sans MS"/>
              </a:rPr>
              <a:t>(359 loci se han asignado al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80880" y="914400"/>
          <a:ext cx="817092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17092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341360"/>
            <a:ext cx="8280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ay dos distintos mecanis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os requieren enzimas de recombinación especializadas y sitios de DNA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combinación sitio específico transposiciona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 No involucra la formación de DNA heterodu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. Recombinación conservativa sitio específica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Involucra la producción de un heteroduplex corto, y por lo tanto requiere una secuencia corta de DNA que es igual en el donador y recep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60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genética no homó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26028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Recombinación Transposicional Específica de Si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276640"/>
            <a:ext cx="820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es necesaria la presencia de una secuencia específica de DNA en el cromosoma “dian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transposición esta catalizada por enzimas denominadas transpos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transposomas son elementos de DNA que pueden moverse de un sito a otro del genoma de bacterias y eucari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plasmidios y los transposones están obligados a propagarse solo dentro de una célula específica y en la descendencia de la mi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724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igura 4-17. Representación del contenido de secuencias nucleotídicas del genoma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1479600"/>
            <a:ext cx="8244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 o retrotransposone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 su proceso de transposición primero se transcriben generando ARN que lueg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ranscriptasa inversa copia a ADN. Este ADN se reinserta en el genoma en una nueva loc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on fragmentos de ADN que se mueven de un lugar a otro del genoma mediante un mecanismo de "cortar y pegar" que no requiere la síntesis de un intermediario de A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Los de clase III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 Son minitransposones que se comportan como elementos móviles. Un ejemplo de este tipo son los elementos conocidos con las siglas MITE "Miniature Inverted-repeats Transposable Element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333360"/>
            <a:ext cx="712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e distinguen tres tipos de elemento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70028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n unidades genéticas móviles con una amp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versidad en su estructura y en los mecanismos de transposición que utiliz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 elementos transponibles son muy abundantes en el genoma humano y representan una fuerza importante en la modificación de genes y genomas a lo largo de la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posones: Principales elementos móviles del genoma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40:04Z</dcterms:created>
  <dc:creator>Cristian Aliste</dc:creator>
  <dc:description/>
  <dc:language>en-US</dc:language>
  <cp:lastModifiedBy>PARIS</cp:lastModifiedBy>
  <dcterms:modified xsi:type="dcterms:W3CDTF">2010-06-06T13:06:35Z</dcterms:modified>
  <cp:revision>62</cp:revision>
  <dc:subject/>
  <dc:title>Sin título de diapositiva</dc:title>
</cp:coreProperties>
</file>