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19.jpeg" ContentType="image/jpeg"/>
  <Override PartName="/ppt/media/image21.jpeg" ContentType="image/jpeg"/>
  <Override PartName="/ppt/media/image17.gif" ContentType="image/gif"/>
  <Override PartName="/ppt/media/image50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2.gif" ContentType="image/gif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.jpeg" ContentType="image/jpeg"/>
  <Override PartName="/ppt/media/image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33.jpeg" ContentType="image/jpeg"/>
  <Override PartName="/ppt/media/image45.png" ContentType="image/png"/>
  <Override PartName="/ppt/media/image34.wmf" ContentType="image/x-wmf"/>
  <Override PartName="/ppt/media/image11.gif" ContentType="image/gif"/>
  <Override PartName="/ppt/media/image36.png" ContentType="image/png"/>
  <Override PartName="/ppt/media/image37.png" ContentType="image/png"/>
  <Override PartName="/ppt/media/image48.jpeg" ContentType="image/jpeg"/>
  <Override PartName="/ppt/media/image30.jpeg" ContentType="image/jpeg"/>
  <Override PartName="/ppt/media/image31.png" ContentType="image/png"/>
  <Override PartName="/ppt/media/image43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9.jpeg" ContentType="image/jpeg"/>
  <Override PartName="/ppt/media/image12.png" ContentType="image/png"/>
  <Override PartName="/ppt/media/image2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5.jpeg" ContentType="image/jpeg"/>
  <Override PartName="/ppt/media/image26.jpeg" ContentType="image/jpeg"/>
  <Override PartName="/ppt/media/image4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5020-6F3F-4946-BC6D-6EA735EC1C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clasificacion fenotipica se realiza agrupando los distintos valores en clases establecidas arbitrariamente según la unidad de med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mayoría de los caracteres en los organismos están determinados por el efecto combinado de muchos loci diferentes y también son influenciados por el amb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acteres meris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545-C69B-42BE-B1F0-267E79A5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DCB-5A09-4FC9-B277-1F229618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B20-5FF1-4F04-B24A-49606FBE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3DD-C36E-469D-9D48-6B4EF9E4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06F-E74B-48E2-99B8-D47C3B78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CA1-CE0C-4525-9396-A2CD1B71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19C6-1497-42E1-A445-55B4F75F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BD1-8E95-40DE-BDFC-E2ED22E0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972-FFD9-4530-86A4-9DFA1190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051-405E-46F9-B684-B05A824D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9F6-E7F0-45F3-8A51-94723586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36F-31A5-4F15-B4B0-5EBAE0D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6B87-E3A4-4F82-9D21-B05EA43F72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125960" cy="3371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86400" y="1219320"/>
            <a:ext cx="25909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Monotype Corsiva"/>
              </a:rPr>
              <a:t>Gené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495680"/>
            <a:ext cx="4114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Mónica María Saldarri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75964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404640"/>
            <a:ext cx="734544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Diferentes genotipos pueden manifestar el mismo f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19640" y="401760"/>
            <a:ext cx="10810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125360"/>
            <a:ext cx="77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ecuencia de ácidos nucleicos (DNA o RNA en algunos virus) que codifica para un producto (RNA o polipeptido), que solo o en combinación con otros productos tiene una función distintiva dentro de un organ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176720" cy="38224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72000" cy="30481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19640" y="115920"/>
            <a:ext cx="129672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90792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Un sitio sobre un cromosoma, mas específicamente el sitio que ocupa un gen en un cromos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143160" cy="38098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6659640" y="1484280"/>
            <a:ext cx="14396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Al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133720"/>
            <a:ext cx="44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onstituye una variante de un 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56000" y="2637000"/>
            <a:ext cx="4105440" cy="3887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5400000">
            <a:off x="689760" y="1262520"/>
            <a:ext cx="3859200" cy="401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88000" y="1773360"/>
            <a:ext cx="38876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General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as is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y aloenzimas son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expresión de un gen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varios al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4640"/>
            <a:ext cx="12970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Al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105000" cy="33130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95280" y="4508640"/>
            <a:ext cx="2089080" cy="16185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Mu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fenotipos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el produc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un gen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varios 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732720" y="3357720"/>
            <a:ext cx="1952640" cy="1704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635280" y="333360"/>
            <a:ext cx="5400720" cy="30258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3851280" y="4437000"/>
            <a:ext cx="2519280" cy="16185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os gru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anguíneos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el produc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un gen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varios 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3573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357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19280" y="422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00360" y="260280"/>
            <a:ext cx="216072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Palatino Linotype"/>
              </a:rPr>
              <a:t>Hapl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1052640"/>
            <a:ext cx="78487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Una de varias secuencias de DNA de un gen dado que puede ser distinguida por métodos moleculares com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secuenciamiento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d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616572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os haplotipos son equivalentes a los 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647120" cy="4067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35640" y="1989000"/>
            <a:ext cx="2808360" cy="1008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Haplotipos del gen de la coenzima II de una especie de pr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132000" y="260280"/>
            <a:ext cx="21607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Mu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82090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Una alteración del material genético, usualmente de una secuencia de DNA que da origen a nuevos alelos o haplo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627280" y="2276640"/>
            <a:ext cx="3384360" cy="1235160"/>
            <a:chOff x="2627280" y="2276640"/>
            <a:chExt cx="3384360" cy="1235160"/>
          </a:xfrm>
        </p:grpSpPr>
        <p:sp>
          <p:nvSpPr>
            <p:cNvPr id="125" name=""/>
            <p:cNvSpPr/>
            <p:nvPr/>
          </p:nvSpPr>
          <p:spPr>
            <a:xfrm>
              <a:off x="3419280" y="2276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66"/>
                  </a:solidFill>
                  <a:latin typeface="Cooper Black"/>
                </a:rPr>
                <a:t>GEN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7280" y="2853000"/>
              <a:ext cx="29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8720" y="2924280"/>
              <a:ext cx="3382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C A T C C A A G G 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T C G T A G G T T C C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8560" y="3500640"/>
              <a:ext cx="29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714920" y="464832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4719600"/>
            <a:ext cx="338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 G C A T C C </a:t>
            </a: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G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A G G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T C G T A G G </a:t>
            </a: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T C C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6200" y="529596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26920" y="4363920"/>
            <a:ext cx="3383280" cy="1009800"/>
            <a:chOff x="826920" y="4363920"/>
            <a:chExt cx="3383280" cy="1009800"/>
          </a:xfrm>
        </p:grpSpPr>
        <p:sp>
          <p:nvSpPr>
            <p:cNvPr id="133" name=""/>
            <p:cNvSpPr/>
            <p:nvPr/>
          </p:nvSpPr>
          <p:spPr>
            <a:xfrm>
              <a:off x="826920" y="4653000"/>
              <a:ext cx="33832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C A T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T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 C A A G G 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T C G T A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 G T T C C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826920" y="4363920"/>
              <a:ext cx="3024360" cy="1009800"/>
              <a:chOff x="826920" y="4363920"/>
              <a:chExt cx="3024360" cy="1009800"/>
            </a:xfrm>
          </p:grpSpPr>
          <p:sp>
            <p:nvSpPr>
              <p:cNvPr id="135" name=""/>
              <p:cNvSpPr/>
              <p:nvPr/>
            </p:nvSpPr>
            <p:spPr>
              <a:xfrm>
                <a:off x="826920" y="4581360"/>
                <a:ext cx="295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8560" y="5229360"/>
                <a:ext cx="295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50920" y="4363920"/>
                <a:ext cx="289080" cy="1009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1474920" y="573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ALELO 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4437000"/>
            <a:ext cx="2890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573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ALELO 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98920" y="3645000"/>
            <a:ext cx="504720" cy="647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3645000"/>
            <a:ext cx="720720" cy="647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710160"/>
            <a:ext cx="180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UTACIÓN</a:t>
            </a:r>
            <a:r>
              <a:rPr b="1" lang="es-MX" sz="1800" spc="-1" strike="noStrike">
                <a:solidFill>
                  <a:srgbClr val="bbe0e3"/>
                </a:solidFill>
                <a:latin typeface="Tahoma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371628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UTACIÓ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59280" y="260280"/>
            <a:ext cx="280800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Copia Gé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1052640"/>
            <a:ext cx="77058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Numero representativo de un gen en una muestra o pob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528720" cy="4235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920" y="6308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ariotipo 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981600" cy="32288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4716360" y="4941720"/>
            <a:ext cx="4032360" cy="1472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Gen autosomico: Diploide: dos copias del 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Gameto:haploide: una sola copia del 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40464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1413000"/>
            <a:ext cx="7920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as diferencias en el fenotipo pueden deberse a diferencias genéticas, ambientales o am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50920" y="2781360"/>
          <a:ext cx="5185080" cy="36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781360"/>
                    <a:ext cx="5185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40464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557360"/>
            <a:ext cx="4824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erencias en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erencia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fectos mater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3141720"/>
            <a:ext cx="6362640" cy="32004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08080"/>
                </a:solidFill>
                <a:latin typeface="Arial"/>
              </a:rPr>
              <a:t>Gen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143000"/>
            <a:ext cx="73911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enética es una rama de las ciencias biológicas, cuyo objeto es el estudio de los patrones de herencia, del modo en que los rasgos y las características se transmiten de padres a hi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26028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907920"/>
            <a:ext cx="48243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ferencias en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92360" cy="3673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4114800" cy="3744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32360" y="5445000"/>
            <a:ext cx="39607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os genes mitocondriales son transmitidos principalmente por gametos femen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375160"/>
            <a:ext cx="396072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Los genes del cloroplasto  son transmitidos principalmente por gametos mascul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9640" y="26028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907920"/>
            <a:ext cx="482436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ferencias en e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530064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lasticidad fenotípica promedio en respuesta a la luz de hojas 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Rhododendron ponticum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(barras grises) y acebo (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Ilex aquifolium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, en blanco) en poblaciones del Sur de España (Cádiz) don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R. ponticum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 es autóctono, y en Bélgica, don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R. ponticum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 es exótico e invas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67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4360" y="26028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836640"/>
            <a:ext cx="287964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Efecto ma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484280"/>
            <a:ext cx="7920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ontribución de la madre al fenotipo de su progenie mas allá de un aporte equitativo de cromosomas esperado de cada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483840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46398" b="0"/>
          <a:stretch/>
        </p:blipFill>
        <p:spPr>
          <a:xfrm>
            <a:off x="971640" y="1341360"/>
            <a:ext cx="2879640" cy="4572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771640" y="260280"/>
            <a:ext cx="280836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Efecto ma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133720"/>
            <a:ext cx="2881440" cy="28382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Caracoles del género </a:t>
            </a:r>
            <a:r>
              <a:rPr b="1" i="1" lang="es-ES" sz="2000" spc="-1" strike="noStrike">
                <a:solidFill>
                  <a:srgbClr val="000000"/>
                </a:solidFill>
                <a:latin typeface="Palatino Linotype"/>
              </a:rPr>
              <a:t>Linnaea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. Sturtevant en 1923, observó que el enrollamiento de la concha de estos caracoles dependía del genotipo de la hembra utilizada en los cruzamien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360" y="1628640"/>
            <a:ext cx="4932360" cy="26535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s diferencias congénitas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cesariamente son debid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erencias gené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54936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5157720"/>
            <a:ext cx="676908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Conclusión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: la variación fenotí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urge de fuentes genética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67240" y="1989000"/>
            <a:ext cx="3452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362320" cy="1218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14600" y="2286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00"/>
                </a:solidFill>
                <a:latin typeface="Palatino Linotype"/>
              </a:rPr>
              <a:t>Tipos de caracte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85840" y="1600200"/>
            <a:ext cx="163368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754440" y="4343400"/>
            <a:ext cx="2874960" cy="966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219320" y="3581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Crom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3733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Microsaté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Oste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685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Morfología ex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914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Morf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SN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rcRect l="23076" t="16294" r="15386" b="25762"/>
          <a:stretch/>
        </p:blipFill>
        <p:spPr>
          <a:xfrm>
            <a:off x="6553080" y="1676520"/>
            <a:ext cx="213372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990720" y="4191120"/>
            <a:ext cx="2666880" cy="1760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781680" y="419112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705720" cy="987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00"/>
                </a:solidFill>
                <a:latin typeface="Palatino Linotype"/>
              </a:rPr>
              <a:t>Caracteres Continu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209680"/>
            <a:ext cx="29718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Palatino Linotype"/>
              </a:rPr>
              <a:t>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2209680"/>
            <a:ext cx="228600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Palatino Linotype"/>
              </a:rPr>
              <a:t>Mer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1371600"/>
            <a:ext cx="0" cy="7621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1447920"/>
            <a:ext cx="0" cy="7617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2120760" cy="243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3733560" cy="261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600200" y="57150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1800" spc="-1" strike="noStrike">
                <a:solidFill>
                  <a:srgbClr val="003300"/>
                </a:solidFill>
                <a:latin typeface="Palatino Linotype"/>
              </a:rPr>
              <a:t>Talla, peso, longevidad, producción del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377640"/>
            <a:ext cx="6019560" cy="61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00"/>
                </a:solidFill>
                <a:latin typeface="Palatino Linotype"/>
              </a:rPr>
              <a:t>Caracteres Merís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87280" y="1614600"/>
            <a:ext cx="6705720" cy="527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Caracteres de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Variación discontinua, diferentes cl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fenotíp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Efecto patente de un solo gen.  Ge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may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Se estudian apareamientos individ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y su proge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El análisis es por medio de propor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y rel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3640" y="260280"/>
            <a:ext cx="506880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GENÉTICA CUALITATIVA. Herencia monogénica: Herencia Mendel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52480" y="995400"/>
            <a:ext cx="7162920" cy="583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Caracteres de g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Variación continua. Las determinacio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fenotípicas muestran un espectro o g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Control poligénico. Los efectos de los ge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individuales son difícilmente detect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Genes men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El análisis es de tipo estadíst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proporcionando cálculos aproximados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parámetros de las pobl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380880"/>
            <a:ext cx="44956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GENÉTICA CUANT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828800"/>
            <a:ext cx="7696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prender los principios y mecanismos de transmisión de la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prender la relación entre genes y crom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ender los mecanismos que permiten la variabilidad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ocer los mecanismos de expresión y regulación de los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prender los procesos que regulan la frecuencia de los genes en las pob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457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99"/>
                </a:solidFill>
                <a:latin typeface="Arial"/>
              </a:rPr>
              <a:t>Objetivos específico</a:t>
            </a: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76320"/>
            <a:ext cx="83818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onotype Corsiva"/>
              </a:rPr>
              <a:t>La genética nos enfrenta a un sin número de dilemas é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70020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76720" y="1981080"/>
            <a:ext cx="766800" cy="8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52480" y="2057400"/>
            <a:ext cx="7542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791320" y="1981080"/>
            <a:ext cx="2590560" cy="2271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48520" y="1447920"/>
            <a:ext cx="16761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Euge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31240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Alimentos transgé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981080" y="4724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28600" y="4495680"/>
            <a:ext cx="1407960" cy="1447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14800" y="5257800"/>
            <a:ext cx="42670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Pérdida de biodiversidad 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114800" y="1905120"/>
            <a:ext cx="1273320" cy="2333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86400" y="4419720"/>
            <a:ext cx="29718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el buen na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89360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1028880" cy="2171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57600" y="304920"/>
            <a:ext cx="25909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Monotype Corsiva"/>
              </a:rPr>
              <a:t>Gené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43600" y="1828800"/>
            <a:ext cx="266220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5181480"/>
            <a:ext cx="20574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Enfoque cl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5181480"/>
            <a:ext cx="28195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Enfoque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590560" y="3049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049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152280"/>
            <a:ext cx="70866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Monotype Corsiva"/>
              </a:rPr>
              <a:t>Por qué estudiar genétic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143000"/>
            <a:ext cx="70866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Monotype Corsiva"/>
              </a:rPr>
              <a:t>La genética ocupa una posición central en la bi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2133720" cy="149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781680" y="1828800"/>
            <a:ext cx="135432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543800" y="3657600"/>
            <a:ext cx="1292400" cy="1714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19320" y="3733920"/>
            <a:ext cx="62481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260280"/>
            <a:ext cx="792144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Es muy importante definir y ent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052640"/>
            <a:ext cx="4103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Fenotip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Geno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Haplo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Mu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Frecuencia alé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Frecuencia genotí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opia gé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19640" y="476280"/>
            <a:ext cx="187308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Fen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413000"/>
            <a:ext cx="7704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aracterísticas morfológicas, fisiológicas, bioquímicas o del comportamiento de un individuo o de un grupo de individuos que difieren uno de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33019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19640" y="260280"/>
            <a:ext cx="20872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Gen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05264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La constitución genética de un individuo u organismo, o de un grupo de organ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559908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Diferentes genotipos a menudo difieren en el feno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Un genotipo dado quizás expresa mas de un feno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2525760" cy="2592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032360" cy="3672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3:25:20Z</dcterms:created>
  <dc:creator>PARIS</dc:creator>
  <dc:description/>
  <dc:language>en-US</dc:language>
  <cp:lastModifiedBy>PARIS</cp:lastModifiedBy>
  <dcterms:modified xsi:type="dcterms:W3CDTF">2010-05-20T10:50:55Z</dcterms:modified>
  <cp:revision>6</cp:revision>
  <dc:subject/>
  <dc:title>Diapositiva 1</dc:title>
</cp:coreProperties>
</file>