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9E0A-8C41-4FEF-BDD6-75A817E0B8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8805-48BB-48A6-88C0-22A0F498CD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4501-9A14-4C98-BBBF-0E1CD1F7E2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19CD-3D01-4D06-B8AF-74E5FDE151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1088-097B-4691-B702-A2C0883434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C9A-6748-4C9C-8E8E-A3F6BF75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E42-6E49-406B-872B-0F8F5B7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00B-7CD1-4990-BE4F-451924BD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8B5-E5EE-4CB3-98B4-4BD2DC76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DA5-A34D-48E0-B81C-687E2E02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E5D-BE93-4F3A-92EB-4FB50501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445-86A4-4458-BA80-1FA6DECA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259-BC79-4E2D-B86B-F022A6D8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10D-4758-44FC-ABCC-DF06800F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FD1-3C2B-4591-A391-24E15FD9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E45-B1AC-4E88-B455-2139E6A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444-B787-403A-BB00-218E5301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FFDD-B365-44EF-95E7-D91A28662C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421440" y="3524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áfico Ves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0718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421440" y="3524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áfico Ves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 Imagen" descr="ch13f1.gif"/>
          <p:cNvPicPr/>
          <p:nvPr/>
        </p:nvPicPr>
        <p:blipFill>
          <a:blip r:embed="rId1"/>
          <a:stretch/>
        </p:blipFill>
        <p:spPr>
          <a:xfrm>
            <a:off x="2567160" y="857160"/>
            <a:ext cx="3647880" cy="4125960"/>
          </a:xfrm>
          <a:prstGeom prst="rect">
            <a:avLst/>
          </a:prstGeom>
          <a:ln w="0">
            <a:noFill/>
          </a:ln>
        </p:spPr>
      </p:pic>
      <p:sp>
        <p:nvSpPr>
          <p:cNvPr id="79" name="6 CuadroTexto"/>
          <p:cNvSpPr/>
          <p:nvPr/>
        </p:nvSpPr>
        <p:spPr>
          <a:xfrm>
            <a:off x="2609280" y="5362560"/>
            <a:ext cx="365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verde: ruta endoc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rojo: ruta biosintética-secre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azul: rutas de reto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753160" cy="39718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>
            <a:off x="395280" y="4869000"/>
            <a:ext cx="5047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116000" y="4581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ta Biosintética secretora: proteínas van desde RE a membrana plasmática, o mediante endosomas tardíos a los 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395280" y="5445000"/>
            <a:ext cx="5047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166760" y="5248440"/>
            <a:ext cx="77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ta Endocítica, las moléculas son ingeridas y trasladadas a endosomas tempranos y vía endosomas tardíos van a los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395280" y="6237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190160" y="596916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as de Recuperación (de reto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581040" y="1484280"/>
            <a:ext cx="8094600" cy="3706920"/>
            <a:chOff x="581040" y="1484280"/>
            <a:chExt cx="8094600" cy="370692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581040" y="1666800"/>
              <a:ext cx="798192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4"/>
            <p:cNvSpPr/>
            <p:nvPr/>
          </p:nvSpPr>
          <p:spPr>
            <a:xfrm>
              <a:off x="6156360" y="1484280"/>
              <a:ext cx="2519280" cy="158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6 CuadroTexto"/>
          <p:cNvSpPr/>
          <p:nvPr/>
        </p:nvSpPr>
        <p:spPr>
          <a:xfrm>
            <a:off x="5016600" y="21430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mento do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5087520" y="505944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mento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1000080" y="500040"/>
            <a:ext cx="77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ansporte Vesicular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 mediado por vesículas recubiertas con proteínas específicas (cubierta citosól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609120" y="5500800"/>
            <a:ext cx="66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n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leccionar las moléculas adecuadas para transp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e otorga la forma a la vesícula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951120" y="6397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RE a Gol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85840" y="421488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 el transporte posterior a RE ocurre mediante vesículas (ocurren ciclos de gemación y fus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abandonan el RE en vesíc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Sólo las proteínas plegadas correctamente abandonan el 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6 Imagen" descr="ch13fu1.gif"/>
          <p:cNvPicPr/>
          <p:nvPr/>
        </p:nvPicPr>
        <p:blipFill>
          <a:blip r:embed="rId1"/>
          <a:stretch/>
        </p:blipFill>
        <p:spPr>
          <a:xfrm>
            <a:off x="3098880" y="1143000"/>
            <a:ext cx="268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886320" y="467532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lasificación y distribución de los productos d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íntesis proteoglicanes, moléculas constituyentes de la pared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glucosaminoglicanes de la matriz extra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cesamiento de oligosacáridos adicionados en 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54480" y="25236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de Gol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379080" y="404640"/>
            <a:ext cx="6959880" cy="3959280"/>
            <a:chOff x="379080" y="404640"/>
            <a:chExt cx="6959880" cy="3959280"/>
          </a:xfrm>
        </p:grpSpPr>
        <p:pic>
          <p:nvPicPr>
            <p:cNvPr id="100" name="Picture 2" descr=""/>
            <p:cNvPicPr/>
            <p:nvPr/>
          </p:nvPicPr>
          <p:blipFill>
            <a:blip r:embed="rId1"/>
            <a:stretch/>
          </p:blipFill>
          <p:spPr>
            <a:xfrm>
              <a:off x="1805040" y="601200"/>
              <a:ext cx="5533920" cy="37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"/>
            <p:cNvSpPr/>
            <p:nvPr/>
          </p:nvSpPr>
          <p:spPr>
            <a:xfrm>
              <a:off x="379080" y="146484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a Ent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389160" y="326520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a 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 flipV="1">
              <a:off x="6143760" y="78516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5360760" y="40464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reso a 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>
              <a:off x="5715000" y="37112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1"/>
          <p:cNvSpPr/>
          <p:nvPr/>
        </p:nvSpPr>
        <p:spPr>
          <a:xfrm>
            <a:off x="5000760" y="4145040"/>
            <a:ext cx="36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osomas, vesículas de secreción o superficie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3 CuadroTexto"/>
          <p:cNvSpPr/>
          <p:nvPr/>
        </p:nvSpPr>
        <p:spPr>
          <a:xfrm>
            <a:off x="289440" y="242892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isternas del Gol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19280" y="1638360"/>
            <a:ext cx="5761080" cy="3806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468360" y="281160"/>
            <a:ext cx="86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on residentes del RE y se escapan al cis Golgi son devueltas por transporte ves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Receptor de membrana del cis Golgi las captura y regre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reconocen la señal de retención de 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03120" y="5734080"/>
            <a:ext cx="64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elimina la señal la proteína es secretada (y a la invers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ch13f25.gif"/>
          <p:cNvPicPr/>
          <p:nvPr/>
        </p:nvPicPr>
        <p:blipFill>
          <a:blip r:embed="rId1"/>
          <a:stretch/>
        </p:blipFill>
        <p:spPr>
          <a:xfrm>
            <a:off x="2062080" y="1643040"/>
            <a:ext cx="4795920" cy="3411720"/>
          </a:xfrm>
          <a:prstGeom prst="rect">
            <a:avLst/>
          </a:prstGeom>
          <a:ln w="0">
            <a:noFill/>
          </a:ln>
        </p:spPr>
      </p:pic>
      <p:sp>
        <p:nvSpPr>
          <p:cNvPr id="112" name="2 CuadroTexto"/>
          <p:cNvSpPr/>
          <p:nvPr/>
        </p:nvSpPr>
        <p:spPr>
          <a:xfrm>
            <a:off x="606240" y="571680"/>
            <a:ext cx="80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 dos clases de Oligosacáridos unidos a Proteínas Maduras (“N-linked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CuadroTexto"/>
          <p:cNvSpPr/>
          <p:nvPr/>
        </p:nvSpPr>
        <p:spPr>
          <a:xfrm>
            <a:off x="5374440" y="33577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 compl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 CuadroTexto"/>
          <p:cNvSpPr/>
          <p:nvPr/>
        </p:nvSpPr>
        <p:spPr>
          <a:xfrm>
            <a:off x="4379040" y="49165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 con alto contenido de ma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6 Conector recto de flecha"/>
          <p:cNvCxnSpPr/>
          <p:nvPr/>
        </p:nvCxnSpPr>
        <p:spPr>
          <a:xfrm flipH="1">
            <a:off x="6286320" y="535896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7 CuadroTexto"/>
          <p:cNvSpPr/>
          <p:nvPr/>
        </p:nvSpPr>
        <p:spPr>
          <a:xfrm>
            <a:off x="4092120" y="6000840"/>
            <a:ext cx="4426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s añadidos en el A. de Gol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526760" y="26028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la Red Trans Golgi hacia los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4875120"/>
            <a:ext cx="84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as las proteínas llegan hasta la zona trans para ser destinadas (con excepción de las proteínas residentes permanentes del A. de Golg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6 Imagen" descr="ch13fu2.gif"/>
          <p:cNvPicPr/>
          <p:nvPr/>
        </p:nvPicPr>
        <p:blipFill>
          <a:blip r:embed="rId1"/>
          <a:stretch/>
        </p:blipFill>
        <p:spPr>
          <a:xfrm>
            <a:off x="2844720" y="861840"/>
            <a:ext cx="3370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166840" y="1484280"/>
            <a:ext cx="481032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094760" y="7128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sosomas: organelo donde ocurre digestión intra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4292640"/>
            <a:ext cx="855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lisosomas contienen hidrolasas ácidas o enzima hidrolíticas (digieren desechos intra y extracelulares, microorganismos fagocitados, entre otr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su membrana hay proteínas de transporte para que salgan: azúcares, nucleótidos, aminoácidos (para excreción o re-utiliz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 están las bombas de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mantienen el pH ácido del lisoso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71360" y="1962000"/>
            <a:ext cx="8801280" cy="4419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24000" y="195120"/>
            <a:ext cx="855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ómo se destinan las proteínas que van desde el A. de Golgi hasta el Lisoso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nzimas lisosomales se clasifican en la red trans Golgi por un receptor proteico que reconoce al marcador manosa 6-fosf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rigen a ---- a Endosomas Tardíos -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5200" y="6329520"/>
            <a:ext cx="84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anosa de los N-oligosacáridos de la proteínas de los lisosomas se fosfori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5003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920400" y="213192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sícula de 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4067280" y="4221000"/>
            <a:ext cx="144360" cy="144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ncbi.nlm.nih.gov/books/bookres.fcgi/cooper/ch9f3.gif"/>
          <p:cNvPicPr/>
          <p:nvPr/>
        </p:nvPicPr>
        <p:blipFill>
          <a:blip r:embed="rId1"/>
          <a:stretch/>
        </p:blipFill>
        <p:spPr>
          <a:xfrm>
            <a:off x="1908000" y="476280"/>
            <a:ext cx="5391360" cy="4497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El primer punto de sorting ocurre cuando las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están aún siendo sintetiz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39640" y="189000"/>
            <a:ext cx="825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lisoso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n las enzimas digestivas desde 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n material endocitado (por 3 ví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 material endocitado por la célula se libera al interior de los End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osoma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osee también bombas de H+ para mantener bajo el pH del organelo (rango 5,5 a 6,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º Endocito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l material se descarga en los Endosomas Tempranos 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del material se recicla a la membrana plas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se descarga en los Endosomas Tardíos, organelos que vienen del RE con hidrolasas ácidas (pH del organelo =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los Endosomas Tardíos se generan 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11280" y="1004760"/>
            <a:ext cx="81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º Ruta de Degradación en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gradación de partes de la propia célula. Ejemplo: organelos como la mitoc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s del RE engloban a la mitocondria formándose un Autofagosoma, el que posteriormente se unirá a un Lisos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º Ruta de Degradación en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en células especializadas en fagocitar microorganismos (macrófagos y neutrófil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forman fagosomas los que formarán más tarde 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14360" y="1857240"/>
            <a:ext cx="8315280" cy="3143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402480" y="1117440"/>
            <a:ext cx="85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 Vesículas recubiertas por clatrina en la membrana plasmática (M.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85840" y="5000760"/>
            <a:ext cx="855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vesículas se forman a partir de depresiones de la M.P. recubiertas en su parte citosólica por clatr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“pits”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ayoría de las células animales estas vesículas se utilizan para captar macromoléculas específicas –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ocitosis mediada por Rece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208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haya Endocitosis deben formarse las vesículas recubiertas por clat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219480" y="1268280"/>
            <a:ext cx="270504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455480" y="423720"/>
            <a:ext cx="66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el Trans Golgi hacia la Superficie Cel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oci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08000" y="4437000"/>
            <a:ext cx="888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ta de Secreción Constitu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vesículas con flujo constante. La membrana plasmática obtiene así sus proteínas y lípidos. Las proteínas solubles son destinadas a la matriz extracelular (proteoglicanes y glicoproteín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ta de Secreción Regulad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oteínas se almacenan en vesículas de secreción las que se liberan cuando son necesarias. Ejemplo: neurotransmisores, horm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685880" y="1428840"/>
            <a:ext cx="5772240" cy="4000320"/>
          </a:xfrm>
          <a:prstGeom prst="rect">
            <a:avLst/>
          </a:prstGeom>
          <a:ln w="0">
            <a:noFill/>
          </a:ln>
        </p:spPr>
      </p:pic>
      <p:sp>
        <p:nvSpPr>
          <p:cNvPr id="139" name="Line 3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463840" y="63972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ta por defecto no regu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203640" y="4365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019600" y="5299200"/>
            <a:ext cx="415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sícula recubierta por clatrina – Vía Regu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808200" y="352440"/>
            <a:ext cx="67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 al interior de Mitocondrias y 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419280" cy="3914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924360" y="1144440"/>
            <a:ext cx="504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ayoría de sus proteínas son sintetizadas en el citosol (información en genes del núcle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tocond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 ex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 interna (genoma de la mitocond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oropla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o y membrana tilacoidal (genoma del cloropla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nde, las proteínas se translocan hasta llegar al lugar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019160" y="1414440"/>
            <a:ext cx="71056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66760" y="1324080"/>
            <a:ext cx="7221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hacia la 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un péptido señal de entre 20 a 80 residuos de aminoácidos en el extremo amino terminal (con carga + y apolares) -&gt;hélice anfifí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oteínas cruzan ambas membranas mitocondriales a la vez (a travé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ínas transportadoras, o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e le denomina también “lugar de contacto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se ha producido la importación el péptido señal es degradado en la matriz (por enzimas conocidas como peptidas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27080" y="1125360"/>
            <a:ext cx="6245280" cy="3159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476360" y="333360"/>
            <a:ext cx="63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 de Proteínas hasta la Matriz de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6377040" y="836640"/>
            <a:ext cx="2658960" cy="3716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250920" y="5805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eronas: proteínas que ayudan al cruce de la proteína en su estado desplegado y ayudan a su posterior pleg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75920" y="4791240"/>
            <a:ext cx="84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ansporte requiere ATP y un gradiente electroquímico de la membrana in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6 CuadroTexto"/>
          <p:cNvSpPr/>
          <p:nvPr/>
        </p:nvSpPr>
        <p:spPr>
          <a:xfrm>
            <a:off x="1654200" y="3857760"/>
            <a:ext cx="21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-Canal de Tras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261080" y="83016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peronas hsp70 se requieren para Translocación a Ma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264680" y="522288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cruzan en estado despl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317240" y="467352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sp60 mitocondrial = facilita el pleg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lab302\Configuración local\Archivos temporales de Internet\Content.IE5\ZQN9XDBZ\ch9f2[1].gif"/>
          <p:cNvPicPr/>
          <p:nvPr/>
        </p:nvPicPr>
        <p:blipFill>
          <a:blip r:embed="rId1"/>
          <a:stretch/>
        </p:blipFill>
        <p:spPr>
          <a:xfrm>
            <a:off x="755640" y="1197000"/>
            <a:ext cx="7804080" cy="3855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80880" y="5334120"/>
            <a:ext cx="8305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Vía secre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RE rugoso   AG    Vesículas secretorias    Exterior celula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6002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25146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61722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Papel del ER en el procesamiento y sorting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261080" y="83016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peronas hsp70 se requieren para Translocación a Ma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264680" y="522288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cruzan en estado despl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317240" y="467352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sp60 mitocondrial = facilita el pleg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h12f36"/>
          <p:cNvPicPr/>
          <p:nvPr/>
        </p:nvPicPr>
        <p:blipFill>
          <a:blip r:embed="rId1">
            <a:lum contrast="12000"/>
          </a:blip>
          <a:srcRect l="0" t="13186" r="39315" b="0"/>
          <a:stretch/>
        </p:blipFill>
        <p:spPr>
          <a:xfrm>
            <a:off x="1332000" y="620640"/>
            <a:ext cx="6013440" cy="451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03280" y="530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crografía del Retículo endoplasmico rugoso de una célula pancreática endoc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35760" y="304920"/>
            <a:ext cx="70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Como son dirigidas las proteínas al 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Los ribosomas son dirigidos a la mb del  ER por una secuencia de aminoácidos presente en el extremo amino-terminal de la proteína (PEPTIDO SEÑAL) que está siendo sintet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www.ncbi.nlm.nih.gov/books/bookres.fcgi/cooper/ch9f6.gif"/>
          <p:cNvPicPr/>
          <p:nvPr/>
        </p:nvPicPr>
        <p:blipFill>
          <a:blip r:embed="rId1"/>
          <a:stretch/>
        </p:blipFill>
        <p:spPr>
          <a:xfrm>
            <a:off x="76320" y="3168720"/>
            <a:ext cx="9067680" cy="1052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80880" y="4967280"/>
            <a:ext cx="8763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Symbol"/>
                <a:ea typeface="Symbol"/>
              </a:rPr>
              <a:t>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Los péptidos señales son secuencias cortas( 16-30 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que contienen un aa cargado seguido por un grupo de 6-12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hidrofóbicos. Estos aa hidrofóbicos serían esenciales para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unión a un receptor presente en la mb del E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117440"/>
            <a:ext cx="6058080" cy="252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4360" y="3951360"/>
            <a:ext cx="688644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602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encias señal que determina la ubicación de la proteína en la cél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h12f42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08000" y="4508640"/>
            <a:ext cx="87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 dirigen las secuencias señal de ER y la SRP (Partícula de reconocimiento de la señal) los ribosomas a la mb del ER</a:t>
            </a:r>
            <a:r>
              <a:rPr b="0" lang="es-ES" sz="16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Se cree, que la SRP,  y su  receptor actúan en conjunto La SRP se une a la secuencia señal y al ribosoma, induciendo una pausa en la traducción. El receptor de SRP de la membrana del ER, que está formado por dos cadenas polipeptídicas, une al complejo SRP-ribosoma y lo dirige al translocador. La SRP y su receptor son liberados, dejando al ribosoma unido al translocador en la membrana del ER. Entonces el translocador inserta la cadena polipeptidica en la mb y la transloca a través de la bicapa lipidica. Una de las proteínas SRP y las dos cadenas del receptor de SRP contienen lugares de unión a G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43000" y="1082520"/>
            <a:ext cx="6958080" cy="5083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44720" y="325440"/>
            <a:ext cx="87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Retículo Endoplásmico se glicosilan 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284720" y="4646520"/>
            <a:ext cx="37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-linked= unidos al grupo NH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de la 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24000" y="990720"/>
            <a:ext cx="4781520" cy="487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62360" y="32544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osilación de una proteína en 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494320" y="1860480"/>
            <a:ext cx="3110040" cy="336888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>
            <a:off x="7596360" y="400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5651640" y="422100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4:42:15Z</dcterms:created>
  <dc:creator>Ana María</dc:creator>
  <dc:description/>
  <dc:language>en-US</dc:language>
  <cp:lastModifiedBy>PARIS</cp:lastModifiedBy>
  <dcterms:modified xsi:type="dcterms:W3CDTF">2010-04-22T15:52:22Z</dcterms:modified>
  <cp:revision>92</cp:revision>
  <dc:subject/>
  <dc:title>Diapositiva 1</dc:title>
</cp:coreProperties>
</file>