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9.png" ContentType="image/png"/>
  <Override PartName="/ppt/media/image1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39869-46E0-472A-BFB4-FF30C1F39E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78832-A20D-4AC0-A998-5310761528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6801-BB00-4E92-A58D-D88E30F0748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D8C0-B21A-456F-9C7B-722B2CBB8A0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79DC-1C38-4799-8ED9-53833568698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0900-A674-49ED-8325-3EF69133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37FA-D8AD-4AE1-8D2F-AC6F88AB5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CC13-4C01-4F3B-B7BB-1D9288CF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654C-1EE0-4198-80CB-FDA7FFD3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0A6A-9355-447E-B262-385ECA10E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358-4D77-45A8-9E8E-1DACE98E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18AB-54F3-42BF-8A2E-272EFEEB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407-A57B-4B4F-B82C-0C14B5B78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CBE9-B70D-45A3-9F52-6448F106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45A2-5492-48AB-9C67-C6CD5138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4B51-D524-4D45-B5DB-A876F58E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DBCB-6A24-4C91-BDEA-2F11E34FB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36C1-C4C7-496D-90D5-204392B83F7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3421440" y="35244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áfico Ves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30718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3421440" y="35244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áfico Vesi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5 Imagen" descr="ch13f1.gif"/>
          <p:cNvPicPr/>
          <p:nvPr/>
        </p:nvPicPr>
        <p:blipFill>
          <a:blip r:embed="rId1"/>
          <a:stretch/>
        </p:blipFill>
        <p:spPr>
          <a:xfrm>
            <a:off x="2567160" y="857160"/>
            <a:ext cx="3647880" cy="4125960"/>
          </a:xfrm>
          <a:prstGeom prst="rect">
            <a:avLst/>
          </a:prstGeom>
          <a:ln w="0">
            <a:noFill/>
          </a:ln>
        </p:spPr>
      </p:pic>
      <p:sp>
        <p:nvSpPr>
          <p:cNvPr id="79" name="6 CuadroTexto"/>
          <p:cNvSpPr/>
          <p:nvPr/>
        </p:nvSpPr>
        <p:spPr>
          <a:xfrm>
            <a:off x="2609280" y="5362560"/>
            <a:ext cx="365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verde: ruta endocí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rojo: ruta biosintética-secret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azul: rutas de reto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692360" y="549360"/>
            <a:ext cx="5753160" cy="3971880"/>
          </a:xfrm>
          <a:prstGeom prst="rect">
            <a:avLst/>
          </a:prstGeom>
          <a:ln w="0">
            <a:noFill/>
          </a:ln>
        </p:spPr>
      </p:pic>
      <p:sp>
        <p:nvSpPr>
          <p:cNvPr id="81" name="Line 3"/>
          <p:cNvSpPr/>
          <p:nvPr/>
        </p:nvSpPr>
        <p:spPr>
          <a:xfrm>
            <a:off x="395280" y="4869000"/>
            <a:ext cx="50472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116000" y="4581360"/>
            <a:ext cx="80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uta Biosintética secretora: proteínas van desde RE a membrana plasmática, o mediante endosomas tardíos a los lisoso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395280" y="5445000"/>
            <a:ext cx="504720" cy="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166760" y="5248440"/>
            <a:ext cx="779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uta Endocítica, las moléculas son ingeridas y trasladadas a endosomas tempranos y vía endosomas tardíos van a los lis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7"/>
          <p:cNvSpPr/>
          <p:nvPr/>
        </p:nvSpPr>
        <p:spPr>
          <a:xfrm>
            <a:off x="395280" y="6237360"/>
            <a:ext cx="50472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1190160" y="5969160"/>
            <a:ext cx="381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utas de Recuperación (de retorn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581040" y="1484280"/>
            <a:ext cx="8094600" cy="3706920"/>
            <a:chOff x="581040" y="1484280"/>
            <a:chExt cx="8094600" cy="3706920"/>
          </a:xfrm>
        </p:grpSpPr>
        <p:pic>
          <p:nvPicPr>
            <p:cNvPr id="88" name="Picture 3" descr=""/>
            <p:cNvPicPr/>
            <p:nvPr/>
          </p:nvPicPr>
          <p:blipFill>
            <a:blip r:embed="rId1"/>
            <a:stretch/>
          </p:blipFill>
          <p:spPr>
            <a:xfrm>
              <a:off x="581040" y="1666800"/>
              <a:ext cx="7981920" cy="352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Rectangle 4"/>
            <p:cNvSpPr/>
            <p:nvPr/>
          </p:nvSpPr>
          <p:spPr>
            <a:xfrm>
              <a:off x="6156360" y="1484280"/>
              <a:ext cx="2519280" cy="158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6 CuadroTexto"/>
          <p:cNvSpPr/>
          <p:nvPr/>
        </p:nvSpPr>
        <p:spPr>
          <a:xfrm>
            <a:off x="5016600" y="214308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timento don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7 CuadroTexto"/>
          <p:cNvSpPr/>
          <p:nvPr/>
        </p:nvSpPr>
        <p:spPr>
          <a:xfrm>
            <a:off x="5087520" y="5059440"/>
            <a:ext cx="247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artimento bl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8 CuadroTexto"/>
          <p:cNvSpPr/>
          <p:nvPr/>
        </p:nvSpPr>
        <p:spPr>
          <a:xfrm>
            <a:off x="1000080" y="500040"/>
            <a:ext cx="77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Transporte Vesicular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nsporte mediado por vesículas recubiertas con proteínas específicas (cubierta citosól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9 CuadroTexto"/>
          <p:cNvSpPr/>
          <p:nvPr/>
        </p:nvSpPr>
        <p:spPr>
          <a:xfrm>
            <a:off x="609120" y="5500800"/>
            <a:ext cx="66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unción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leccionar las moléculas adecuadas para transpo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e otorga la forma a la vesícula en 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951120" y="639720"/>
            <a:ext cx="33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porte desde RE a Gol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85840" y="4214880"/>
            <a:ext cx="8675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do el transporte posterior a RE ocurre mediante vesículas (ocurren ciclos de gemación y fusió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roteínas abandonan el RE en vesícul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&gt; Sólo las proteínas plegadas correctamente abandonan el 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6 Imagen" descr="ch13fu1.gif"/>
          <p:cNvPicPr/>
          <p:nvPr/>
        </p:nvPicPr>
        <p:blipFill>
          <a:blip r:embed="rId1"/>
          <a:stretch/>
        </p:blipFill>
        <p:spPr>
          <a:xfrm>
            <a:off x="3098880" y="1143000"/>
            <a:ext cx="268740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886320" y="4675320"/>
            <a:ext cx="729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unción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Clasificación y distribución de los productos del 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Síntesis proteoglicanes, moléculas constituyentes de la pared cel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glucosaminoglicanes de la matriz extracel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Procesamiento de oligosacáridos adicionados en 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54480" y="252360"/>
            <a:ext cx="26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parato de Gol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12"/>
          <p:cNvGrpSpPr/>
          <p:nvPr/>
        </p:nvGrpSpPr>
        <p:grpSpPr>
          <a:xfrm>
            <a:off x="379080" y="404640"/>
            <a:ext cx="6959880" cy="3959280"/>
            <a:chOff x="379080" y="404640"/>
            <a:chExt cx="6959880" cy="3959280"/>
          </a:xfrm>
        </p:grpSpPr>
        <p:pic>
          <p:nvPicPr>
            <p:cNvPr id="100" name="Picture 2" descr=""/>
            <p:cNvPicPr/>
            <p:nvPr/>
          </p:nvPicPr>
          <p:blipFill>
            <a:blip r:embed="rId1"/>
            <a:stretch/>
          </p:blipFill>
          <p:spPr>
            <a:xfrm>
              <a:off x="1805040" y="601200"/>
              <a:ext cx="5533920" cy="37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3"/>
            <p:cNvSpPr/>
            <p:nvPr/>
          </p:nvSpPr>
          <p:spPr>
            <a:xfrm>
              <a:off x="379080" y="1464840"/>
              <a:ext cx="153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a Entra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389160" y="3265200"/>
              <a:ext cx="137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ra Sal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8"/>
            <p:cNvSpPr/>
            <p:nvPr/>
          </p:nvSpPr>
          <p:spPr>
            <a:xfrm flipV="1">
              <a:off x="6143760" y="785160"/>
              <a:ext cx="0" cy="64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9"/>
            <p:cNvSpPr/>
            <p:nvPr/>
          </p:nvSpPr>
          <p:spPr>
            <a:xfrm>
              <a:off x="5360760" y="404640"/>
              <a:ext cx="1613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reso a 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0"/>
            <p:cNvSpPr/>
            <p:nvPr/>
          </p:nvSpPr>
          <p:spPr>
            <a:xfrm>
              <a:off x="5715000" y="3711240"/>
              <a:ext cx="0" cy="36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1"/>
          <p:cNvSpPr/>
          <p:nvPr/>
        </p:nvSpPr>
        <p:spPr>
          <a:xfrm>
            <a:off x="5000760" y="4145040"/>
            <a:ext cx="364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osomas, vesículas de secreción o superficie 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13 CuadroTexto"/>
          <p:cNvSpPr/>
          <p:nvPr/>
        </p:nvSpPr>
        <p:spPr>
          <a:xfrm>
            <a:off x="289440" y="2428920"/>
            <a:ext cx="180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isternas del Golg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619280" y="1638360"/>
            <a:ext cx="5761080" cy="3806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468360" y="281160"/>
            <a:ext cx="8672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teínas que son residentes del RE y se escapan al cis Golgi son devueltas por transporte vesicul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Receptor de membrana del cis Golgi las captura y regres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reconocen la señal de retención de R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203120" y="5734080"/>
            <a:ext cx="64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 se elimina la señal la proteína es secretada (y a la invers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1 Imagen" descr="ch13f25.gif"/>
          <p:cNvPicPr/>
          <p:nvPr/>
        </p:nvPicPr>
        <p:blipFill>
          <a:blip r:embed="rId1"/>
          <a:stretch/>
        </p:blipFill>
        <p:spPr>
          <a:xfrm>
            <a:off x="2062080" y="1643040"/>
            <a:ext cx="4795920" cy="3411720"/>
          </a:xfrm>
          <a:prstGeom prst="rect">
            <a:avLst/>
          </a:prstGeom>
          <a:ln w="0">
            <a:noFill/>
          </a:ln>
        </p:spPr>
      </p:pic>
      <p:sp>
        <p:nvSpPr>
          <p:cNvPr id="112" name="2 CuadroTexto"/>
          <p:cNvSpPr/>
          <p:nvPr/>
        </p:nvSpPr>
        <p:spPr>
          <a:xfrm>
            <a:off x="606240" y="571680"/>
            <a:ext cx="80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isten dos clases de Oligosacáridos unidos a Proteínas Maduras (“N-linked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3 CuadroTexto"/>
          <p:cNvSpPr/>
          <p:nvPr/>
        </p:nvSpPr>
        <p:spPr>
          <a:xfrm>
            <a:off x="5374440" y="3357720"/>
            <a:ext cx="25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ligosacárido comple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4 CuadroTexto"/>
          <p:cNvSpPr/>
          <p:nvPr/>
        </p:nvSpPr>
        <p:spPr>
          <a:xfrm>
            <a:off x="4379040" y="4916520"/>
            <a:ext cx="46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ligosacárido con alto contenido de man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6 Conector recto de flecha"/>
          <p:cNvCxnSpPr/>
          <p:nvPr/>
        </p:nvCxnSpPr>
        <p:spPr>
          <a:xfrm flipH="1">
            <a:off x="6286320" y="5358960"/>
            <a:ext cx="2160" cy="429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6" name="7 CuadroTexto"/>
          <p:cNvSpPr/>
          <p:nvPr/>
        </p:nvSpPr>
        <p:spPr>
          <a:xfrm>
            <a:off x="4092120" y="6000840"/>
            <a:ext cx="4426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ligosacáridos añadidos en el A. de Gol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1526760" y="260280"/>
            <a:ext cx="64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porte desde la Red Trans Golgi hacia los Lis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68360" y="4875120"/>
            <a:ext cx="84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as las proteínas llegan hasta la zona trans para ser destinadas (con excepción de las proteínas residentes permanentes del A. de Golg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6 Imagen" descr="ch13fu2.gif"/>
          <p:cNvPicPr/>
          <p:nvPr/>
        </p:nvPicPr>
        <p:blipFill>
          <a:blip r:embed="rId1"/>
          <a:stretch/>
        </p:blipFill>
        <p:spPr>
          <a:xfrm>
            <a:off x="2844720" y="861840"/>
            <a:ext cx="33703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166840" y="1484280"/>
            <a:ext cx="4810320" cy="25909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1094760" y="712800"/>
            <a:ext cx="638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sosomas: organelo donde ocurre digestión intracel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24000" y="4292640"/>
            <a:ext cx="8553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lisosomas contienen hidrolasas ácidas o enzima hidrolíticas (digieren desechos intra y extracelulares, microorganismos fagocitados, entre otro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su membrana hay proteínas de transporte para que salgan: azúcares, nucleótidos, aminoácidos (para excreción o re-utilizació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emás están las bombas de H</a:t>
            </a:r>
            <a:r>
              <a:rPr b="0" lang="es-E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mantienen el pH ácido del lisosom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71360" y="1962000"/>
            <a:ext cx="8801280" cy="44197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24000" y="195120"/>
            <a:ext cx="8553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¿Cómo se destinan las proteínas que van desde el A. de Golgi hasta el Lisosom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enzimas lisosomales se clasifican en la red trans Golgi por un receptor proteico que reconoce al marcador manosa 6-fosf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dirigen a ---- a Endosomas Tardíos - Lis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5200" y="6329520"/>
            <a:ext cx="842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anosa de los N-oligosacáridos de la proteínas de los lisosomas se fosfori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5"/>
          <p:cNvSpPr/>
          <p:nvPr/>
        </p:nvSpPr>
        <p:spPr>
          <a:xfrm>
            <a:off x="5003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3920400" y="2131920"/>
            <a:ext cx="214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sícula de 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7"/>
          <p:cNvSpPr/>
          <p:nvPr/>
        </p:nvSpPr>
        <p:spPr>
          <a:xfrm flipV="1">
            <a:off x="4067280" y="4221000"/>
            <a:ext cx="144360" cy="144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www.ncbi.nlm.nih.gov/books/bookres.fcgi/cooper/ch9f3.gif"/>
          <p:cNvPicPr/>
          <p:nvPr/>
        </p:nvPicPr>
        <p:blipFill>
          <a:blip r:embed="rId1"/>
          <a:stretch/>
        </p:blipFill>
        <p:spPr>
          <a:xfrm>
            <a:off x="1908000" y="476280"/>
            <a:ext cx="5391360" cy="44974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457200" y="53341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El primer punto de sorting ocurre cuando las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están aún siendo sintetiz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539640" y="189000"/>
            <a:ext cx="82504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os lisoso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iben las enzimas digestivas desde el 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ciben material endocitado (por 3 vía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 material endocitado por la célula se libera al interior de los Endoso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dosomas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osee también bombas de H+ para mantener bajo el pH del organelo (rango 5,5 a 6,5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º Endocito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El material se descarga en los Endosomas Tempranos 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e del material se recicla a la membrana plasmá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e se descarga en los Endosomas Tardíos, organelos que vienen del RE con hidrolasas ácidas (pH del organelo = 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partir de los Endosomas Tardíos se generan lo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isoso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611280" y="1004760"/>
            <a:ext cx="81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º Ruta de Degradación en Lis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gradación de partes de la propia célula. Ejemplo: organelos como la mitocond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branas del RE engloban a la mitocondria formándose un Autofagosoma, el que posteriormente se unirá a un Lisoso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3º Ruta de Degradación en Lisoso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urre en células especializadas en fagocitar microorganismos (macrófagos y neutrófilo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forman fagosomas los que formarán más tarde Lisoso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414360" y="1857240"/>
            <a:ext cx="8315280" cy="314352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3"/>
          <p:cNvSpPr/>
          <p:nvPr/>
        </p:nvSpPr>
        <p:spPr>
          <a:xfrm>
            <a:off x="402480" y="1117440"/>
            <a:ext cx="856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ación de Vesículas recubiertas por clatrina en la membrana plasmática (M.P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285840" y="5000760"/>
            <a:ext cx="855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vesículas se forman a partir de depresiones de la M.P. recubiertas en su parte citosólica por clatrin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“pits”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a mayoría de las células animales estas vesículas se utilizan para captar macromoléculas específicas –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docitosis mediada por Recep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468360" y="20808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que haya Endocitosis deben formarse las vesículas recubiertas por clat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3219480" y="1268280"/>
            <a:ext cx="2705040" cy="32385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1455480" y="423720"/>
            <a:ext cx="667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porte desde el Trans Golgi hacia la Superficie Celula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ocit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08000" y="4437000"/>
            <a:ext cx="8888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uta de Secreción Constitutiv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vesículas con flujo constante. La membrana plasmática obtiene así sus proteínas y lípidos. Las proteínas solubles son destinadas a la matriz extracelular (proteoglicanes y glicoproteín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uta de Secreción Regulada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proteínas se almacenan en vesículas de secreción las que se liberan cuando son necesarias. Ejemplo: neurotransmisores, horm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685880" y="1428840"/>
            <a:ext cx="5772240" cy="4000320"/>
          </a:xfrm>
          <a:prstGeom prst="rect">
            <a:avLst/>
          </a:prstGeom>
          <a:ln w="0">
            <a:noFill/>
          </a:ln>
        </p:spPr>
      </p:pic>
      <p:sp>
        <p:nvSpPr>
          <p:cNvPr id="139" name="Line 3"/>
          <p:cNvSpPr/>
          <p:nvPr/>
        </p:nvSpPr>
        <p:spPr>
          <a:xfrm>
            <a:off x="4140360" y="119700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463840" y="639720"/>
            <a:ext cx="342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uta por defecto no regul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5"/>
          <p:cNvSpPr/>
          <p:nvPr/>
        </p:nvSpPr>
        <p:spPr>
          <a:xfrm>
            <a:off x="3203640" y="436572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019600" y="5299200"/>
            <a:ext cx="415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Vesícula recubierta por clatrina – Vía Regul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808200" y="352440"/>
            <a:ext cx="678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e al interior de Mitocondrias y Cloropl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419280" cy="39146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3924360" y="1144440"/>
            <a:ext cx="5040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mayoría de sus proteínas son sintetizadas en el citosol (información en genes del núcle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tocond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acio intermembr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triz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brana ex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mbrana interna (genoma de la mitocondr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loroplas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acio y membrana tilacoidal (genoma del cloroplas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 ende, las proteínas se translocan hasta llegar al lugar de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1019160" y="1414440"/>
            <a:ext cx="710568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166760" y="1324080"/>
            <a:ext cx="72216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ransporte hacia la Matriz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ay un péptido señal de entre 20 a 80 residuos de aminoácidos en el extremo amino terminal (con carga + y apolares) -&gt;hélice anfifíl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proteínas cruzan ambas membranas mitocondriales a la vez (a través de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teínas transportadoras, o complejos proteic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se le denomina también “lugar de contacto”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uando se ha producido la importación el péptido señal es degradado en la matriz (por enzimas conocidas como peptidasa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27080" y="1125360"/>
            <a:ext cx="6245280" cy="31593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476360" y="333360"/>
            <a:ext cx="639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e de Proteínas hasta la Matriz de la Mitocond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"/>
          <p:cNvPicPr/>
          <p:nvPr/>
        </p:nvPicPr>
        <p:blipFill>
          <a:blip r:embed="rId2"/>
          <a:stretch/>
        </p:blipFill>
        <p:spPr>
          <a:xfrm>
            <a:off x="6377040" y="836640"/>
            <a:ext cx="2658960" cy="3716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250920" y="5805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peronas: proteínas que ayudan al cruce de la proteína en su estado desplegado y ayudan a su posterior plegami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475920" y="4791240"/>
            <a:ext cx="84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transporte requiere ATP y un gradiente electroquímico de la membrana inter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6 CuadroTexto"/>
          <p:cNvSpPr/>
          <p:nvPr/>
        </p:nvSpPr>
        <p:spPr>
          <a:xfrm>
            <a:off x="1654200" y="3857760"/>
            <a:ext cx="21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-Canal de Traslo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947880" y="1714680"/>
            <a:ext cx="7248240" cy="3429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"/>
          <p:cNvSpPr/>
          <p:nvPr/>
        </p:nvSpPr>
        <p:spPr>
          <a:xfrm>
            <a:off x="1261080" y="83016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aperonas hsp70 se requieren para Translocación a Matr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264680" y="5222880"/>
            <a:ext cx="46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roteínas cruzan en estado despl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317240" y="467352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sp60 mitocondrial = facilita el pleg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ulab302\Configuración local\Archivos temporales de Internet\Content.IE5\ZQN9XDBZ\ch9f2[1].gif"/>
          <p:cNvPicPr/>
          <p:nvPr/>
        </p:nvPicPr>
        <p:blipFill>
          <a:blip r:embed="rId1"/>
          <a:stretch/>
        </p:blipFill>
        <p:spPr>
          <a:xfrm>
            <a:off x="755640" y="1197000"/>
            <a:ext cx="7804080" cy="38559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3"/>
          <p:cNvSpPr/>
          <p:nvPr/>
        </p:nvSpPr>
        <p:spPr>
          <a:xfrm>
            <a:off x="380880" y="5334120"/>
            <a:ext cx="830592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Vía secretor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mic Sans MS"/>
              </a:rPr>
              <a:t>RE rugoso   AG    Vesículas secretorias    Exterior celular</a:t>
            </a: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16002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25146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6"/>
          <p:cNvSpPr/>
          <p:nvPr/>
        </p:nvSpPr>
        <p:spPr>
          <a:xfrm>
            <a:off x="6172200" y="6095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Comic Sans MS"/>
              </a:rPr>
              <a:t>Papel del ER en el procesamiento y sorting de proteí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947880" y="1714680"/>
            <a:ext cx="7248240" cy="34290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"/>
          <p:cNvSpPr/>
          <p:nvPr/>
        </p:nvSpPr>
        <p:spPr>
          <a:xfrm>
            <a:off x="1261080" y="830160"/>
            <a:ext cx="67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haperonas hsp70 se requieren para Translocación a Matri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264680" y="5222880"/>
            <a:ext cx="46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 proteínas cruzan en estado despl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317240" y="4673520"/>
            <a:ext cx="458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sp60 mitocondrial = facilita el pleg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h12f36"/>
          <p:cNvPicPr/>
          <p:nvPr/>
        </p:nvPicPr>
        <p:blipFill>
          <a:blip r:embed="rId1">
            <a:lum contrast="12000"/>
          </a:blip>
          <a:srcRect l="0" t="13186" r="39315" b="0"/>
          <a:stretch/>
        </p:blipFill>
        <p:spPr>
          <a:xfrm>
            <a:off x="1332000" y="620640"/>
            <a:ext cx="6013440" cy="451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403280" y="530064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crografía del Retículo endoplasmico rugoso de una célula pancreática endocr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635760" y="304920"/>
            <a:ext cx="705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omic Sans MS"/>
              </a:rPr>
              <a:t>Como son dirigidas las proteínas al 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just">
              <a:lnSpc>
                <a:spcPct val="100000"/>
              </a:lnSpc>
              <a:buClr>
                <a:srgbClr val="00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Los ribosomas son dirigidos a la mb del  ER por una secuencia de aminoácidos presente en el extremo amino-terminal de la proteína (PEPTIDO SEÑAL) que está siendo sintetiza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http://www.ncbi.nlm.nih.gov/books/bookres.fcgi/cooper/ch9f6.gif"/>
          <p:cNvPicPr/>
          <p:nvPr/>
        </p:nvPicPr>
        <p:blipFill>
          <a:blip r:embed="rId1"/>
          <a:stretch/>
        </p:blipFill>
        <p:spPr>
          <a:xfrm>
            <a:off x="76320" y="3168720"/>
            <a:ext cx="9067680" cy="10522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5"/>
          <p:cNvSpPr/>
          <p:nvPr/>
        </p:nvSpPr>
        <p:spPr>
          <a:xfrm>
            <a:off x="380880" y="4967280"/>
            <a:ext cx="8763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Symbol"/>
                <a:ea typeface="Symbol"/>
              </a:rPr>
              <a:t></a:t>
            </a: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Los péptidos señales son secuencias cortas( 16-30 a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que contienen un aa cargado seguido por un grupo de 6-12 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hidrofóbicos. Estos aa hidrofóbicos serían esenciales para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s-AR" sz="2000" spc="-1" strike="noStrike">
                <a:solidFill>
                  <a:srgbClr val="0000ff"/>
                </a:solidFill>
                <a:latin typeface="Comic Sans MS"/>
              </a:rPr>
              <a:t>unión a un receptor presente en la mb del ER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16000" y="1117440"/>
            <a:ext cx="6058080" cy="2527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84360" y="3951360"/>
            <a:ext cx="6886440" cy="27907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258920" y="260280"/>
            <a:ext cx="64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uencias señal que determina la ubicación de la proteína en la cél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h12f42"/>
          <p:cNvPicPr/>
          <p:nvPr/>
        </p:nvPicPr>
        <p:blipFill>
          <a:blip r:embed="rId1"/>
          <a:stretch/>
        </p:blipFill>
        <p:spPr>
          <a:xfrm>
            <a:off x="0" y="590400"/>
            <a:ext cx="9144000" cy="370224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108000" y="4508640"/>
            <a:ext cx="874872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mo dirigen las secuencias señal de ER y la SRP (Partícula de reconocimiento de la señal) los ribosomas a la mb del ER</a:t>
            </a:r>
            <a:r>
              <a:rPr b="0" lang="es-ES" sz="1600" spc="-1" strike="noStrike">
                <a:solidFill>
                  <a:srgbClr val="009999"/>
                </a:solidFill>
                <a:latin typeface="Arial"/>
              </a:rPr>
              <a:t>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Se cree, que la SRP,  y su  receptor actúan en conjunto La SRP se une a la secuencia señal y al ribosoma, induciendo una pausa en la traducción. El receptor de SRP de la membrana del ER, que está formado por dos cadenas polipeptídicas, une al complejo SRP-ribosoma y lo dirige al translocador. La SRP y su receptor son liberados, dejando al ribosoma unido al translocador en la membrana del ER. Entonces el translocador inserta la cadena polipeptidica en la mb y la transloca a través de la bicapa lipidica. Una de las proteínas SRP y las dos cadenas del receptor de SRP contienen lugares de unión a GT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43000" y="1082520"/>
            <a:ext cx="6958080" cy="5083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1044720" y="325440"/>
            <a:ext cx="878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n Retículo Endoplásmico se glicosilan proteí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284720" y="4646520"/>
            <a:ext cx="3743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N-linked= unidos al grupo NH</a:t>
            </a:r>
            <a:r>
              <a:rPr b="0" lang="es-E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 de la A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24000" y="990720"/>
            <a:ext cx="4781520" cy="48765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962360" y="325440"/>
            <a:ext cx="43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icosilación de una proteína en el 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5494320" y="1860480"/>
            <a:ext cx="3110040" cy="3368880"/>
          </a:xfrm>
          <a:prstGeom prst="rect">
            <a:avLst/>
          </a:prstGeom>
          <a:ln w="0">
            <a:noFill/>
          </a:ln>
        </p:spPr>
      </p:pic>
      <p:sp>
        <p:nvSpPr>
          <p:cNvPr id="75" name="Line 5"/>
          <p:cNvSpPr/>
          <p:nvPr/>
        </p:nvSpPr>
        <p:spPr>
          <a:xfrm>
            <a:off x="7596360" y="4005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5651640" y="422100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2T04:42:15Z</dcterms:created>
  <dc:creator>Ana María</dc:creator>
  <dc:description/>
  <dc:language>en-US</dc:language>
  <cp:lastModifiedBy>PARIS</cp:lastModifiedBy>
  <dcterms:modified xsi:type="dcterms:W3CDTF">2010-04-22T15:52:22Z</dcterms:modified>
  <cp:revision>92</cp:revision>
  <dc:subject/>
  <dc:title>Diapositiva 1</dc:title>
</cp:coreProperties>
</file>