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5.jpeg" ContentType="image/jpeg"/>
  <Override PartName="/ppt/media/image13.png" ContentType="image/png"/>
  <Override PartName="/ppt/media/image6.png" ContentType="image/png"/>
  <Override PartName="/ppt/media/image7.png" ContentType="image/png"/>
  <Override PartName="/ppt/media/image1.jpeg" ContentType="image/jpeg"/>
  <Override PartName="/ppt/media/image5.png" ContentType="image/png"/>
  <Override PartName="/ppt/media/image8.jpeg" ContentType="image/jpeg"/>
  <Override PartName="/ppt/media/image30.png" ContentType="image/png"/>
  <Override PartName="/ppt/media/image28.png" ContentType="image/png"/>
  <Override PartName="/ppt/media/image12.jpeg" ContentType="image/jpeg"/>
  <Override PartName="/ppt/media/image4.png" ContentType="image/png"/>
  <Override PartName="/ppt/media/image27.png" ContentType="image/png"/>
  <Override PartName="/ppt/media/image9.jpeg" ContentType="image/jpeg"/>
  <Override PartName="/ppt/media/image24.png" ContentType="image/png"/>
  <Override PartName="/ppt/media/image11.jpeg" ContentType="image/jpeg"/>
  <Override PartName="/ppt/media/image31.jpeg" ContentType="image/jpeg"/>
  <Override PartName="/ppt/media/image32.jpeg" ContentType="image/jpeg"/>
  <Override PartName="/ppt/media/image3.png" ContentType="image/png"/>
  <Override PartName="/ppt/media/image17.jpeg" ContentType="image/jpeg"/>
  <Override PartName="/ppt/media/image10.jpeg" ContentType="image/jpeg"/>
  <Override PartName="/ppt/media/image14.png" ContentType="image/png"/>
  <Override PartName="/ppt/media/image15.jpeg" ContentType="image/jpeg"/>
  <Override PartName="/ppt/media/image16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29.png" ContentType="image/png"/>
  <Override PartName="/ppt/media/image21.jpeg" ContentType="image/jpeg"/>
  <Override PartName="/ppt/media/image22.png" ContentType="image/png"/>
  <Override PartName="/ppt/media/image2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C74E3-B77D-4338-9CBE-5168C64CD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265CC-B59B-45BA-BA19-102E05F52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F8798-02DD-4687-B961-95A61CEC7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F6AFD-8F54-489F-AF89-D61550CC0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121D0-96FF-40E3-9D8A-6227590B3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0E743-5417-4DA1-8C40-1B9527149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FBBA5-A82D-40A8-87F9-CC1674E52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3F56C-22AF-46BE-B671-6415CCE65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19ABF-3218-4691-A4C1-5605AE52F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DF7BB-FED1-42CA-B52F-BA86CE357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FDD0D-37B8-4E1F-82CE-E53373E85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2EBCD-3D8B-43E2-B764-D78B54723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FDB4D-D15A-490C-AD08-8DB5C8816B82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443640" y="476280"/>
            <a:ext cx="21607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3300"/>
                </a:solidFill>
                <a:latin typeface="Arial"/>
              </a:rPr>
              <a:t>Nucleósi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11280" y="1700280"/>
            <a:ext cx="46814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Combinación azúcar-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5084640"/>
            <a:ext cx="1800000" cy="10238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zúcar en este caso es </a:t>
            </a:r>
            <a:r>
              <a:rPr b="0" lang="es-CL" sz="2100" spc="-1" strike="noStrike">
                <a:solidFill>
                  <a:srgbClr val="000000"/>
                </a:solidFill>
                <a:latin typeface="Arial"/>
              </a:rPr>
              <a:t>desoxirribos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43640" y="4508640"/>
            <a:ext cx="1657440" cy="7038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nlace ß-N glicosíd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244000" y="6381720"/>
            <a:ext cx="900000" cy="47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5003640" y="476280"/>
            <a:ext cx="37450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3300"/>
                </a:solidFill>
                <a:latin typeface="Arial"/>
              </a:rPr>
              <a:t>Duplicación</a:t>
            </a:r>
            <a:r>
              <a:rPr b="1" lang="es-CL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s-CL" sz="2800" spc="-1" strike="noStrike">
                <a:solidFill>
                  <a:srgbClr val="ff3300"/>
                </a:solidFill>
                <a:latin typeface="Arial"/>
              </a:rPr>
              <a:t>de AD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39640" y="1700280"/>
            <a:ext cx="5472360" cy="885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Arial"/>
              </a:rPr>
              <a:t>La duplicación ocurre en ambas hebras en direcciones opuest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8172360" y="6308640"/>
            <a:ext cx="971640" cy="54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443280" y="981000"/>
            <a:ext cx="95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5’ </a:t>
            </a:r>
            <a:r>
              <a:rPr b="0" lang="es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3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03120" y="2819520"/>
            <a:ext cx="8535960" cy="12189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2556000" y="2852640"/>
            <a:ext cx="14396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sdobl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796000" y="2852640"/>
            <a:ext cx="15127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leg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84880" y="1000080"/>
            <a:ext cx="7611840" cy="3682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ara que ocurra síntesis de ADN la doble hebra se debe desenrolla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3120" y="709560"/>
            <a:ext cx="8535960" cy="543888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116000" y="1341360"/>
            <a:ext cx="1655640" cy="106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ADN pad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780000" y="765000"/>
            <a:ext cx="2663640" cy="106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Horquilla de duplic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7080" y="5589720"/>
            <a:ext cx="319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No ocurre en esta direc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6012000" y="4797000"/>
            <a:ext cx="865080" cy="647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693800" y="716040"/>
            <a:ext cx="5756400" cy="609768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2916360" y="5950080"/>
            <a:ext cx="3960720" cy="71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419640" y="6021360"/>
            <a:ext cx="23763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írculo relaj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318400" y="439560"/>
            <a:ext cx="4489200" cy="3988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DUPLICACION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EN PROCARIO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94720" y="136044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NA circu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4718160" y="6381720"/>
            <a:ext cx="2519280" cy="47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3276720" y="1003320"/>
            <a:ext cx="5540040" cy="5594400"/>
            <a:chOff x="3276720" y="1003320"/>
            <a:chExt cx="5540040" cy="5594400"/>
          </a:xfrm>
        </p:grpSpPr>
        <p:pic>
          <p:nvPicPr>
            <p:cNvPr id="110" name="" descr=""/>
            <p:cNvPicPr/>
            <p:nvPr/>
          </p:nvPicPr>
          <p:blipFill>
            <a:blip r:embed="rId1"/>
            <a:stretch/>
          </p:blipFill>
          <p:spPr>
            <a:xfrm>
              <a:off x="3420000" y="1003320"/>
              <a:ext cx="5396760" cy="559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3276720" y="5764680"/>
              <a:ext cx="4780800" cy="832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179280" y="1268280"/>
            <a:ext cx="4751640" cy="86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99"/>
                </a:solidFill>
                <a:latin typeface="Arial"/>
              </a:rPr>
              <a:t>1º. Fase de iniciació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esenrollamiento del AD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318760" y="439560"/>
            <a:ext cx="4495320" cy="3988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DUPLICACION EN PROCARIO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558720" y="2409840"/>
            <a:ext cx="8026560" cy="41148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2318760" y="439560"/>
            <a:ext cx="4495320" cy="3988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DUPLICACION EN PROCARIO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84360" y="1404360"/>
            <a:ext cx="78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La síntesis del cromosoma de </a:t>
            </a: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E.coli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siempre comienza en el mismo punto, llamado sitio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ori C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, una región de 245 pares de ba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3894120" y="1000080"/>
            <a:ext cx="4521240" cy="543564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5433840" y="981000"/>
            <a:ext cx="18734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Bidirecc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867280" y="3213000"/>
            <a:ext cx="8636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ori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291280" y="3789360"/>
            <a:ext cx="20160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Unidirecc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851280" y="4438800"/>
            <a:ext cx="9349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Ori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78560" y="242244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uplic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938920" y="2133720"/>
            <a:ext cx="647640" cy="28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578560" y="1773360"/>
            <a:ext cx="13683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Horquil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80160" y="1073160"/>
            <a:ext cx="2947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duplicación puede s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Bidireccional (más comú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Unidirecc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739800" y="836640"/>
            <a:ext cx="6305760" cy="3682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Enzimas que participan en el desenrollamiento del AD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13440" y="1647720"/>
            <a:ext cx="15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HELICASA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392200" y="1643040"/>
            <a:ext cx="657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zimas que se mueven a lo largo del ADN y separan las 2 hebras, usando energía del AT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050920" y="2349360"/>
            <a:ext cx="5133960" cy="246384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5571000" y="2274840"/>
            <a:ext cx="17092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Helicasa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062240" y="4559400"/>
            <a:ext cx="22503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Horquilla de duplica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31440" y="4875120"/>
            <a:ext cx="244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OPOISOMERASA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(Ej: ADN Giras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276720" y="4875120"/>
            <a:ext cx="568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zimas que disminuyen el estrés topológico generado por la separación de las hebras (corte reversible de un enlace fosfodié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32520" y="5797440"/>
            <a:ext cx="3557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ROTEINAS DE UNIÓN A AD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(SS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297320" y="5811840"/>
            <a:ext cx="49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roteínas que se unen a las hebras simples para estabilizarl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763640" y="1413000"/>
            <a:ext cx="5473800" cy="199836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3508200" y="1268280"/>
            <a:ext cx="358488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íntesis de la hebra adelant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19640" y="2852640"/>
            <a:ext cx="334152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íntesis de la hebra retras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79280" y="692280"/>
            <a:ext cx="47516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99"/>
                </a:solidFill>
                <a:latin typeface="Arial"/>
              </a:rPr>
              <a:t>2º. Fase de elongació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31960" y="3916440"/>
            <a:ext cx="4691880" cy="3682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Requerimientos de la fase de elongació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971640" y="4543560"/>
            <a:ext cx="7400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olde de ADN doble heb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rozo corto de ARN llamado partidor o ceba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Es sintetizado por la enzima </a:t>
            </a:r>
            <a:r>
              <a:rPr b="1" lang="es-ES" sz="1800" spc="-1" strike="noStrike">
                <a:solidFill>
                  <a:srgbClr val="ff3300"/>
                </a:solidFill>
                <a:latin typeface="Arial"/>
                <a:ea typeface="Arial"/>
              </a:rPr>
              <a:t>PRIMASA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(10-60 nt en procariotas, en eucariotas es de 10 n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s mismas enzimas y proteínas de la fase de inici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41240" y="6230880"/>
            <a:ext cx="817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3300"/>
                </a:solidFill>
                <a:latin typeface="Arial"/>
              </a:rPr>
              <a:t>PRIMOSOMA: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l complejo formado entre la primasa y las proteínas auxiliares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763640" y="1413000"/>
            <a:ext cx="5473800" cy="199836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3508200" y="1268280"/>
            <a:ext cx="358488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íntesis de la hebra adelant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2852640"/>
            <a:ext cx="334152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íntesis de la hebra retras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79280" y="692280"/>
            <a:ext cx="47516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99"/>
                </a:solidFill>
                <a:latin typeface="Arial"/>
              </a:rPr>
              <a:t>2º. Fase de elongació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833760" y="3916440"/>
            <a:ext cx="2745720" cy="3682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Mecanismo de síntes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92280" y="4745160"/>
            <a:ext cx="7839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íntesis del partidor por la PRIM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íntesis de la hebra hija desde el extremo 3’ del parti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(la forma de sintetizarla depende de la hebra, si es continua o discontinu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6084720" y="549360"/>
            <a:ext cx="25196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3300"/>
                </a:solidFill>
                <a:latin typeface="Arial"/>
              </a:rPr>
              <a:t>Nucleóti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11280" y="1628640"/>
            <a:ext cx="784836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Producido si el –OH en el azúcar de un nucleósido es convertido en un ester fosf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1280" y="4724280"/>
            <a:ext cx="3600360" cy="192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ada uno es  nombrado de acuerdo al nombre de su azúcar y de su base y también el numero de fosfatos es indicad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332000" y="3284640"/>
            <a:ext cx="3744720" cy="116748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esoxiadenosina   monofosfa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(dAM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388360" y="6308640"/>
            <a:ext cx="755640" cy="54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763640" y="1413000"/>
            <a:ext cx="5473800" cy="199836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3508200" y="1268280"/>
            <a:ext cx="358488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íntesis de la hebra adelant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2852640"/>
            <a:ext cx="334152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íntesis de la hebra retras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79280" y="692280"/>
            <a:ext cx="47516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99"/>
                </a:solidFill>
                <a:latin typeface="Arial"/>
              </a:rPr>
              <a:t>2º. Fase de elongació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832680" y="3916440"/>
            <a:ext cx="3699720" cy="3682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La síntesis es semi-discontinu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831960" y="4249800"/>
            <a:ext cx="216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Reiji Okazaki, 1960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55640" y="4941720"/>
            <a:ext cx="763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Mientras una hebra es sintetizada en forma continua (hebra adelantada), la otra (hebra retrasada) se sintetiza por fragmentos*, en forma discontinu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828720" y="6093000"/>
            <a:ext cx="543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* Estos fragmentos son: Fragmentos de Okaza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303120" y="1501920"/>
            <a:ext cx="8535960" cy="385272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684360" y="1773360"/>
            <a:ext cx="136656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ADN Pad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003640" y="2997360"/>
            <a:ext cx="27370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Fragmentos de Okasa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588000" y="1413000"/>
            <a:ext cx="216072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0066"/>
                </a:solidFill>
                <a:latin typeface="Arial"/>
              </a:rPr>
              <a:t>Hebra adelant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659640" y="4508640"/>
            <a:ext cx="208908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Hebra retras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258920" y="5373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301"/>
                </a:moveTo>
                <a:lnTo>
                  <a:pt x="4707" y="7301"/>
                </a:lnTo>
                <a:lnTo>
                  <a:pt x="5090" y="7667"/>
                </a:lnTo>
                <a:lnTo>
                  <a:pt x="14299" y="7667"/>
                </a:lnTo>
                <a:lnTo>
                  <a:pt x="14856" y="8224"/>
                </a:lnTo>
                <a:lnTo>
                  <a:pt x="14856" y="8772"/>
                </a:lnTo>
                <a:lnTo>
                  <a:pt x="16701" y="8772"/>
                </a:lnTo>
                <a:lnTo>
                  <a:pt x="17067" y="8224"/>
                </a:lnTo>
                <a:lnTo>
                  <a:pt x="17806" y="8224"/>
                </a:lnTo>
                <a:lnTo>
                  <a:pt x="17806" y="13376"/>
                </a:lnTo>
                <a:lnTo>
                  <a:pt x="17067" y="13376"/>
                </a:lnTo>
                <a:lnTo>
                  <a:pt x="16701" y="12828"/>
                </a:lnTo>
                <a:lnTo>
                  <a:pt x="14856" y="12828"/>
                </a:lnTo>
                <a:lnTo>
                  <a:pt x="14856" y="14107"/>
                </a:lnTo>
                <a:lnTo>
                  <a:pt x="5273" y="14107"/>
                </a:lnTo>
                <a:lnTo>
                  <a:pt x="5273" y="9877"/>
                </a:lnTo>
                <a:lnTo>
                  <a:pt x="5090" y="9877"/>
                </a:lnTo>
                <a:lnTo>
                  <a:pt x="4707" y="10243"/>
                </a:lnTo>
                <a:lnTo>
                  <a:pt x="3794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667640" y="551664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301"/>
                </a:moveTo>
                <a:lnTo>
                  <a:pt x="4707" y="7301"/>
                </a:lnTo>
                <a:lnTo>
                  <a:pt x="5090" y="7667"/>
                </a:lnTo>
                <a:lnTo>
                  <a:pt x="14299" y="7667"/>
                </a:lnTo>
                <a:lnTo>
                  <a:pt x="14856" y="8224"/>
                </a:lnTo>
                <a:lnTo>
                  <a:pt x="14856" y="8772"/>
                </a:lnTo>
                <a:lnTo>
                  <a:pt x="16701" y="8772"/>
                </a:lnTo>
                <a:lnTo>
                  <a:pt x="17067" y="8224"/>
                </a:lnTo>
                <a:lnTo>
                  <a:pt x="17806" y="8224"/>
                </a:lnTo>
                <a:lnTo>
                  <a:pt x="17806" y="13376"/>
                </a:lnTo>
                <a:lnTo>
                  <a:pt x="17067" y="13376"/>
                </a:lnTo>
                <a:lnTo>
                  <a:pt x="16701" y="12828"/>
                </a:lnTo>
                <a:lnTo>
                  <a:pt x="14856" y="12828"/>
                </a:lnTo>
                <a:lnTo>
                  <a:pt x="14856" y="14107"/>
                </a:lnTo>
                <a:lnTo>
                  <a:pt x="5273" y="14107"/>
                </a:lnTo>
                <a:lnTo>
                  <a:pt x="5273" y="9877"/>
                </a:lnTo>
                <a:lnTo>
                  <a:pt x="5090" y="9877"/>
                </a:lnTo>
                <a:lnTo>
                  <a:pt x="4707" y="10243"/>
                </a:lnTo>
                <a:lnTo>
                  <a:pt x="3794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3564000" y="1557360"/>
            <a:ext cx="5229000" cy="215748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3203640" y="2133720"/>
            <a:ext cx="25923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Horquilla de duplic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348000" y="2492280"/>
            <a:ext cx="208764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Crecimiento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084720" y="3141720"/>
            <a:ext cx="3059280" cy="707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ADN sintetizado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recientemen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79280" y="692280"/>
            <a:ext cx="47516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99"/>
                </a:solidFill>
                <a:latin typeface="Arial"/>
              </a:rPr>
              <a:t>2º. Fase de elongació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831960" y="3645000"/>
            <a:ext cx="3472560" cy="3682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Enzimas que duplican el AD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173960" y="4240080"/>
            <a:ext cx="77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3300"/>
                </a:solidFill>
                <a:latin typeface="Arial"/>
              </a:rPr>
              <a:t>ADN polimerasa III :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s la enzima responsable de la duplicación del AD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173240" y="4718160"/>
            <a:ext cx="764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3300"/>
                </a:solidFill>
                <a:latin typeface="Arial"/>
              </a:rPr>
              <a:t>ADN polimerasa I   :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u función es remover el partidor de ARN y sustituirlo por AD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076720" y="981000"/>
            <a:ext cx="21607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Hebra adelanta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5579640" y="1341360"/>
            <a:ext cx="576360" cy="574920"/>
          </a:xfrm>
          <a:prstGeom prst="line">
            <a:avLst/>
          </a:prstGeom>
          <a:ln w="5724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71480" y="5661000"/>
            <a:ext cx="7904160" cy="733320"/>
          </a:xfrm>
          <a:prstGeom prst="rect">
            <a:avLst/>
          </a:prstGeom>
          <a:noFill/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Ambas poseen actividad exonucleasa correctora 3’</a:t>
            </a:r>
            <a:r>
              <a:rPr b="0" lang="es-ES_tradnl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5’ (proofreading) que permite aumentar la fidelidad de la duplicación del ADN, removiendo los nucleótidos que fueron puestos erradamen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Eitan mutacione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"/>
          <p:cNvGrpSpPr/>
          <p:nvPr/>
        </p:nvGrpSpPr>
        <p:grpSpPr>
          <a:xfrm>
            <a:off x="0" y="736560"/>
            <a:ext cx="9144000" cy="6121440"/>
            <a:chOff x="0" y="736560"/>
            <a:chExt cx="9144000" cy="6121440"/>
          </a:xfrm>
        </p:grpSpPr>
        <p:pic>
          <p:nvPicPr>
            <p:cNvPr id="176" name="" descr=""/>
            <p:cNvPicPr/>
            <p:nvPr/>
          </p:nvPicPr>
          <p:blipFill>
            <a:blip r:embed="rId1"/>
            <a:stretch/>
          </p:blipFill>
          <p:spPr>
            <a:xfrm>
              <a:off x="660240" y="736560"/>
              <a:ext cx="7823520" cy="53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4498920" y="2031840"/>
              <a:ext cx="1081080" cy="2664000"/>
            </a:xfrm>
            <a:prstGeom prst="rect">
              <a:avLst/>
            </a:pr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861240" y="2031840"/>
              <a:ext cx="1081080" cy="2664000"/>
            </a:xfrm>
            <a:prstGeom prst="rect">
              <a:avLst/>
            </a:pr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84360" y="2809800"/>
              <a:ext cx="28728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85800" y="3357720"/>
              <a:ext cx="28728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356000" y="3645000"/>
              <a:ext cx="28728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616800" y="4192560"/>
              <a:ext cx="28728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0" y="4869000"/>
              <a:ext cx="9144000" cy="1989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" name=""/>
          <p:cNvSpPr/>
          <p:nvPr/>
        </p:nvSpPr>
        <p:spPr>
          <a:xfrm>
            <a:off x="684360" y="5084640"/>
            <a:ext cx="7850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sub-unidad </a:t>
            </a:r>
            <a:r>
              <a:rPr b="0" lang="el-GR" sz="18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es la que le otorga la procesividad a la ADN Pol III (adición de nucleótido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DNA pol tipo III posee más de una sub-un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584280" y="1041480"/>
            <a:ext cx="7975440" cy="477504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539640" y="4724280"/>
            <a:ext cx="503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8244000" y="2708280"/>
            <a:ext cx="576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1035000" y="379440"/>
            <a:ext cx="7072200" cy="609768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596160" y="639720"/>
            <a:ext cx="34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NA pol tipo III, 10 subunida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558720" y="1371600"/>
            <a:ext cx="8026560" cy="411480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250920" y="4365720"/>
            <a:ext cx="144144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Hebra de ADN mol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763640" y="5229360"/>
            <a:ext cx="13683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desoxirribo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826920" y="1484280"/>
            <a:ext cx="2087640" cy="82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Ingreso de un desoxiribonucleosido 5’- trifosfa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39640" y="3213000"/>
            <a:ext cx="1150920" cy="733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Crecimiento de ADN (Prim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8028000" y="62064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301"/>
                </a:moveTo>
                <a:lnTo>
                  <a:pt x="4707" y="7301"/>
                </a:lnTo>
                <a:lnTo>
                  <a:pt x="5090" y="7667"/>
                </a:lnTo>
                <a:lnTo>
                  <a:pt x="14299" y="7667"/>
                </a:lnTo>
                <a:lnTo>
                  <a:pt x="14856" y="8224"/>
                </a:lnTo>
                <a:lnTo>
                  <a:pt x="14856" y="8772"/>
                </a:lnTo>
                <a:lnTo>
                  <a:pt x="16701" y="8772"/>
                </a:lnTo>
                <a:lnTo>
                  <a:pt x="17067" y="8224"/>
                </a:lnTo>
                <a:lnTo>
                  <a:pt x="17806" y="8224"/>
                </a:lnTo>
                <a:lnTo>
                  <a:pt x="17806" y="13376"/>
                </a:lnTo>
                <a:lnTo>
                  <a:pt x="17067" y="13376"/>
                </a:lnTo>
                <a:lnTo>
                  <a:pt x="16701" y="12828"/>
                </a:lnTo>
                <a:lnTo>
                  <a:pt x="14856" y="12828"/>
                </a:lnTo>
                <a:lnTo>
                  <a:pt x="14856" y="14107"/>
                </a:lnTo>
                <a:lnTo>
                  <a:pt x="5273" y="14107"/>
                </a:lnTo>
                <a:lnTo>
                  <a:pt x="5273" y="9877"/>
                </a:lnTo>
                <a:lnTo>
                  <a:pt x="5090" y="9877"/>
                </a:lnTo>
                <a:lnTo>
                  <a:pt x="4707" y="10243"/>
                </a:lnTo>
                <a:lnTo>
                  <a:pt x="3794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2558880" y="254160"/>
            <a:ext cx="4026240" cy="634968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5580000" y="1268280"/>
            <a:ext cx="1008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Hebra ADN mol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50000" y="71280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aración del AD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1473120" y="711360"/>
            <a:ext cx="6197760" cy="54352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6300720" y="692280"/>
            <a:ext cx="12240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Hebra retras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303120" y="343080"/>
            <a:ext cx="8535960" cy="617040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2411280" y="692280"/>
            <a:ext cx="11527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Helic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724360" y="1413000"/>
            <a:ext cx="13687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rimoso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258920" y="5589720"/>
            <a:ext cx="144144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Hebra adelant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804000" y="5950080"/>
            <a:ext cx="12952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Hebra retras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971640" y="1125360"/>
            <a:ext cx="24480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roteínas que se unen a hebra si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708360" y="2852640"/>
            <a:ext cx="1150920" cy="3682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rim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19640" y="3500280"/>
            <a:ext cx="1944360" cy="6426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DN polimerasa III - holoenzi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437000"/>
            <a:ext cx="1800360" cy="6426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DN   polimerasa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364000" y="5373720"/>
            <a:ext cx="1872000" cy="3682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DN lig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58720" y="838080"/>
            <a:ext cx="802656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2743200" y="379440"/>
            <a:ext cx="3657600" cy="609768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826920" y="249228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3797" y="7301"/>
                </a:moveTo>
                <a:lnTo>
                  <a:pt x="4711" y="7301"/>
                </a:lnTo>
                <a:lnTo>
                  <a:pt x="5094" y="7667"/>
                </a:lnTo>
                <a:lnTo>
                  <a:pt x="14303" y="7667"/>
                </a:lnTo>
                <a:lnTo>
                  <a:pt x="14860" y="8224"/>
                </a:lnTo>
                <a:lnTo>
                  <a:pt x="14860" y="8772"/>
                </a:lnTo>
                <a:lnTo>
                  <a:pt x="16705" y="8772"/>
                </a:lnTo>
                <a:lnTo>
                  <a:pt x="17070" y="8224"/>
                </a:lnTo>
                <a:lnTo>
                  <a:pt x="17810" y="8224"/>
                </a:lnTo>
                <a:lnTo>
                  <a:pt x="17810" y="13376"/>
                </a:lnTo>
                <a:lnTo>
                  <a:pt x="17070" y="13376"/>
                </a:lnTo>
                <a:lnTo>
                  <a:pt x="16705" y="12828"/>
                </a:lnTo>
                <a:lnTo>
                  <a:pt x="14860" y="12828"/>
                </a:lnTo>
                <a:lnTo>
                  <a:pt x="14860" y="14107"/>
                </a:lnTo>
                <a:lnTo>
                  <a:pt x="5277" y="14107"/>
                </a:lnTo>
                <a:lnTo>
                  <a:pt x="5277" y="9877"/>
                </a:lnTo>
                <a:lnTo>
                  <a:pt x="5094" y="9877"/>
                </a:lnTo>
                <a:lnTo>
                  <a:pt x="4711" y="10243"/>
                </a:lnTo>
                <a:lnTo>
                  <a:pt x="3797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99"/>
                </a:solidFill>
                <a:latin typeface="Arial"/>
              </a:rPr>
              <a:t>Duplicació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667640" y="26370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301"/>
                </a:moveTo>
                <a:lnTo>
                  <a:pt x="4707" y="7301"/>
                </a:lnTo>
                <a:lnTo>
                  <a:pt x="5090" y="7667"/>
                </a:lnTo>
                <a:lnTo>
                  <a:pt x="14299" y="7667"/>
                </a:lnTo>
                <a:lnTo>
                  <a:pt x="14856" y="8224"/>
                </a:lnTo>
                <a:lnTo>
                  <a:pt x="14856" y="8772"/>
                </a:lnTo>
                <a:lnTo>
                  <a:pt x="16701" y="8772"/>
                </a:lnTo>
                <a:lnTo>
                  <a:pt x="17067" y="8224"/>
                </a:lnTo>
                <a:lnTo>
                  <a:pt x="17806" y="8224"/>
                </a:lnTo>
                <a:lnTo>
                  <a:pt x="17806" y="13376"/>
                </a:lnTo>
                <a:lnTo>
                  <a:pt x="17067" y="13376"/>
                </a:lnTo>
                <a:lnTo>
                  <a:pt x="16701" y="12828"/>
                </a:lnTo>
                <a:lnTo>
                  <a:pt x="14856" y="12828"/>
                </a:lnTo>
                <a:lnTo>
                  <a:pt x="14856" y="14107"/>
                </a:lnTo>
                <a:lnTo>
                  <a:pt x="5273" y="14107"/>
                </a:lnTo>
                <a:lnTo>
                  <a:pt x="5273" y="9877"/>
                </a:lnTo>
                <a:lnTo>
                  <a:pt x="5090" y="9877"/>
                </a:lnTo>
                <a:lnTo>
                  <a:pt x="4707" y="10243"/>
                </a:lnTo>
                <a:lnTo>
                  <a:pt x="3794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Duplicació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976560" y="5229360"/>
            <a:ext cx="455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mbas hebras son generadas por un único dímero de ADN polimerasa 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38160"/>
            <a:ext cx="9144000" cy="678168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468360" y="4149720"/>
            <a:ext cx="5327640" cy="2104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7fd03"/>
                </a:solidFill>
                <a:latin typeface="Arial"/>
              </a:rPr>
              <a:t>Los cromosomas consisten de ADN y proteín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1403280" y="1600200"/>
            <a:ext cx="2144880" cy="452592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>
            <a:off x="5003640" y="1484280"/>
            <a:ext cx="3214800" cy="452592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617760" y="1125360"/>
            <a:ext cx="3317040" cy="3682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CROMOSOMA EUCARIO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532480" y="189000"/>
            <a:ext cx="2711520" cy="658332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976320" y="476280"/>
            <a:ext cx="4296960" cy="3988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DUPLICACION EN EUCARIO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829440" y="1052640"/>
            <a:ext cx="200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os pasos extra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244160" y="1647720"/>
            <a:ext cx="301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isociación de las histon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261440" y="2133720"/>
            <a:ext cx="23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íntesis de histon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7451640" y="4869000"/>
            <a:ext cx="790560" cy="720720"/>
          </a:xfrm>
          <a:custGeom>
            <a:avLst/>
            <a:gdLst>
              <a:gd name="textAreaLeft" fmla="*/ 46440 w 790560"/>
              <a:gd name="textAreaRight" fmla="*/ 744120 w 79056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3692" h="21600">
                <a:moveTo>
                  <a:pt x="0" y="0"/>
                </a:moveTo>
                <a:lnTo>
                  <a:pt x="23692" y="0"/>
                </a:lnTo>
                <a:lnTo>
                  <a:pt x="23692" y="21600"/>
                </a:lnTo>
                <a:lnTo>
                  <a:pt x="0" y="21600"/>
                </a:lnTo>
                <a:close/>
              </a:path>
              <a:path fill="lightenLess" w="23692" h="21600">
                <a:moveTo>
                  <a:pt x="0" y="0"/>
                </a:moveTo>
                <a:lnTo>
                  <a:pt x="23692" y="0"/>
                </a:lnTo>
                <a:lnTo>
                  <a:pt x="22292" y="1400"/>
                </a:lnTo>
                <a:lnTo>
                  <a:pt x="1400" y="1400"/>
                </a:lnTo>
                <a:close/>
              </a:path>
              <a:path fill="darken" w="23692" h="21600">
                <a:moveTo>
                  <a:pt x="23692" y="0"/>
                </a:moveTo>
                <a:lnTo>
                  <a:pt x="23692" y="21600"/>
                </a:lnTo>
                <a:lnTo>
                  <a:pt x="22292" y="20200"/>
                </a:lnTo>
                <a:lnTo>
                  <a:pt x="22292" y="1400"/>
                </a:lnTo>
                <a:close/>
              </a:path>
              <a:path fill="darkenLess" w="23692" h="21600">
                <a:moveTo>
                  <a:pt x="236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292" y="20200"/>
                </a:lnTo>
                <a:close/>
              </a:path>
              <a:path fill="lighten" w="236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692" h="21600">
                <a:moveTo>
                  <a:pt x="4840" y="7301"/>
                </a:moveTo>
                <a:lnTo>
                  <a:pt x="5753" y="7301"/>
                </a:lnTo>
                <a:lnTo>
                  <a:pt x="6136" y="7667"/>
                </a:lnTo>
                <a:lnTo>
                  <a:pt x="15345" y="7667"/>
                </a:lnTo>
                <a:lnTo>
                  <a:pt x="15902" y="8224"/>
                </a:lnTo>
                <a:lnTo>
                  <a:pt x="15902" y="8772"/>
                </a:lnTo>
                <a:lnTo>
                  <a:pt x="17747" y="8772"/>
                </a:lnTo>
                <a:lnTo>
                  <a:pt x="18113" y="8224"/>
                </a:lnTo>
                <a:lnTo>
                  <a:pt x="18853" y="8224"/>
                </a:lnTo>
                <a:lnTo>
                  <a:pt x="18853" y="13376"/>
                </a:lnTo>
                <a:lnTo>
                  <a:pt x="18113" y="13376"/>
                </a:lnTo>
                <a:lnTo>
                  <a:pt x="17747" y="12828"/>
                </a:lnTo>
                <a:lnTo>
                  <a:pt x="15902" y="12828"/>
                </a:lnTo>
                <a:lnTo>
                  <a:pt x="15902" y="14107"/>
                </a:lnTo>
                <a:lnTo>
                  <a:pt x="6319" y="14107"/>
                </a:lnTo>
                <a:lnTo>
                  <a:pt x="6319" y="9877"/>
                </a:lnTo>
                <a:lnTo>
                  <a:pt x="6136" y="9877"/>
                </a:lnTo>
                <a:lnTo>
                  <a:pt x="5753" y="10243"/>
                </a:lnTo>
                <a:lnTo>
                  <a:pt x="4840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2319480" y="762120"/>
            <a:ext cx="4296960" cy="3988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DUPLICACION EN EUCARIO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273400" y="1735200"/>
            <a:ext cx="402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ecanismo similar al de procario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273760" y="2238480"/>
            <a:ext cx="47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ayor número de enzimas ADN polimeras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275200" y="2743200"/>
            <a:ext cx="460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ayor número de horquillas de duplic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273040" y="3246480"/>
            <a:ext cx="572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ragmentos de Okasaki más pequeños (100 a 200 n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410560" y="4255920"/>
            <a:ext cx="406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Velocidad de duplicación may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2319480" y="762120"/>
            <a:ext cx="4296960" cy="3988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DUPLICACION EN EUCARIO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973080" y="1700280"/>
            <a:ext cx="185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POLIMERAS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218960" y="2098800"/>
            <a:ext cx="626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DN Polimerasa alfa: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intetiza los fragmentos de Okasak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216080" y="2590920"/>
            <a:ext cx="7748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DN Polimerasa delta: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s la encargada de realizar la síntesis del ADN, hebra princip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DN Polimerasa gamm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 sintetiza ADN mitocondr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DN Polimerasa bet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 repara el ADN dañ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39640" y="115560"/>
            <a:ext cx="483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5050"/>
                </a:solidFill>
                <a:latin typeface="Arial"/>
              </a:rPr>
              <a:t>Mutaciones en el AD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5050"/>
                </a:solidFill>
                <a:latin typeface="Arial"/>
              </a:rPr>
              <a:t>Mutac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Ocurren alteraciones del ADN original, que cambian el genotipo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Puede ser tan simple como un nucleótido equivocad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ste cambio puede constituir un daño o un benefic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Puede ser causado por factores químicos o ambientales - </a:t>
            </a:r>
            <a:r>
              <a:rPr b="0" lang="es-CL" sz="3200" spc="-1" strike="noStrike">
                <a:solidFill>
                  <a:srgbClr val="333399"/>
                </a:solidFill>
                <a:latin typeface="Arial"/>
              </a:rPr>
              <a:t>mutágen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5194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5050"/>
                </a:solidFill>
                <a:latin typeface="Arial"/>
              </a:rPr>
              <a:t>Agentes Mutagénic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960480" y="1600200"/>
            <a:ext cx="7283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Un número de factores son sospechosos de causar mutaciones en el genom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99"/>
                </a:solidFill>
                <a:latin typeface="Arial"/>
              </a:rPr>
              <a:t>Radi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505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uz UV (forma dímeros de Timin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Arial"/>
              </a:rPr>
              <a:t>Quím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505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ancerígenos (ejemplo: colorante bromuro de etidi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9640" y="274320"/>
            <a:ext cx="511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5050"/>
                </a:solidFill>
                <a:latin typeface="Arial"/>
              </a:rPr>
              <a:t>Mutación y Repara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Las células contienen muchos mecanismos de reparació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5050"/>
                </a:solidFill>
                <a:latin typeface="Arial"/>
              </a:rPr>
              <a:t>Luz UV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 (luz de alta energí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Causa la formación de dímeros de tim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n bajos niveles puede ser repara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n altos niveles puede causar la muer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5003640" y="404640"/>
            <a:ext cx="36720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5050"/>
                </a:solidFill>
                <a:latin typeface="Arial"/>
              </a:rPr>
              <a:t>Fotodimeriz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659640" y="1916280"/>
            <a:ext cx="14414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Luz U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7236000" y="5084640"/>
            <a:ext cx="1908000" cy="1937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dímeros de tim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39640" y="907920"/>
            <a:ext cx="3240360" cy="543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La exposición a la luz UV puede causar la unión covalente de timinas adyace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sto resulta en la distorsión de la molécula de ADN y ruptura de los enlaces de hidrógeno con la aden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009960" y="711360"/>
            <a:ext cx="3124080" cy="54352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5946120" y="3284640"/>
            <a:ext cx="2923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=3,6 nm o 10 pares de ba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por vuel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9920" y="189000"/>
            <a:ext cx="6642360" cy="398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Modelo de Watson y Crick para la Estructura del D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94000" y="4600440"/>
            <a:ext cx="160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NA Forma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3205080" y="379440"/>
            <a:ext cx="4103640" cy="6097680"/>
            <a:chOff x="3205080" y="379440"/>
            <a:chExt cx="4103640" cy="6097680"/>
          </a:xfrm>
        </p:grpSpPr>
        <p:pic>
          <p:nvPicPr>
            <p:cNvPr id="248" name="" descr=""/>
            <p:cNvPicPr/>
            <p:nvPr/>
          </p:nvPicPr>
          <p:blipFill>
            <a:blip r:embed="rId1"/>
            <a:stretch/>
          </p:blipFill>
          <p:spPr>
            <a:xfrm>
              <a:off x="3205080" y="379440"/>
              <a:ext cx="4071960" cy="609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" name=""/>
            <p:cNvSpPr/>
            <p:nvPr/>
          </p:nvSpPr>
          <p:spPr>
            <a:xfrm>
              <a:off x="5292360" y="1204920"/>
              <a:ext cx="2016360" cy="82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000000"/>
                  </a:solidFill>
                  <a:latin typeface="Arial"/>
                </a:rPr>
                <a:t>Corte de un fragmento de 12 nucleótidos por una escinucleasa uvrABC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221080" y="2637000"/>
              <a:ext cx="1727280" cy="459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Arial"/>
                </a:rPr>
                <a:t>Síntesis de ADN por ADN polimerasa 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292360" y="5229360"/>
              <a:ext cx="1366920" cy="55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Arial"/>
                </a:rPr>
                <a:t>Unión po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CL" sz="1200" spc="-1" strike="noStrike">
                  <a:solidFill>
                    <a:srgbClr val="000000"/>
                  </a:solidFill>
                  <a:latin typeface="Arial"/>
                </a:rPr>
                <a:t>ADN ligas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2" name=""/>
          <p:cNvSpPr/>
          <p:nvPr/>
        </p:nvSpPr>
        <p:spPr>
          <a:xfrm>
            <a:off x="250920" y="1598760"/>
            <a:ext cx="2808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 bacteria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jemplo de reparación por escisión de nucleótido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 elimina y se reemplaza un fragmento en torno a la zona dañad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 mayoría de los daños en el ADN son reparados por este mecanism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24000" y="1125360"/>
            <a:ext cx="8497800" cy="4741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50920" y="1341360"/>
            <a:ext cx="21603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Duplic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908000" y="3429000"/>
            <a:ext cx="2880000" cy="101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Trascrip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Síntesis de A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292720" y="1052640"/>
            <a:ext cx="3527280" cy="101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Traduc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(Síntesis de proteína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003640" y="3429000"/>
            <a:ext cx="20163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Riboso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164360" y="4437000"/>
            <a:ext cx="16574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Proteí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301"/>
                </a:moveTo>
                <a:lnTo>
                  <a:pt x="4707" y="7301"/>
                </a:lnTo>
                <a:lnTo>
                  <a:pt x="5090" y="7667"/>
                </a:lnTo>
                <a:lnTo>
                  <a:pt x="14299" y="7667"/>
                </a:lnTo>
                <a:lnTo>
                  <a:pt x="14856" y="8224"/>
                </a:lnTo>
                <a:lnTo>
                  <a:pt x="14856" y="8772"/>
                </a:lnTo>
                <a:lnTo>
                  <a:pt x="16701" y="8772"/>
                </a:lnTo>
                <a:lnTo>
                  <a:pt x="17067" y="8224"/>
                </a:lnTo>
                <a:lnTo>
                  <a:pt x="17806" y="8224"/>
                </a:lnTo>
                <a:lnTo>
                  <a:pt x="17806" y="13376"/>
                </a:lnTo>
                <a:lnTo>
                  <a:pt x="17067" y="13376"/>
                </a:lnTo>
                <a:lnTo>
                  <a:pt x="16701" y="12828"/>
                </a:lnTo>
                <a:lnTo>
                  <a:pt x="14856" y="12828"/>
                </a:lnTo>
                <a:lnTo>
                  <a:pt x="14856" y="14107"/>
                </a:lnTo>
                <a:lnTo>
                  <a:pt x="5273" y="14107"/>
                </a:lnTo>
                <a:lnTo>
                  <a:pt x="5273" y="9877"/>
                </a:lnTo>
                <a:lnTo>
                  <a:pt x="5090" y="9877"/>
                </a:lnTo>
                <a:lnTo>
                  <a:pt x="4707" y="10243"/>
                </a:lnTo>
                <a:lnTo>
                  <a:pt x="3794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66200" y="398520"/>
            <a:ext cx="556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gma de la Biología Celular, Modelo Tradic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432680" y="4024440"/>
            <a:ext cx="438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(mensajero, de transferencia y ribosom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324000" y="1125360"/>
            <a:ext cx="8497800" cy="47419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250920" y="1341360"/>
            <a:ext cx="21603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Duplic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908000" y="3429000"/>
            <a:ext cx="2880000" cy="101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Trascrip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Síntesis de A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292720" y="1052640"/>
            <a:ext cx="3527280" cy="101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Traduc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(Síntesis de proteína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003640" y="3429000"/>
            <a:ext cx="20163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Riboso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164360" y="4437000"/>
            <a:ext cx="16574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Proteí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301"/>
                </a:moveTo>
                <a:lnTo>
                  <a:pt x="4707" y="7301"/>
                </a:lnTo>
                <a:lnTo>
                  <a:pt x="5090" y="7667"/>
                </a:lnTo>
                <a:lnTo>
                  <a:pt x="14299" y="7667"/>
                </a:lnTo>
                <a:lnTo>
                  <a:pt x="14856" y="8224"/>
                </a:lnTo>
                <a:lnTo>
                  <a:pt x="14856" y="8772"/>
                </a:lnTo>
                <a:lnTo>
                  <a:pt x="16701" y="8772"/>
                </a:lnTo>
                <a:lnTo>
                  <a:pt x="17067" y="8224"/>
                </a:lnTo>
                <a:lnTo>
                  <a:pt x="17806" y="8224"/>
                </a:lnTo>
                <a:lnTo>
                  <a:pt x="17806" y="13376"/>
                </a:lnTo>
                <a:lnTo>
                  <a:pt x="17067" y="13376"/>
                </a:lnTo>
                <a:lnTo>
                  <a:pt x="16701" y="12828"/>
                </a:lnTo>
                <a:lnTo>
                  <a:pt x="14856" y="12828"/>
                </a:lnTo>
                <a:lnTo>
                  <a:pt x="14856" y="14107"/>
                </a:lnTo>
                <a:lnTo>
                  <a:pt x="5273" y="14107"/>
                </a:lnTo>
                <a:lnTo>
                  <a:pt x="5273" y="9877"/>
                </a:lnTo>
                <a:lnTo>
                  <a:pt x="5090" y="9877"/>
                </a:lnTo>
                <a:lnTo>
                  <a:pt x="4707" y="10243"/>
                </a:lnTo>
                <a:lnTo>
                  <a:pt x="3794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7280" y="398520"/>
            <a:ext cx="536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gma de la Biología Celular, Modelo Dinám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432680" y="4024440"/>
            <a:ext cx="438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(mensajero, de transferencia y ribosom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116000" y="5753160"/>
            <a:ext cx="7869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Ocurre transcripción rever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e sintetiza un transcrito 1º o pre-mRNA que luego se edita – RNA mensajero madu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Ocurre cada vez que la célula se divide (Ocurre en la Interfase Celular, en la fase 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3300"/>
                </a:solidFill>
                <a:latin typeface="Arial"/>
              </a:rPr>
              <a:t>Hay Mecanismos simples involucra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Separación inicial de las dos hebr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Producción de una nueva hebra, obteniendo una NUEVA MOLÉCULA DE AD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El proceso requiere la participación de varias enzim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plicación del AD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149400"/>
            <a:ext cx="9144000" cy="65592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0"/>
            <a:ext cx="57960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Replicación Conservativ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8000" y="1197000"/>
            <a:ext cx="3600720" cy="132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ADN origi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doble hél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692360" y="3279600"/>
            <a:ext cx="4103640" cy="2958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Moléculas de ADN después de un ciclo de duplicación 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(replicació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333360"/>
            <a:ext cx="8820000" cy="6039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0" y="333360"/>
            <a:ext cx="66960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Duplicación semiconservati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059280" y="1268280"/>
            <a:ext cx="3168360" cy="106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Hélice de ADN origi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124000" y="3429000"/>
            <a:ext cx="3816360" cy="20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Hélices de ADN después de un ciclo de duplic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9600" y="811080"/>
            <a:ext cx="302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Meselson y Stahl, 1958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50920" y="5811840"/>
            <a:ext cx="67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000000"/>
                </a:solidFill>
                <a:uFillTx/>
                <a:latin typeface="Arial"/>
              </a:rPr>
              <a:t>Modelo semi-conservativo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: 1 hebra de cada molécula de doble ADN se </a:t>
            </a:r>
            <a:r>
              <a:rPr b="0" lang="es-CL" sz="1800" spc="-1" strike="noStrike" u="sng">
                <a:solidFill>
                  <a:srgbClr val="000000"/>
                </a:solidFill>
                <a:uFillTx/>
                <a:latin typeface="Arial"/>
              </a:rPr>
              <a:t>conserva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n la nueva molécula hija de AD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2T11:11:57Z</dcterms:created>
  <dc:creator>Ana María</dc:creator>
  <dc:description/>
  <dc:language>en-US</dc:language>
  <cp:lastModifiedBy>PARIS</cp:lastModifiedBy>
  <dcterms:modified xsi:type="dcterms:W3CDTF">2010-04-20T05:01:48Z</dcterms:modified>
  <cp:revision>9</cp:revision>
  <dc:subject/>
  <dc:title>Diapositiva 1</dc:title>
</cp:coreProperties>
</file>