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13.png" ContentType="image/png"/>
  <Override PartName="/ppt/media/image6.png" ContentType="image/png"/>
  <Override PartName="/ppt/media/image7.png" ContentType="image/png"/>
  <Override PartName="/ppt/media/image1.jpeg" ContentType="image/jpeg"/>
  <Override PartName="/ppt/media/image5.png" ContentType="image/png"/>
  <Override PartName="/ppt/media/image8.jpeg" ContentType="image/jpeg"/>
  <Override PartName="/ppt/media/image30.png" ContentType="image/png"/>
  <Override PartName="/ppt/media/image28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9.jpeg" ContentType="image/jpeg"/>
  <Override PartName="/ppt/media/image24.png" ContentType="image/png"/>
  <Override PartName="/ppt/media/image11.jpeg" ContentType="image/jpeg"/>
  <Override PartName="/ppt/media/image31.jpeg" ContentType="image/jpeg"/>
  <Override PartName="/ppt/media/image32.jpeg" ContentType="image/jpeg"/>
  <Override PartName="/ppt/media/image3.png" ContentType="image/png"/>
  <Override PartName="/ppt/media/image17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9.png" ContentType="image/png"/>
  <Override PartName="/ppt/media/image21.jpeg" ContentType="image/jpe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5B59-BB98-4BFA-9C1D-368749C5D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FDDF-1846-4820-9BB7-70FE7C629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21EC-04EE-428C-902B-824DE61EE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29A9-7E5E-4324-888F-C0ED1389C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0DD9-C3FA-4746-BE05-7CC504DC6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2ECE-E54E-43E8-98F4-EB0838E9E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3E12-860C-44B8-AB55-450DD4CC8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057E-3776-47C6-AC7B-51F0B806E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D406-9393-4438-A6CF-7D84EE482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7505-FE2B-4FBE-933E-C9A147A25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3B8A-BEFF-4BCB-A046-754BD179D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EACB-9534-4A0C-B13F-A87DC822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E3556-26A5-4182-9650-8B0FED538A6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443640" y="476280"/>
            <a:ext cx="2160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3300"/>
                </a:solidFill>
                <a:latin typeface="Arial"/>
              </a:rPr>
              <a:t>Nucleós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1700280"/>
            <a:ext cx="4681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Combinación azúcar-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084640"/>
            <a:ext cx="1800000" cy="1023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zúcar en este caso es 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desoxirribos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43640" y="4508640"/>
            <a:ext cx="1657440" cy="7038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lace ß-N glicosíd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44000" y="6381720"/>
            <a:ext cx="90000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003640" y="476280"/>
            <a:ext cx="3745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3300"/>
                </a:solidFill>
                <a:latin typeface="Arial"/>
              </a:rPr>
              <a:t>Duplicación</a:t>
            </a:r>
            <a:r>
              <a:rPr b="1" lang="es-CL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s-CL" sz="2800" spc="-1" strike="noStrike">
                <a:solidFill>
                  <a:srgbClr val="ff3300"/>
                </a:solidFill>
                <a:latin typeface="Arial"/>
              </a:rPr>
              <a:t>de AD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9640" y="1700280"/>
            <a:ext cx="5472360" cy="88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La duplicación ocurre en ambas hebras en direcciones opuest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172360" y="6308640"/>
            <a:ext cx="97164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443280" y="98100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5’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3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3120" y="2819520"/>
            <a:ext cx="8535960" cy="12189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556000" y="2852640"/>
            <a:ext cx="1439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sdobl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96000" y="2852640"/>
            <a:ext cx="1512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leg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84880" y="1000080"/>
            <a:ext cx="761184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ra que ocurra síntesis de ADN la doble hebra se debe desenroll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3120" y="709560"/>
            <a:ext cx="8535960" cy="54388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116000" y="1341360"/>
            <a:ext cx="165564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DN pad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780000" y="765000"/>
            <a:ext cx="266364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orquilla de duplic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7080" y="5589720"/>
            <a:ext cx="31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o ocurre en esta dire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6012000" y="4797000"/>
            <a:ext cx="865080" cy="64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93800" y="716040"/>
            <a:ext cx="5756400" cy="60976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916360" y="5950080"/>
            <a:ext cx="3960720" cy="71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19640" y="6021360"/>
            <a:ext cx="2376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írculo relaj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318400" y="439560"/>
            <a:ext cx="448920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DUPLICACION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EN PROCARIO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4720" y="136044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NA cir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718160" y="6381720"/>
            <a:ext cx="251928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276720" y="1003320"/>
            <a:ext cx="5540040" cy="5594400"/>
            <a:chOff x="3276720" y="1003320"/>
            <a:chExt cx="5540040" cy="5594400"/>
          </a:xfrm>
        </p:grpSpPr>
        <p:pic>
          <p:nvPicPr>
            <p:cNvPr id="110" name="" descr=""/>
            <p:cNvPicPr/>
            <p:nvPr/>
          </p:nvPicPr>
          <p:blipFill>
            <a:blip r:embed="rId1"/>
            <a:stretch/>
          </p:blipFill>
          <p:spPr>
            <a:xfrm>
              <a:off x="3420000" y="1003320"/>
              <a:ext cx="5396760" cy="559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3276720" y="5764680"/>
              <a:ext cx="4780800" cy="832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179280" y="1268280"/>
            <a:ext cx="4751640" cy="86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1º. Fase de inici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enrollamiento del AD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318760" y="439560"/>
            <a:ext cx="449532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DUPLICACION EN PROCARIO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58720" y="2409840"/>
            <a:ext cx="8026560" cy="41148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318760" y="439560"/>
            <a:ext cx="449532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DUPLICACION EN PROCARIO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4360" y="140436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síntesis del cromosoma de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E.coli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siempre comienza en el mismo punto, llamado sitio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ri C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una región de 245 pares de ba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894120" y="1000080"/>
            <a:ext cx="4521240" cy="54356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433840" y="981000"/>
            <a:ext cx="1873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idirec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867280" y="3213000"/>
            <a:ext cx="863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ri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291280" y="3789360"/>
            <a:ext cx="2016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Unidirec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51280" y="4438800"/>
            <a:ext cx="934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ri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78560" y="24224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upl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938920" y="2133720"/>
            <a:ext cx="64764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578560" y="1773360"/>
            <a:ext cx="1368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orqui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0160" y="1073160"/>
            <a:ext cx="294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duplicación puede s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idireccional (más comú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idirec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739800" y="836640"/>
            <a:ext cx="630576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Enzimas que participan en el desenrollamiento del AD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3440" y="1647720"/>
            <a:ext cx="15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ELICAS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392200" y="1643040"/>
            <a:ext cx="65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zimas que se mueven a lo largo del ADN y separan las 2 hebras, usando energía del AT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050920" y="2349360"/>
            <a:ext cx="5133960" cy="24638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571000" y="2274840"/>
            <a:ext cx="1709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Helicasa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062240" y="4559400"/>
            <a:ext cx="2250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Horquilla de duplic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1440" y="4875120"/>
            <a:ext cx="244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OPOISOMERAS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Ej: ADN Giras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76720" y="4875120"/>
            <a:ext cx="56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zimas que disminuyen el estrés topológico generado por la separación de las hebras (corte reversible de un enlace fosfodié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32520" y="5797440"/>
            <a:ext cx="355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OTEINAS DE UNIÓN A AD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SS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97320" y="581184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teínas que se unen a las hebras simples para estabilizar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473800" cy="19983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508200" y="1268280"/>
            <a:ext cx="35848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íntesis de la hebra adelant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19640" y="2852640"/>
            <a:ext cx="334152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íntesis de la hebra retras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9280" y="692280"/>
            <a:ext cx="4751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2º. Fase de elong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31960" y="3916440"/>
            <a:ext cx="469188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Requerimientos de la fase de elongac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71640" y="4543560"/>
            <a:ext cx="7400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olde de ADN doble he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rozo corto de ARN llamado partidor o ceb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s sintetizado por la enzima </a:t>
            </a:r>
            <a:r>
              <a:rPr b="1" lang="es-ES" sz="1800" spc="-1" strike="noStrike">
                <a:solidFill>
                  <a:srgbClr val="ff3300"/>
                </a:solidFill>
                <a:latin typeface="Arial"/>
                <a:ea typeface="Arial"/>
              </a:rPr>
              <a:t>PRIMASA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(10-60 nt en procariotas, en eucariotas es de 10 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mismas enzimas y proteínas de la fase de inici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41240" y="6230880"/>
            <a:ext cx="817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PRIMOSOMA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l complejo formado entre la primasa y las proteínas auxiliares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473800" cy="19983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508200" y="1268280"/>
            <a:ext cx="35848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íntesis de la hebra adelant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2852640"/>
            <a:ext cx="334152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íntesis de la hebra retras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79280" y="692280"/>
            <a:ext cx="4751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2º. Fase de elong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33760" y="3916440"/>
            <a:ext cx="274572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Mecanismo de síntes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2280" y="4745160"/>
            <a:ext cx="783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íntesis del partidor por la PRIM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íntesis de la hebra hija desde el extremo 3’ del part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la forma de sintetizarla depende de la hebra, si es continua o discontinu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084720" y="549360"/>
            <a:ext cx="25196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3300"/>
                </a:solidFill>
                <a:latin typeface="Arial"/>
              </a:rPr>
              <a:t>Nucleót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1280" y="1628640"/>
            <a:ext cx="784836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ducido si el –OH en el azúcar de un nucleósido es convertido en un ester fosf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4724280"/>
            <a:ext cx="360036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da uno es  nombrado de acuerdo al nombre de su azúcar y de su base y también el numero de fosfatos es indica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32000" y="3284640"/>
            <a:ext cx="3744720" cy="116748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oxiadenosina   monofosf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(dAM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88360" y="6308640"/>
            <a:ext cx="75564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473800" cy="19983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508200" y="1268280"/>
            <a:ext cx="35848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íntesis de la hebra adelant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2852640"/>
            <a:ext cx="334152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íntesis de la hebra retras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79280" y="692280"/>
            <a:ext cx="4751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2º. Fase de elong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32680" y="3916440"/>
            <a:ext cx="369972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La síntesis es semi-discontinu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31960" y="4249800"/>
            <a:ext cx="21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Reiji Okazaki, 1960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55640" y="4941720"/>
            <a:ext cx="76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ientras una hebra es sintetizada en forma continua (hebra adelantada), la otra (hebra retrasada) se sintetiza por fragmentos*, en forma discontinu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28720" y="6093000"/>
            <a:ext cx="543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* Estos fragmentos son: Fragmentos de Okaza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03120" y="1501920"/>
            <a:ext cx="8535960" cy="38527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684360" y="1773360"/>
            <a:ext cx="13665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DN Pad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003640" y="2997360"/>
            <a:ext cx="27370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ragmentos de Okasa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88000" y="1413000"/>
            <a:ext cx="216072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66"/>
                </a:solidFill>
                <a:latin typeface="Arial"/>
              </a:rPr>
              <a:t>Hebra adelant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659640" y="4508640"/>
            <a:ext cx="20890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Hebra retras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58920" y="5373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66764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564000" y="1557360"/>
            <a:ext cx="5229000" cy="21574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203640" y="2133720"/>
            <a:ext cx="2592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Horquilla de duplic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348000" y="2492280"/>
            <a:ext cx="2087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Crecimiento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084720" y="3141720"/>
            <a:ext cx="3059280" cy="70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ADN sintetizado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recientem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9280" y="692280"/>
            <a:ext cx="4751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2º. Fase de elong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31960" y="3645000"/>
            <a:ext cx="347256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Enzimas que duplican el AD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73960" y="424008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ADN polimerasa III 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 la enzima responsable de la duplicación del AD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73240" y="4718160"/>
            <a:ext cx="764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ADN polimerasa I   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 función es remover el partidor de ARN y sustituirlo por AD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76720" y="981000"/>
            <a:ext cx="2160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Hebra adelant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5579640" y="1341360"/>
            <a:ext cx="576360" cy="57492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71480" y="5661000"/>
            <a:ext cx="7904160" cy="733320"/>
          </a:xfrm>
          <a:prstGeom prst="rect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mbas poseen actividad exonucleasa correctora 3’</a:t>
            </a:r>
            <a:r>
              <a:rPr b="0" lang="es-ES_tradnl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5’ (proofreading) que permite aumentar la fidelidad de la duplicación del ADN, removiendo los nucleótidos que fueron puestos erradamen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itan mutacion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0" y="736560"/>
            <a:ext cx="9144000" cy="6121440"/>
            <a:chOff x="0" y="736560"/>
            <a:chExt cx="9144000" cy="6121440"/>
          </a:xfrm>
        </p:grpSpPr>
        <p:pic>
          <p:nvPicPr>
            <p:cNvPr id="176" name="" descr=""/>
            <p:cNvPicPr/>
            <p:nvPr/>
          </p:nvPicPr>
          <p:blipFill>
            <a:blip r:embed="rId1"/>
            <a:stretch/>
          </p:blipFill>
          <p:spPr>
            <a:xfrm>
              <a:off x="660240" y="736560"/>
              <a:ext cx="7823520" cy="53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4498920" y="2031840"/>
              <a:ext cx="1081080" cy="266400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861240" y="2031840"/>
              <a:ext cx="1081080" cy="266400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84360" y="2809800"/>
              <a:ext cx="2872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85800" y="3357720"/>
              <a:ext cx="2872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356000" y="3645000"/>
              <a:ext cx="2872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616800" y="4192560"/>
              <a:ext cx="2872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0" y="4869000"/>
              <a:ext cx="9144000" cy="198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684360" y="5084640"/>
            <a:ext cx="785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sub-unidad </a:t>
            </a:r>
            <a:r>
              <a:rPr b="0" lang="el-GR" sz="18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s la que le otorga la procesividad a la ADN Pol III (adición de nucleótid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DNA pol tipo III posee más de una sub-un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84280" y="1041480"/>
            <a:ext cx="7975440" cy="47750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539640" y="472428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8244000" y="270828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035000" y="379440"/>
            <a:ext cx="7072200" cy="60976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596160" y="639720"/>
            <a:ext cx="34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NA pol tipo III, 10 subun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58720" y="1371600"/>
            <a:ext cx="8026560" cy="41148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250920" y="4365720"/>
            <a:ext cx="14414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ebra de ADN mol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63640" y="5229360"/>
            <a:ext cx="1368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esoxirribo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26920" y="1484280"/>
            <a:ext cx="208764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greso de un desoxiribonucleosido 5’- trifosfa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39640" y="3213000"/>
            <a:ext cx="115092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recimiento de ADN (Prim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028000" y="620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558880" y="254160"/>
            <a:ext cx="4026240" cy="63496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580000" y="1268280"/>
            <a:ext cx="1008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Hebra ADN mol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0000" y="71280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aración del AD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473120" y="711360"/>
            <a:ext cx="6197760" cy="54352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6300720" y="692280"/>
            <a:ext cx="1224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ebra retras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03120" y="343080"/>
            <a:ext cx="8535960" cy="61704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2411280" y="692280"/>
            <a:ext cx="1152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elic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724360" y="1413000"/>
            <a:ext cx="1368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imoso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258920" y="5589720"/>
            <a:ext cx="14414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ebra adelant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804000" y="5950080"/>
            <a:ext cx="1295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ebra retras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71640" y="1125360"/>
            <a:ext cx="2448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teínas que se unen a hebra 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708360" y="2852640"/>
            <a:ext cx="115092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im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19640" y="3500280"/>
            <a:ext cx="194436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N polimerasa III - holoenz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437000"/>
            <a:ext cx="180036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N   polimerasa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364000" y="5373720"/>
            <a:ext cx="187200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N lig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58720" y="838080"/>
            <a:ext cx="802656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743200" y="379440"/>
            <a:ext cx="3657600" cy="609768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826920" y="24922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301"/>
                </a:moveTo>
                <a:lnTo>
                  <a:pt x="4711" y="7301"/>
                </a:lnTo>
                <a:lnTo>
                  <a:pt x="5094" y="7667"/>
                </a:lnTo>
                <a:lnTo>
                  <a:pt x="14303" y="7667"/>
                </a:lnTo>
                <a:lnTo>
                  <a:pt x="14860" y="8224"/>
                </a:lnTo>
                <a:lnTo>
                  <a:pt x="14860" y="8772"/>
                </a:lnTo>
                <a:lnTo>
                  <a:pt x="16705" y="8772"/>
                </a:lnTo>
                <a:lnTo>
                  <a:pt x="17070" y="8224"/>
                </a:lnTo>
                <a:lnTo>
                  <a:pt x="17810" y="8224"/>
                </a:lnTo>
                <a:lnTo>
                  <a:pt x="17810" y="13376"/>
                </a:lnTo>
                <a:lnTo>
                  <a:pt x="17070" y="13376"/>
                </a:lnTo>
                <a:lnTo>
                  <a:pt x="16705" y="12828"/>
                </a:lnTo>
                <a:lnTo>
                  <a:pt x="14860" y="12828"/>
                </a:lnTo>
                <a:lnTo>
                  <a:pt x="14860" y="14107"/>
                </a:lnTo>
                <a:lnTo>
                  <a:pt x="5277" y="14107"/>
                </a:lnTo>
                <a:lnTo>
                  <a:pt x="5277" y="9877"/>
                </a:lnTo>
                <a:lnTo>
                  <a:pt x="5094" y="9877"/>
                </a:lnTo>
                <a:lnTo>
                  <a:pt x="4711" y="10243"/>
                </a:lnTo>
                <a:lnTo>
                  <a:pt x="3797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Duplic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667640" y="2637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uplic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976560" y="5229360"/>
            <a:ext cx="455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mbas hebras son generadas por un único dímero de ADN polimerasa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7816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468360" y="4149720"/>
            <a:ext cx="5327640" cy="210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7fd03"/>
                </a:solidFill>
                <a:latin typeface="Arial"/>
              </a:rPr>
              <a:t>Los cromosomas consisten de ADN y proteí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403280" y="1600200"/>
            <a:ext cx="2144880" cy="45259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5003640" y="1484280"/>
            <a:ext cx="3214800" cy="45259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617760" y="1125360"/>
            <a:ext cx="331704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CROMOSOMA EUCARIO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532480" y="189000"/>
            <a:ext cx="2711520" cy="65833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976320" y="476280"/>
            <a:ext cx="429696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DUPLICACION EN EUCARIO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29440" y="1052640"/>
            <a:ext cx="20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s pasos extr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244160" y="1647720"/>
            <a:ext cx="30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sociación de las histo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261440" y="213372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íntesis de histo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451640" y="4869000"/>
            <a:ext cx="790560" cy="720720"/>
          </a:xfrm>
          <a:custGeom>
            <a:avLst/>
            <a:gdLst>
              <a:gd name="textAreaLeft" fmla="*/ 46440 w 790560"/>
              <a:gd name="textAreaRight" fmla="*/ 744120 w 7905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3692" h="21600">
                <a:moveTo>
                  <a:pt x="0" y="0"/>
                </a:moveTo>
                <a:lnTo>
                  <a:pt x="23692" y="0"/>
                </a:lnTo>
                <a:lnTo>
                  <a:pt x="23692" y="21600"/>
                </a:lnTo>
                <a:lnTo>
                  <a:pt x="0" y="21600"/>
                </a:lnTo>
                <a:close/>
              </a:path>
              <a:path fill="lightenLess" w="23692" h="21600">
                <a:moveTo>
                  <a:pt x="0" y="0"/>
                </a:moveTo>
                <a:lnTo>
                  <a:pt x="23692" y="0"/>
                </a:lnTo>
                <a:lnTo>
                  <a:pt x="22292" y="1400"/>
                </a:lnTo>
                <a:lnTo>
                  <a:pt x="1400" y="1400"/>
                </a:lnTo>
                <a:close/>
              </a:path>
              <a:path fill="darken" w="23692" h="21600">
                <a:moveTo>
                  <a:pt x="23692" y="0"/>
                </a:moveTo>
                <a:lnTo>
                  <a:pt x="23692" y="21600"/>
                </a:lnTo>
                <a:lnTo>
                  <a:pt x="22292" y="20200"/>
                </a:lnTo>
                <a:lnTo>
                  <a:pt x="22292" y="1400"/>
                </a:lnTo>
                <a:close/>
              </a:path>
              <a:path fill="darkenLess" w="23692" h="21600">
                <a:moveTo>
                  <a:pt x="23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92" y="20200"/>
                </a:lnTo>
                <a:close/>
              </a:path>
              <a:path fill="lighten" w="23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92" h="21600">
                <a:moveTo>
                  <a:pt x="4840" y="7301"/>
                </a:moveTo>
                <a:lnTo>
                  <a:pt x="5753" y="7301"/>
                </a:lnTo>
                <a:lnTo>
                  <a:pt x="6136" y="7667"/>
                </a:lnTo>
                <a:lnTo>
                  <a:pt x="15345" y="7667"/>
                </a:lnTo>
                <a:lnTo>
                  <a:pt x="15902" y="8224"/>
                </a:lnTo>
                <a:lnTo>
                  <a:pt x="15902" y="8772"/>
                </a:lnTo>
                <a:lnTo>
                  <a:pt x="17747" y="8772"/>
                </a:lnTo>
                <a:lnTo>
                  <a:pt x="18113" y="8224"/>
                </a:lnTo>
                <a:lnTo>
                  <a:pt x="18853" y="8224"/>
                </a:lnTo>
                <a:lnTo>
                  <a:pt x="18853" y="13376"/>
                </a:lnTo>
                <a:lnTo>
                  <a:pt x="18113" y="13376"/>
                </a:lnTo>
                <a:lnTo>
                  <a:pt x="17747" y="12828"/>
                </a:lnTo>
                <a:lnTo>
                  <a:pt x="15902" y="12828"/>
                </a:lnTo>
                <a:lnTo>
                  <a:pt x="15902" y="14107"/>
                </a:lnTo>
                <a:lnTo>
                  <a:pt x="6319" y="14107"/>
                </a:lnTo>
                <a:lnTo>
                  <a:pt x="6319" y="9877"/>
                </a:lnTo>
                <a:lnTo>
                  <a:pt x="6136" y="9877"/>
                </a:lnTo>
                <a:lnTo>
                  <a:pt x="5753" y="10243"/>
                </a:lnTo>
                <a:lnTo>
                  <a:pt x="4840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319480" y="762120"/>
            <a:ext cx="429696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DUPLICACION EN EUCARIO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273400" y="1735200"/>
            <a:ext cx="40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canismo similar al de procario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273760" y="2238480"/>
            <a:ext cx="47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yor número de enzimas ADN polimera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275200" y="2743200"/>
            <a:ext cx="46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yor número de horquillas de dupl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273040" y="3246480"/>
            <a:ext cx="572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ragmentos de Okasaki más pequeños (100 a 200 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410560" y="4255920"/>
            <a:ext cx="406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Velocidad de duplicación may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319480" y="762120"/>
            <a:ext cx="429696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DUPLICACION EN EUCARIO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73080" y="170028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OLIMERA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218960" y="2098800"/>
            <a:ext cx="62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DN Polimerasa alfa: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ntetiza los fragmentos de Okasak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216080" y="2590920"/>
            <a:ext cx="7748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DN Polimerasa delta: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 la encargada de realizar la síntesis del ADN, hebra princip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DN Polimerasa gamm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sintetiza ADN mitocond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DN Polimerasa bet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repara el ADN dañ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483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5050"/>
                </a:solidFill>
                <a:latin typeface="Arial"/>
              </a:rPr>
              <a:t>Mutaciones en el AD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5050"/>
                </a:solidFill>
                <a:latin typeface="Arial"/>
              </a:rPr>
              <a:t>Mut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Ocurren alteraciones del ADN original, que cambian el genotipo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uede ser tan simple como un nucleótido equivocad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e cambio puede constituir un daño o un benefi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uede ser causado por factores químicos o ambientales - </a:t>
            </a:r>
            <a:r>
              <a:rPr b="0" lang="es-CL" sz="3200" spc="-1" strike="noStrike">
                <a:solidFill>
                  <a:srgbClr val="333399"/>
                </a:solidFill>
                <a:latin typeface="Arial"/>
              </a:rPr>
              <a:t>mutáge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519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5050"/>
                </a:solidFill>
                <a:latin typeface="Arial"/>
              </a:rPr>
              <a:t>Agentes Mutagén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604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Un número de factores son sospechosos de causar mutaciones en el geno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99"/>
                </a:solidFill>
                <a:latin typeface="Arial"/>
              </a:rPr>
              <a:t>Radi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505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uz UV (forma dímeros de Timi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Arial"/>
              </a:rPr>
              <a:t>Quím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505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ncerígenos (ejemplo: colorante bromuro de etidi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274320"/>
            <a:ext cx="51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5050"/>
                </a:solidFill>
                <a:latin typeface="Arial"/>
              </a:rPr>
              <a:t>Mutación y Repar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s células contienen muchos mecanismos de reparació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5050"/>
                </a:solidFill>
                <a:latin typeface="Arial"/>
              </a:rPr>
              <a:t>Luz UV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(luz de alta energí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ausa la formación de dímeros de tim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 bajos niveles puede ser repar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 altos niveles puede causar la mue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5003640" y="404640"/>
            <a:ext cx="3672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5050"/>
                </a:solidFill>
                <a:latin typeface="Arial"/>
              </a:rPr>
              <a:t>Fotodimeriz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659640" y="1916280"/>
            <a:ext cx="1441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Luz U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236000" y="5084640"/>
            <a:ext cx="1908000" cy="193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ímeros de tim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39640" y="907920"/>
            <a:ext cx="3240360" cy="543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 exposición a la luz UV puede causar la unión covalente de timinas adyac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to resulta en la distorsión de la molécula de ADN y ruptura de los enlaces de hidrógeno con la aden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009960" y="711360"/>
            <a:ext cx="3124080" cy="5435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946120" y="3284640"/>
            <a:ext cx="2923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=3,6 nm o 10 pares de b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or vuel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9920" y="189000"/>
            <a:ext cx="6642360" cy="398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odelo de Watson y Crick para la Estructura del D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4000" y="4600440"/>
            <a:ext cx="160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 Forma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3205080" y="379440"/>
            <a:ext cx="4103640" cy="6097680"/>
            <a:chOff x="3205080" y="379440"/>
            <a:chExt cx="4103640" cy="6097680"/>
          </a:xfrm>
        </p:grpSpPr>
        <p:pic>
          <p:nvPicPr>
            <p:cNvPr id="248" name="" descr=""/>
            <p:cNvPicPr/>
            <p:nvPr/>
          </p:nvPicPr>
          <p:blipFill>
            <a:blip r:embed="rId1"/>
            <a:stretch/>
          </p:blipFill>
          <p:spPr>
            <a:xfrm>
              <a:off x="3205080" y="379440"/>
              <a:ext cx="4071960" cy="609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5292360" y="1204920"/>
              <a:ext cx="2016360" cy="82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Arial"/>
                </a:rPr>
                <a:t>Corte de un fragmento de 12 nucleótidos por una escinucleasa uvrABC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21080" y="2637000"/>
              <a:ext cx="172728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Síntesis de ADN por ADN polimerasa 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292360" y="5229360"/>
              <a:ext cx="1366920" cy="55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Unión p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ADN liga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250920" y="1598760"/>
            <a:ext cx="2808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 bacteri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jemplo de reparación por escisión de nucleótid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 elimina y se reemplaza un fragmento en torno a la zona dañ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mayoría de los daños en el ADN son reparados por este mecan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8497800" cy="4741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341360"/>
            <a:ext cx="2160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upl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08000" y="3429000"/>
            <a:ext cx="288000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rascrip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Síntesis de A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292720" y="1052640"/>
            <a:ext cx="352728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ra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(Síntesis de proteín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03640" y="3429000"/>
            <a:ext cx="2016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iboso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4360" y="4437000"/>
            <a:ext cx="1657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teí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6200" y="398520"/>
            <a:ext cx="55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gma de la Biología Celular, Modelo Tradi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680" y="4024440"/>
            <a:ext cx="438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mensajero, de transferencia y ribosom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8497800" cy="4741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50920" y="1341360"/>
            <a:ext cx="2160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upl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08000" y="3429000"/>
            <a:ext cx="288000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rascrip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Síntesis de A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1052640"/>
            <a:ext cx="352728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ra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(Síntesis de proteín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03640" y="3429000"/>
            <a:ext cx="2016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iboso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164360" y="4437000"/>
            <a:ext cx="1657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teí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7280" y="398520"/>
            <a:ext cx="536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gma de la Biología Celular, Modelo Diná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32680" y="4024440"/>
            <a:ext cx="438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mensajero, de transferencia y ribosom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16000" y="5753160"/>
            <a:ext cx="786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curre transcripción rever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sintetiza un transcrito 1º o pre-mRNA que luego se edita – RNA mensajero mad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Ocurre cada vez que la célula se divide (Ocurre en la Interfase Celular, en la fase 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3300"/>
                </a:solidFill>
                <a:latin typeface="Arial"/>
              </a:rPr>
              <a:t>Hay Mecanismos simples involucr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paración inicial de las dos hebr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ducción de una nueva hebra, obteniendo una NUEVA MOLÉCULA DE AD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El proceso requiere la participación de varias enzim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plicación del AD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149400"/>
            <a:ext cx="9144000" cy="65592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0"/>
            <a:ext cx="5796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Replicación Conserva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8000" y="1197000"/>
            <a:ext cx="3600720" cy="132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DN orig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oble hél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92360" y="3279600"/>
            <a:ext cx="4103640" cy="295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oléculas de ADN después de un ciclo de duplicación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(replica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8820000" cy="6039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333360"/>
            <a:ext cx="6696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Duplicación semiconserva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59280" y="1268280"/>
            <a:ext cx="316836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Hélice de ADN orig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124000" y="3429000"/>
            <a:ext cx="3816360" cy="20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Hélices de ADN después de un ciclo de duplic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600" y="811080"/>
            <a:ext cx="302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eselson y Stahl, 1958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5811840"/>
            <a:ext cx="67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Modelo semi-conservativo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: 1 hebra de cada molécula de doble ADN se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conserva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la nueva molécula hija de AD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2T11:11:57Z</dcterms:created>
  <dc:creator>Ana María</dc:creator>
  <dc:description/>
  <dc:language>en-US</dc:language>
  <cp:lastModifiedBy>PARIS</cp:lastModifiedBy>
  <dcterms:modified xsi:type="dcterms:W3CDTF">2010-04-20T05:01:48Z</dcterms:modified>
  <cp:revision>9</cp:revision>
  <dc:subject/>
  <dc:title>Diapositiva 1</dc:title>
</cp:coreProperties>
</file>