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E11-9FD2-46CB-81A3-E8DCFD26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CB6-15F4-4E99-9DAF-776319D2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131-8952-4126-A997-5B36382B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23D-54F3-4092-9D5F-A0E24082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B57-2CDF-4702-ACB9-D1921A7C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EEB-7A9A-4A0B-853F-8B4D464B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798-3184-4332-A698-90F99F92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141-CEEB-4976-B1EC-F8EC1B30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4194-CFA8-42AA-860D-793C084A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C45-4D4E-4088-923E-F5A83887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CCE-AC8F-46BC-878E-91BC2754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987-9C4E-4854-A5F7-36B9EC8E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6F5D-704A-4565-A682-F619926678C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43640" y="476280"/>
            <a:ext cx="216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Nucleós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700280"/>
            <a:ext cx="46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binación azúcar-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084640"/>
            <a:ext cx="1800000" cy="1023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zúcar en este caso es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4508640"/>
            <a:ext cx="165744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lace ß-N glicosí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476280"/>
            <a:ext cx="374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Duplicación</a:t>
            </a: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de A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700280"/>
            <a:ext cx="54723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La duplicación ocurre en ambas hebras en direcciones opues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72360" y="6308640"/>
            <a:ext cx="971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43280" y="981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’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3120" y="2819520"/>
            <a:ext cx="853596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285264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dob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852640"/>
            <a:ext cx="151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4880" y="1000080"/>
            <a:ext cx="76118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que ocurra síntesis de ADN la doble hebra se debe desenrol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3120" y="709560"/>
            <a:ext cx="8535960" cy="5438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16000" y="1341360"/>
            <a:ext cx="1655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N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765000"/>
            <a:ext cx="2663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7080" y="558972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ocurre en esta 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012000" y="4797000"/>
            <a:ext cx="8650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3800" y="716040"/>
            <a:ext cx="5756400" cy="6097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916360" y="5950080"/>
            <a:ext cx="3960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6021360"/>
            <a:ext cx="237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írculo relaj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18400" y="439560"/>
            <a:ext cx="448920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720" y="13604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NA 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718160" y="6381720"/>
            <a:ext cx="251928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76720" y="1003320"/>
            <a:ext cx="5540040" cy="5594400"/>
            <a:chOff x="3276720" y="1003320"/>
            <a:chExt cx="5540040" cy="55944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3420000" y="1003320"/>
              <a:ext cx="5396760" cy="55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5764680"/>
              <a:ext cx="4780800" cy="83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79280" y="1268280"/>
            <a:ext cx="475164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1º. Fase de inici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enrollamiento del A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18760" y="439560"/>
            <a:ext cx="44953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720" y="2409840"/>
            <a:ext cx="802656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18760" y="439560"/>
            <a:ext cx="44953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404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íntesis del cromosoma de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.col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iempre comienza en el mismo punto, llamado siti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i 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una región de 245 pares de b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94120" y="1000080"/>
            <a:ext cx="4521240" cy="543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33840" y="981000"/>
            <a:ext cx="187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321300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1280" y="3789360"/>
            <a:ext cx="201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443880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24224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38920" y="2133720"/>
            <a:ext cx="647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78560" y="177336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160" y="1073160"/>
            <a:ext cx="29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uplicación puede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direccional (más comú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39800" y="836640"/>
            <a:ext cx="63057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zimas que participan en el desenrollamiento del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3440" y="164772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LICAS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92200" y="164304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s que se mueven a lo largo del ADN y separan las 2 hebras, usando energía del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133960" cy="2463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571000" y="2274840"/>
            <a:ext cx="170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elicasa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2240" y="4559400"/>
            <a:ext cx="2250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1440" y="487512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POISOMERAS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Ej: ADN Gir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87512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s que disminuyen el estrés topológico generado por la separación de las hebras (corte reversible de un enlace fosfodié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2520" y="5797440"/>
            <a:ext cx="35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TEINAS DE UNIÓN A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SS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97320" y="58118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teínas que se unen a las hebras simples para estabilizar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1960" y="3916440"/>
            <a:ext cx="46918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Requerimientos de la fase de elong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543560"/>
            <a:ext cx="740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lde de ADN doble h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ozo corto de ARN llamado partidor o ceb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sintetizado por la enzima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PRIMAS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10-60 nt en procariotas, en eucariotas es de 10 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mismas enzimas y proteínas de la fase de ini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1240" y="6230880"/>
            <a:ext cx="81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RIMOSOM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complejo formado entre la primasa y las proteínas auxiliar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3760" y="3916440"/>
            <a:ext cx="2745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ecanismo de sínt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2280" y="4745160"/>
            <a:ext cx="783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l partidor por la PRI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 la hebra hija desde el extremo 3’ del part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la forma de sintetizarla depende de la hebra, si es continua o discontin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84720" y="549360"/>
            <a:ext cx="251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Nucleó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628640"/>
            <a:ext cx="7848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ido si el –OH en el azúcar de un nucleósido es convertido en un ester fosf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724280"/>
            <a:ext cx="3600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uno es  nombrado de acuerdo al nombre de su azúcar y de su base y también el numero de fosfatos es indi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3284640"/>
            <a:ext cx="3744720" cy="11674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oxiadenosina   mono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8360" y="6308640"/>
            <a:ext cx="755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2680" y="3916440"/>
            <a:ext cx="3699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 síntesis es semi-discontinu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1960" y="424980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iji Okazaki, 196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4941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entras una hebra es sintetizada en forma continua (hebra adelantada), la otra (hebra retrasada) se sintetiza por fragmentos*, en forma discontin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6093000"/>
            <a:ext cx="54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* Estos fragmentos son: Fragmentos de Okaz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03120" y="1501920"/>
            <a:ext cx="8535960" cy="3852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4360" y="1773360"/>
            <a:ext cx="136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DN P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3640" y="2997360"/>
            <a:ext cx="2737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ragmentos de Okas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88000" y="1413000"/>
            <a:ext cx="2160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66"/>
                </a:solidFill>
                <a:latin typeface="Arial"/>
              </a:rPr>
              <a:t>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4508640"/>
            <a:ext cx="208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5229000" cy="215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03640" y="2133720"/>
            <a:ext cx="2592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8000" y="2492280"/>
            <a:ext cx="2087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recimient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3141720"/>
            <a:ext cx="305928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DN sintetizado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ciente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3645000"/>
            <a:ext cx="34725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zimas que duplican el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73960" y="424008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DN polimerasa III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enzima responsable de la duplicación del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471816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DN polimerasa I  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función es remover el partidor de ARN y sustituirlo por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9810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ebra adelan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579640" y="1341360"/>
            <a:ext cx="576360" cy="5749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1480" y="5661000"/>
            <a:ext cx="7904160" cy="73332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mbas poseen actividad exonucleasa correctora 3’</a:t>
            </a:r>
            <a:r>
              <a:rPr b="0" lang="es-ES_tradn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5’ (proofreading) que permite aumentar la fidelidad de la duplicación del ADN, removiendo los nucleótidos que fueron puestos errad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itan mutacion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736560"/>
            <a:ext cx="9144000" cy="6121440"/>
            <a:chOff x="0" y="736560"/>
            <a:chExt cx="9144000" cy="612144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660240" y="736560"/>
              <a:ext cx="7823520" cy="53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498920" y="2031840"/>
              <a:ext cx="1081080" cy="2664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61240" y="2031840"/>
              <a:ext cx="1081080" cy="2664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4360" y="280980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335772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56000" y="364500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16800" y="419256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869000"/>
              <a:ext cx="9144000" cy="19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84360" y="5084640"/>
            <a:ext cx="78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ub-unidad </a:t>
            </a:r>
            <a:r>
              <a:rPr b="0" lang="el-GR" sz="18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la que le otorga la procesividad a la ADN Pol III (adición de nucleót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NA pol tipo III posee más de una sub-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4280" y="1041480"/>
            <a:ext cx="7975440" cy="4775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9640" y="4724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244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35000" y="379440"/>
            <a:ext cx="7072200" cy="6097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96160" y="63972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NA pol tipo III, 10 sub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8720" y="1371600"/>
            <a:ext cx="802656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0920" y="436572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de ADN mo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522936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1484280"/>
            <a:ext cx="20876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greso de un desoxiribonucleosido 5’- trifosf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3213000"/>
            <a:ext cx="11509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recimiento de ADN (Prim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28000" y="62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58880" y="254160"/>
            <a:ext cx="4026240" cy="6349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580000" y="1268280"/>
            <a:ext cx="1008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ebra ADN mol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00" y="712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ración del 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3120" y="711360"/>
            <a:ext cx="6197760" cy="5435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300720" y="69228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retr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3120" y="343080"/>
            <a:ext cx="8535960" cy="6170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411280" y="692280"/>
            <a:ext cx="11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li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1413000"/>
            <a:ext cx="13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os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558972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adelan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04000" y="595008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retr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1125360"/>
            <a:ext cx="244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ínas que se unen a hebra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360" y="2852640"/>
            <a:ext cx="11509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3500280"/>
            <a:ext cx="1944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polimerasa III - holoenz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437000"/>
            <a:ext cx="1800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  polimer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5373720"/>
            <a:ext cx="1872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lig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8720" y="838080"/>
            <a:ext cx="8026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743200" y="379440"/>
            <a:ext cx="3657600" cy="6097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26920" y="2492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301"/>
                </a:moveTo>
                <a:lnTo>
                  <a:pt x="4711" y="7301"/>
                </a:lnTo>
                <a:lnTo>
                  <a:pt x="5094" y="7667"/>
                </a:lnTo>
                <a:lnTo>
                  <a:pt x="14303" y="7667"/>
                </a:lnTo>
                <a:lnTo>
                  <a:pt x="14860" y="8224"/>
                </a:lnTo>
                <a:lnTo>
                  <a:pt x="14860" y="8772"/>
                </a:lnTo>
                <a:lnTo>
                  <a:pt x="16705" y="8772"/>
                </a:lnTo>
                <a:lnTo>
                  <a:pt x="17070" y="8224"/>
                </a:lnTo>
                <a:lnTo>
                  <a:pt x="17810" y="8224"/>
                </a:lnTo>
                <a:lnTo>
                  <a:pt x="17810" y="13376"/>
                </a:lnTo>
                <a:lnTo>
                  <a:pt x="17070" y="13376"/>
                </a:lnTo>
                <a:lnTo>
                  <a:pt x="16705" y="12828"/>
                </a:lnTo>
                <a:lnTo>
                  <a:pt x="14860" y="12828"/>
                </a:lnTo>
                <a:lnTo>
                  <a:pt x="14860" y="14107"/>
                </a:lnTo>
                <a:lnTo>
                  <a:pt x="5277" y="14107"/>
                </a:lnTo>
                <a:lnTo>
                  <a:pt x="5277" y="9877"/>
                </a:lnTo>
                <a:lnTo>
                  <a:pt x="5094" y="9877"/>
                </a:lnTo>
                <a:lnTo>
                  <a:pt x="4711" y="10243"/>
                </a:lnTo>
                <a:lnTo>
                  <a:pt x="379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u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67640" y="263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u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6560" y="5229360"/>
            <a:ext cx="45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bas hebras son generadas por un único dímero de ADN polimerasa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68360" y="4149720"/>
            <a:ext cx="5327640" cy="21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7fd03"/>
                </a:solidFill>
                <a:latin typeface="Arial"/>
              </a:rPr>
              <a:t>Los cromosomas consisten de ADN y proteí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2144880" cy="4525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003640" y="1484280"/>
            <a:ext cx="3214800" cy="4525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17760" y="1125360"/>
            <a:ext cx="33170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ROMOSOMA EUCARI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532480" y="189000"/>
            <a:ext cx="2711520" cy="6583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76320" y="47628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9440" y="105264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s pasos ext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44160" y="1647720"/>
            <a:ext cx="30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ociación de las hist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1440" y="21337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 hist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1640" y="4869000"/>
            <a:ext cx="790560" cy="720720"/>
          </a:xfrm>
          <a:custGeom>
            <a:avLst/>
            <a:gdLst>
              <a:gd name="textAreaLeft" fmla="*/ 46440 w 790560"/>
              <a:gd name="textAreaRight" fmla="*/ 744120 w 7905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692" h="21600">
                <a:moveTo>
                  <a:pt x="0" y="0"/>
                </a:moveTo>
                <a:lnTo>
                  <a:pt x="23692" y="0"/>
                </a:lnTo>
                <a:lnTo>
                  <a:pt x="23692" y="21600"/>
                </a:lnTo>
                <a:lnTo>
                  <a:pt x="0" y="21600"/>
                </a:lnTo>
                <a:close/>
              </a:path>
              <a:path fill="lightenLess" w="23692" h="21600">
                <a:moveTo>
                  <a:pt x="0" y="0"/>
                </a:moveTo>
                <a:lnTo>
                  <a:pt x="23692" y="0"/>
                </a:lnTo>
                <a:lnTo>
                  <a:pt x="22292" y="1400"/>
                </a:lnTo>
                <a:lnTo>
                  <a:pt x="1400" y="1400"/>
                </a:lnTo>
                <a:close/>
              </a:path>
              <a:path fill="darken" w="23692" h="21600">
                <a:moveTo>
                  <a:pt x="23692" y="0"/>
                </a:moveTo>
                <a:lnTo>
                  <a:pt x="23692" y="21600"/>
                </a:lnTo>
                <a:lnTo>
                  <a:pt x="22292" y="20200"/>
                </a:lnTo>
                <a:lnTo>
                  <a:pt x="22292" y="1400"/>
                </a:lnTo>
                <a:close/>
              </a:path>
              <a:path fill="darkenLess" w="23692" h="21600">
                <a:moveTo>
                  <a:pt x="23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2" y="20200"/>
                </a:lnTo>
                <a:close/>
              </a:path>
              <a:path fill="lighten" w="23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2" h="21600">
                <a:moveTo>
                  <a:pt x="4840" y="7301"/>
                </a:moveTo>
                <a:lnTo>
                  <a:pt x="5753" y="7301"/>
                </a:lnTo>
                <a:lnTo>
                  <a:pt x="6136" y="7667"/>
                </a:lnTo>
                <a:lnTo>
                  <a:pt x="15345" y="7667"/>
                </a:lnTo>
                <a:lnTo>
                  <a:pt x="15902" y="8224"/>
                </a:lnTo>
                <a:lnTo>
                  <a:pt x="15902" y="8772"/>
                </a:lnTo>
                <a:lnTo>
                  <a:pt x="17747" y="8772"/>
                </a:lnTo>
                <a:lnTo>
                  <a:pt x="18113" y="8224"/>
                </a:lnTo>
                <a:lnTo>
                  <a:pt x="18853" y="8224"/>
                </a:lnTo>
                <a:lnTo>
                  <a:pt x="18853" y="13376"/>
                </a:lnTo>
                <a:lnTo>
                  <a:pt x="18113" y="13376"/>
                </a:lnTo>
                <a:lnTo>
                  <a:pt x="17747" y="12828"/>
                </a:lnTo>
                <a:lnTo>
                  <a:pt x="15902" y="12828"/>
                </a:lnTo>
                <a:lnTo>
                  <a:pt x="15902" y="14107"/>
                </a:lnTo>
                <a:lnTo>
                  <a:pt x="6319" y="14107"/>
                </a:lnTo>
                <a:lnTo>
                  <a:pt x="6319" y="9877"/>
                </a:lnTo>
                <a:lnTo>
                  <a:pt x="6136" y="9877"/>
                </a:lnTo>
                <a:lnTo>
                  <a:pt x="5753" y="10243"/>
                </a:lnTo>
                <a:lnTo>
                  <a:pt x="484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319480" y="76212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73400" y="1735200"/>
            <a:ext cx="40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 similar al de procario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73760" y="2238480"/>
            <a:ext cx="47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número de enzimas ADN poli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75200" y="2743200"/>
            <a:ext cx="46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número de horquillas de du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73040" y="3246480"/>
            <a:ext cx="57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agmentos de Okasaki más pequeños (100 a 200 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10560" y="4255920"/>
            <a:ext cx="40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locidad de duplicación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19480" y="76212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3080" y="1700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OLI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8960" y="2098800"/>
            <a:ext cx="62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alfa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tetiza los fragmentos de Okasa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6080" y="2590920"/>
            <a:ext cx="774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delta: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encargada de realizar la síntesis del ADN, hebra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gamm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intetiza ADN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be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para el ADN dañ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Mutaciones en el A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Mu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curren alteraciones del ADN original, que cambian el genotip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de ser tan simple como un nucleótido equivo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e cambio puede constituir un daño o un benef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de ser causado por factores químicos o ambientales - 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mutág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51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Agentes Mutagé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604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número de factores son sospechosos de causar mutaciones en el gen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Rad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uz UV (forma dímeros de Tim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Quí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cerígenos (ejemplo: colorante bromuro de etid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51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Mutación y Repa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células contienen muchos mecanismos de repar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Luz UV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(luz de alta energ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usa la formación de dímeros de ti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bajos niveles puede ser repa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altos niveles puede causar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003640" y="404640"/>
            <a:ext cx="367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Fotodime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9640" y="1916280"/>
            <a:ext cx="144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uz 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6000" y="5084640"/>
            <a:ext cx="190800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ímeros de ti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907920"/>
            <a:ext cx="3240360" cy="54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xposición a la luz UV puede causar la unión covalente de timinas adya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o resulta en la distorsión de la molécula de ADN y ruptura de los enlaces de hidrógeno con la ade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09960" y="711360"/>
            <a:ext cx="3124080" cy="543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46120" y="3284640"/>
            <a:ext cx="292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=3,6 nm o 10 pares de 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vue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9920" y="189000"/>
            <a:ext cx="664236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delo de Watson y Crick para la Estructura del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00" y="460044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Form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3205080" y="379440"/>
            <a:ext cx="4103640" cy="6097680"/>
            <a:chOff x="3205080" y="379440"/>
            <a:chExt cx="4103640" cy="609768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3205080" y="379440"/>
              <a:ext cx="4071960" cy="60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292360" y="1204920"/>
              <a:ext cx="201636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Corte de un fragmento de 12 nucleótidos por una escinucleasa uvrABC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21080" y="2637000"/>
              <a:ext cx="17272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íntesis de ADN por ADN polimerasa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92360" y="5229360"/>
              <a:ext cx="136692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Unión 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DN lig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0920" y="1598760"/>
            <a:ext cx="280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bacter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mplo de reparación por escisión de nucleót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elimina y se reemplaza un fragmento en torno a la zona dañ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ayoría de los daños en el ADN son reparados por este meca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7800" cy="4741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341360"/>
            <a:ext cx="21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3429000"/>
            <a:ext cx="2880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íntesis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1052640"/>
            <a:ext cx="3527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Síntesis de 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3429000"/>
            <a:ext cx="201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b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4437000"/>
            <a:ext cx="165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6200" y="398520"/>
            <a:ext cx="55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ma de la Biología Celular, Modelo Trad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680" y="402444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ensajero, de transferencia y riboso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7800" cy="4741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1341360"/>
            <a:ext cx="21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3429000"/>
            <a:ext cx="2880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íntesis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1052640"/>
            <a:ext cx="3527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Síntesis de 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3429000"/>
            <a:ext cx="201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b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4360" y="4437000"/>
            <a:ext cx="165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7280" y="39852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ma de la Biología Celular, Modelo Din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32680" y="402444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ensajero, de transferencia y riboso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5753160"/>
            <a:ext cx="78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urre transcripción re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sintetiza un transcrito 1º o pre-mRNA que luego se edita – RNA mensajero mad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curre cada vez que la célula se divide (Ocurre en la Interfase Celular, en la fase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Hay Mecanismos simples involuc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paración inicial de las dos heb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ción de una nueva hebra, obteniendo una NUEVA MOLÉCULA DE AD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proceso requiere la participación de varias enz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licación del A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5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579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Replicación Conserv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1197000"/>
            <a:ext cx="36007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ble hé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3279600"/>
            <a:ext cx="4103640" cy="29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léculas de ADN después de un ciclo de duplicación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replic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820000" cy="6039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333360"/>
            <a:ext cx="669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uplicación semiconserv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1268280"/>
            <a:ext cx="3168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Hélice de AD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3429000"/>
            <a:ext cx="381636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Hélices de ADN después de un ciclo de du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00" y="81108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selson y Stahl, 1958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581184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Modelo semi-conservativ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1 hebra de cada molécula de doble ADN se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onserv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nueva molécula hija de AD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1:11:57Z</dcterms:created>
  <dc:creator>Ana María</dc:creator>
  <dc:description/>
  <dc:language>en-US</dc:language>
  <cp:lastModifiedBy>PARIS</cp:lastModifiedBy>
  <dcterms:modified xsi:type="dcterms:W3CDTF">2010-04-20T05:01:48Z</dcterms:modified>
  <cp:revision>9</cp:revision>
  <dc:subject/>
  <dc:title>Diapositiva 1</dc:title>
</cp:coreProperties>
</file>