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6B1-54C6-47AD-B716-792E74B7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926-DBFB-4279-A7C0-5D4B430D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EB3-3636-4AE9-AB67-8118275B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270-6794-439A-89D0-6A12DC4E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BCA-EF0B-4DBF-9022-310A254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0A4-47C1-410A-B531-8A7DAEFF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E7F-6253-4A07-8030-07C33641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786-3EBE-428B-84FC-4B0EFB35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2A0-8D74-470B-9ACF-1091CAA8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DBF-707C-41A4-A530-76BE8E9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001-EA9F-4FE9-8D1B-00B93CB3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BB3-B6CE-4E57-A45B-1FA0C052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FBEB-D74B-4EE2-98F4-A1ED9B92D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7528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ONES  ENTRE 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124080"/>
            <a:ext cx="7772400" cy="2875680"/>
          </a:xfrm>
          <a:prstGeom prst="rect">
            <a:avLst/>
          </a:prstGeom>
          <a:solidFill>
            <a:srgbClr val="ffcc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uniones intercelulares son regiones diferenciadas de la membrana plasmática que aseguran la adherencia de las membranas entre sí o con la lámina basal y que interaccionan con el citoesquelé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Figura 5&#9;Pénfigo foliáceo. Corte histológico demostrando una ampolla subcornea con células acantolíticas en su interior."/>
          <p:cNvPicPr/>
          <p:nvPr/>
        </p:nvPicPr>
        <p:blipFill>
          <a:blip r:embed="rId1"/>
          <a:srcRect l="0" t="54472" r="0" b="0"/>
          <a:stretch/>
        </p:blipFill>
        <p:spPr>
          <a:xfrm>
            <a:off x="5562720" y="1066680"/>
            <a:ext cx="3132000" cy="282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énf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989000"/>
            <a:ext cx="4114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fermedad vesículo-ampollar auto-inmune con una posible susceptibilidad gen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acto  F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174840"/>
            <a:ext cx="3200400" cy="3155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ón de una célula con la matriz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vinculan los microfilamentos de actina del citoesqueleto con proteínas de la matri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NTEGRINAS son las proteínas transmembrana que realizan la un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5151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idesmosomas (cornea, epidermis, esófa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6172200" cy="471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041560"/>
            <a:ext cx="2133720" cy="325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hemidesmosomas, los filamentos de queratina terminan en la placa den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roteína transmembrana es una INTEGRINA, y vincula a la célula con proteínas de la matriz extra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ONES  COMUNICANT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ón  Nexus o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1523880"/>
            <a:ext cx="8001000" cy="5140440"/>
            <a:chOff x="609480" y="1523880"/>
            <a:chExt cx="8001000" cy="51404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7315200" cy="514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5715000" y="1708200"/>
              <a:ext cx="2895480" cy="1554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da CONEXÓN está formado por seis unidades proteicas llamadas Conexinas, que se disponen en forma circular formando un Po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ísticas de las Un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1455840"/>
          <a:ext cx="8001000" cy="4300560"/>
        </p:xfrm>
        <a:graphic>
          <a:graphicData uri="http://schemas.openxmlformats.org/drawingml/2006/table">
            <a:tbl>
              <a:tblPr/>
              <a:tblGrid>
                <a:gridCol w="2163600"/>
                <a:gridCol w="1569960"/>
                <a:gridCol w="1600200"/>
                <a:gridCol w="2667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 de membr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ínculo al citoesquel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F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i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x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digi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371600"/>
            <a:ext cx="777240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yecciones de la membrana de una célula que se introducen en invaginaciones de la membrana de la célula adyacente.  Se encuentran en células epiteliales y su función es aumentar la superficie de membrana, favoreciendo la unión entre células y el transporte de líqu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3246480"/>
            <a:ext cx="7620120" cy="3306600"/>
            <a:chOff x="914400" y="3246480"/>
            <a:chExt cx="7620120" cy="3306600"/>
          </a:xfrm>
        </p:grpSpPr>
        <p:grpSp>
          <p:nvGrpSpPr>
            <p:cNvPr id="95" name=""/>
            <p:cNvGrpSpPr/>
            <p:nvPr/>
          </p:nvGrpSpPr>
          <p:grpSpPr>
            <a:xfrm>
              <a:off x="914400" y="3246480"/>
              <a:ext cx="4800600" cy="3306600"/>
              <a:chOff x="914400" y="3246480"/>
              <a:chExt cx="4800600" cy="330660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3246480"/>
                <a:ext cx="4800600" cy="33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914400" y="3779640"/>
                <a:ext cx="1524240" cy="398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14400" y="4770360"/>
                <a:ext cx="1524240" cy="398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334120" y="4025880"/>
              <a:ext cx="3200400" cy="1608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grafía de una unión interdigit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o participan específicamente las  proteínas de membrana ni los elementos del citoesquele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bicación de las Un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13872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iones Intercel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523880"/>
            <a:ext cx="6400800" cy="398880"/>
          </a:xfrm>
          <a:prstGeom prst="rect">
            <a:avLst/>
          </a:prstGeom>
          <a:solidFill>
            <a:srgbClr val="66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lasifican según su forma, estructura y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66680" y="2895480"/>
          <a:ext cx="6986880" cy="3149640"/>
        </p:xfrm>
        <a:graphic>
          <a:graphicData uri="http://schemas.openxmlformats.org/drawingml/2006/table">
            <a:tbl>
              <a:tblPr/>
              <a:tblGrid>
                <a:gridCol w="2262240"/>
                <a:gridCol w="47246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S (Zónu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lan el espacio intercelular para evitar el paso de sustancias por ese espacio (Epitelio intestinal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ienen la ubicación de las células y el material extracelular o matri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n el pasaje de pequeñas sustancias entre células contigua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ONES  DE  ANCLAJE</a:t>
            </a:r>
            <a:br>
              <a:rPr sz="25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Interme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4640" y="10666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2514600"/>
            <a:ext cx="2743200" cy="380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Uniones Intermedias forman un cinturón de adhesión alrededor de l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roteína CADERINA atraviesa la membrana plasmática y se une a otra caderina de una célula vecina.  En el citoplasma, la caderina se vincula a los filamentos de actina del citoesque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164040" cy="532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Unión de las caderinas a los filamentos de Ac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33960" y="914400"/>
            <a:ext cx="437652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2133720"/>
            <a:ext cx="3886200" cy="3111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desmosomas, las proteínas transmembrana que participan de la unión intercelular son las  CADERINAS , que se unen en el espacio intercelular formando “asas”.  En el extremo citoplasmático, se unen a una placa proteica que, a su vez, se une a proteínas del citoesqueleto como la queratina, que es un filamento interme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907240" cy="6248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2697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ltraestructura de los 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0880" y="990720"/>
            <a:ext cx="8077320" cy="5562360"/>
            <a:chOff x="380880" y="990720"/>
            <a:chExt cx="8077320" cy="55623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805040" y="990720"/>
              <a:ext cx="398592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029200" y="4800600"/>
              <a:ext cx="3429000" cy="119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crografía que muestra tres Desmosomas situados entre dos células del epitelio intestinal de r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876560" y="2514600"/>
              <a:ext cx="2895840" cy="685800"/>
              <a:chOff x="4876560" y="2514600"/>
              <a:chExt cx="2895840" cy="68580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4876560" y="2743200"/>
                <a:ext cx="152424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00800" y="25146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80880" y="2590920"/>
              <a:ext cx="2438280" cy="685800"/>
              <a:chOff x="380880" y="2590920"/>
              <a:chExt cx="2438280" cy="685800"/>
            </a:xfrm>
          </p:grpSpPr>
          <p:sp>
            <p:nvSpPr>
              <p:cNvPr id="75" name=""/>
              <p:cNvSpPr/>
              <p:nvPr/>
            </p:nvSpPr>
            <p:spPr>
              <a:xfrm flipH="1" flipV="1">
                <a:off x="1447560" y="2819520"/>
                <a:ext cx="13716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880" y="259092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21:48:59Z</dcterms:created>
  <dc:creator>Familia</dc:creator>
  <dc:description/>
  <dc:language>en-US</dc:language>
  <cp:lastModifiedBy>PARIS</cp:lastModifiedBy>
  <dcterms:modified xsi:type="dcterms:W3CDTF">2010-04-19T05:00:34Z</dcterms:modified>
  <cp:revision>10</cp:revision>
  <dc:subject/>
  <dc:title>xxx</dc:title>
</cp:coreProperties>
</file>