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8D0-BCBC-4415-8570-D5424FA1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806-F64A-4A3B-84B0-545C9665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BDB-16E1-4363-B842-305BDE56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307-9E56-4B13-93BB-7F0E7174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863-2833-47F5-8218-7847F468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A4D-745C-4F93-996A-4169880B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C1E-83A4-40DF-B0AB-11DF0135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630-C279-4769-AB70-6152E362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7B2-74F6-4443-B9F3-D62CD4FC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261-45B7-400C-B2A9-D5FECDB7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FBE-DBCF-4FA8-BBAE-17A0F75A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38A-FAF2-4218-BF15-BCBC1DC7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F59F-326B-4BEA-B51E-FF4BE3DD2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7528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UNIONES  ENTRE  CÉLU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124080"/>
            <a:ext cx="7772400" cy="2875680"/>
          </a:xfrm>
          <a:prstGeom prst="rect">
            <a:avLst/>
          </a:prstGeom>
          <a:solidFill>
            <a:srgbClr val="ffcc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uniones intercelulares son regiones diferenciadas de la membrana plasmática que aseguran la adherencia de las membranas entre sí o con la lámina basal y que interaccionan con el citoesquelé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Figura 5&#9;Pénfigo foliáceo. Corte histológico demostrando una ampolla subcornea con células acantolíticas en su interior."/>
          <p:cNvPicPr/>
          <p:nvPr/>
        </p:nvPicPr>
        <p:blipFill>
          <a:blip r:embed="rId1"/>
          <a:srcRect l="0" t="54472" r="0" b="0"/>
          <a:stretch/>
        </p:blipFill>
        <p:spPr>
          <a:xfrm>
            <a:off x="5562720" y="1066680"/>
            <a:ext cx="3132000" cy="282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énfi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1989000"/>
            <a:ext cx="411480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fermedad vesículo-ampollar auto-inmune con una posible susceptibilidad gené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acto  F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3174840"/>
            <a:ext cx="3200400" cy="3155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ón de una célula con la matriz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vinculan los microfilamentos de actina del citoesqueleto con proteínas de la matri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INTEGRINAS son las proteínas transmembrana que realizan la un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4515120" cy="495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midesmosomas (cornea, epidermis, esófag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6172200" cy="471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2041560"/>
            <a:ext cx="2133720" cy="325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os hemidesmosomas, los filamentos de queratina terminan en la placa den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roteína transmembrana es una INTEGRINA, y vincula a la célula con proteínas de la matriz extracel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IONES  COMUNICANTE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ión  Nexus o G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9480" y="1523880"/>
            <a:ext cx="8001000" cy="5140440"/>
            <a:chOff x="609480" y="1523880"/>
            <a:chExt cx="8001000" cy="514044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609480" y="1523880"/>
              <a:ext cx="7315200" cy="514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9" name=""/>
            <p:cNvSpPr/>
            <p:nvPr/>
          </p:nvSpPr>
          <p:spPr>
            <a:xfrm>
              <a:off x="5715000" y="1708200"/>
              <a:ext cx="2895480" cy="1554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da CONEXÓN está formado por seis unidades proteicas llamadas Conexinas, que se disponen en forma circular formando un Por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acterísticas de las Un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480" y="1455840"/>
          <a:ext cx="8001000" cy="4300560"/>
        </p:xfrm>
        <a:graphic>
          <a:graphicData uri="http://schemas.openxmlformats.org/drawingml/2006/table">
            <a:tbl>
              <a:tblPr/>
              <a:tblGrid>
                <a:gridCol w="2163600"/>
                <a:gridCol w="1569960"/>
                <a:gridCol w="1600200"/>
                <a:gridCol w="2667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ína de membr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ínculo al citoesquel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ec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lu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e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filamentos de ac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o F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filamentos de ac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mos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e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amentos intermed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idesmos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amentos intermed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x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digi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371600"/>
            <a:ext cx="7772400" cy="161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yecciones de la membrana de una célula que se introducen en invaginaciones de la membrana de la célula adyacente.  Se encuentran en células epiteliales y su función es aumentar la superficie de membrana, favoreciendo la unión entre células y el transporte de líqui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14400" y="3246480"/>
            <a:ext cx="7620120" cy="3306600"/>
            <a:chOff x="914400" y="3246480"/>
            <a:chExt cx="7620120" cy="3306600"/>
          </a:xfrm>
        </p:grpSpPr>
        <p:grpSp>
          <p:nvGrpSpPr>
            <p:cNvPr id="95" name=""/>
            <p:cNvGrpSpPr/>
            <p:nvPr/>
          </p:nvGrpSpPr>
          <p:grpSpPr>
            <a:xfrm>
              <a:off x="914400" y="3246480"/>
              <a:ext cx="4800600" cy="3306600"/>
              <a:chOff x="914400" y="3246480"/>
              <a:chExt cx="4800600" cy="3306600"/>
            </a:xfrm>
          </p:grpSpPr>
          <p:pic>
            <p:nvPicPr>
              <p:cNvPr id="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14400" y="3246480"/>
                <a:ext cx="4800600" cy="330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914400" y="3779640"/>
                <a:ext cx="1524240" cy="398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1800" spc="-1" strike="noStrike">
                    <a:solidFill>
                      <a:srgbClr val="ff5050"/>
                    </a:solidFill>
                    <a:latin typeface="Arial"/>
                  </a:rPr>
                  <a:t>CELULA 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14400" y="4770360"/>
                <a:ext cx="1524240" cy="398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1800" spc="-1" strike="noStrike">
                    <a:solidFill>
                      <a:srgbClr val="ff5050"/>
                    </a:solidFill>
                    <a:latin typeface="Arial"/>
                  </a:rPr>
                  <a:t>CELULA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334120" y="4025880"/>
              <a:ext cx="3200400" cy="1608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icrografía de una unión interdigit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No participan específicamente las  proteínas de membrana ni los elementos del citoesquele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bicación de las Un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138720" cy="541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iones Intercel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1523880"/>
            <a:ext cx="6400800" cy="398880"/>
          </a:xfrm>
          <a:prstGeom prst="rect">
            <a:avLst/>
          </a:prstGeom>
          <a:solidFill>
            <a:srgbClr val="66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clasifican según su forma, estructura y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66680" y="2895480"/>
          <a:ext cx="6986880" cy="3149640"/>
        </p:xfrm>
        <a:graphic>
          <a:graphicData uri="http://schemas.openxmlformats.org/drawingml/2006/table">
            <a:tbl>
              <a:tblPr/>
              <a:tblGrid>
                <a:gridCol w="2262240"/>
                <a:gridCol w="472464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LUSIVAS (Zónul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lan el espacio intercelular para evitar el paso de sustancias por ese espacio (Epitelio intestinal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ienen la ubicación de las células y el material extracelular o matri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n el pasaje de pequeñas sustancias entre células contigua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ONES OCLUSIVAS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ón  Estrech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células endoteliales y epitel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09480" y="1371600"/>
            <a:ext cx="7772040" cy="4572000"/>
            <a:chOff x="609480" y="1371600"/>
            <a:chExt cx="7772040" cy="4572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650040" y="1371600"/>
              <a:ext cx="4731480" cy="4572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609480" y="2196720"/>
              <a:ext cx="2682360" cy="27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28600" y="5334120"/>
            <a:ext cx="304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léculas de ocludina: une las membranas de las dos células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der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ONES OCLUSIVAS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ón  Estrech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células endoteliales y epitel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9480" y="1371600"/>
            <a:ext cx="7772040" cy="4572000"/>
            <a:chOff x="609480" y="1371600"/>
            <a:chExt cx="7772040" cy="45720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3650040" y="1371600"/>
              <a:ext cx="4731480" cy="4572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609480" y="2196720"/>
              <a:ext cx="2682360" cy="27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28600" y="5334120"/>
            <a:ext cx="304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léculas de ocludina: une las membranas de las dos células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der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UNIONES  DE  ANCLAJE</a:t>
            </a:r>
            <a:br>
              <a:rPr sz="2500"/>
            </a:b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ón  Intermed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84640" y="1066680"/>
            <a:ext cx="555300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2514600"/>
            <a:ext cx="2743200" cy="380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s Uniones Intermedias forman un cinturón de adhesión alrededor de la cél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proteína CADERINA atraviesa la membrana plasmática y se une a otra caderina de una célula vecina.  En el citoplasma, la caderina se vincula a los filamentos de actina del citoesque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3164040" cy="5327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Unión de las caderinas a los filamentos de Ac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mos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33960" y="914400"/>
            <a:ext cx="437652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2133720"/>
            <a:ext cx="3886200" cy="3111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os desmosomas, las proteínas transmembrana que participan de la unión intercelular son las  CADERINAS , que se unen en el espacio intercelular formando “asas”.  En el extremo citoplasmático, se unen a una placa proteica que, a su vez, se une a proteínas del citoesqueleto como la queratina, que es un filamento interme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5907240" cy="6248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2697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ltraestructura de los Desmos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80880" y="990720"/>
            <a:ext cx="8077320" cy="5562360"/>
            <a:chOff x="380880" y="990720"/>
            <a:chExt cx="8077320" cy="55623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805040" y="990720"/>
              <a:ext cx="3985920" cy="55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029200" y="4800600"/>
              <a:ext cx="3429000" cy="119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icrografía que muestra tres Desmosomas situados entre dos células del epitelio intestinal de r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4876560" y="2514600"/>
              <a:ext cx="2895840" cy="685800"/>
              <a:chOff x="4876560" y="2514600"/>
              <a:chExt cx="2895840" cy="68580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4876560" y="2743200"/>
                <a:ext cx="152424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00800" y="25146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Célula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80880" y="2590920"/>
              <a:ext cx="2438280" cy="685800"/>
              <a:chOff x="380880" y="2590920"/>
              <a:chExt cx="2438280" cy="685800"/>
            </a:xfrm>
          </p:grpSpPr>
          <p:sp>
            <p:nvSpPr>
              <p:cNvPr id="75" name=""/>
              <p:cNvSpPr/>
              <p:nvPr/>
            </p:nvSpPr>
            <p:spPr>
              <a:xfrm flipH="1" flipV="1">
                <a:off x="1447560" y="2819520"/>
                <a:ext cx="137160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0880" y="259092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Célula 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8T21:48:59Z</dcterms:created>
  <dc:creator>Familia</dc:creator>
  <dc:description/>
  <dc:language>en-US</dc:language>
  <cp:lastModifiedBy>PARIS</cp:lastModifiedBy>
  <dcterms:modified xsi:type="dcterms:W3CDTF">2010-04-19T05:00:34Z</dcterms:modified>
  <cp:revision>10</cp:revision>
  <dc:subject/>
  <dc:title>xxx</dc:title>
</cp:coreProperties>
</file>