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8C7-84FB-4B93-BF91-18AAE1F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CF9-1264-4A41-B495-FBFE9E8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5D9-786A-4EBA-9248-133F2133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187-4C41-4088-BF24-1CFF93A9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9FB-7CA0-426F-AF47-A3490475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C5-A6F8-44EE-8488-3D5FFC5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1AA-2D72-4755-8C20-AC2F564B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18F-7ED1-4CCC-BFEB-0DB2906D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A31-F4A3-4ED3-8ADE-553E0B82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9BB-F4C5-4283-BF09-50E64A6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FAE-C70D-4C8E-8337-6D1C641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EB5-E2C3-48D9-B6B7-25BC5AF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2AE3-1688-4604-AA5F-42E81C7BC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752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ONES  ENTRE 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124080"/>
            <a:ext cx="7772400" cy="287568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uniones intercelulares son regiones diferenciadas de la membrana plasmática que aseguran la adherencia de las membranas entre sí o con la lámina basal y que interaccionan con el citoesquelé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gura 5&#9;Pénfigo foliáceo. Corte histológico demostrando una ampolla subcornea con células acantolíticas en su interior."/>
          <p:cNvPicPr/>
          <p:nvPr/>
        </p:nvPicPr>
        <p:blipFill>
          <a:blip r:embed="rId1"/>
          <a:srcRect l="0" t="54472" r="0" b="0"/>
          <a:stretch/>
        </p:blipFill>
        <p:spPr>
          <a:xfrm>
            <a:off x="5562720" y="1066680"/>
            <a:ext cx="313200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énf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989000"/>
            <a:ext cx="4114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ermedad vesículo-ampollar auto-inmune con una posible susceptibilidad gen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acto  F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174840"/>
            <a:ext cx="3200400" cy="3155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ón de una célula con la matriz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inculan los microfilamentos de actina del citoesqueleto con proteínas de la matri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TEGRINAS son las proteínas transmembrana que realizan la un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idesmosomas (cornea, epidermis, esófa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041560"/>
            <a:ext cx="2133720" cy="32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hemidesmosomas, los filamentos de queratina terminan en la placa de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teína transmembrana es una INTEGRINA, y vincula a la célula con proteínas de la matriz ex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ONES  COMUNICANT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ón  Nexus 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523880"/>
            <a:ext cx="8001000" cy="5140440"/>
            <a:chOff x="609480" y="1523880"/>
            <a:chExt cx="8001000" cy="5140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7315200" cy="514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5715000" y="1708200"/>
              <a:ext cx="2895480" cy="1554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da CONEXÓN está formado por seis unidades proteicas llamadas Conexinas, que se disponen en forma circular formando un Po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 las 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455840"/>
          <a:ext cx="8001000" cy="4300560"/>
        </p:xfrm>
        <a:graphic>
          <a:graphicData uri="http://schemas.openxmlformats.org/drawingml/2006/table">
            <a:tbl>
              <a:tblPr/>
              <a:tblGrid>
                <a:gridCol w="2163600"/>
                <a:gridCol w="1569960"/>
                <a:gridCol w="1600200"/>
                <a:gridCol w="266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de memb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nculo al citoesque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F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i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dig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371600"/>
            <a:ext cx="777240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yecciones de la membrana de una célula que se introducen en invaginaciones de la membrana de la célula adyacente.  Se encuentran en células epiteliales y su función es aumentar la superficie de membrana, favoreciendo la unión entre células y el transporte de líqu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246480"/>
            <a:ext cx="7620120" cy="3306600"/>
            <a:chOff x="914400" y="3246480"/>
            <a:chExt cx="7620120" cy="3306600"/>
          </a:xfrm>
        </p:grpSpPr>
        <p:grpSp>
          <p:nvGrpSpPr>
            <p:cNvPr id="95" name=""/>
            <p:cNvGrpSpPr/>
            <p:nvPr/>
          </p:nvGrpSpPr>
          <p:grpSpPr>
            <a:xfrm>
              <a:off x="914400" y="3246480"/>
              <a:ext cx="4800600" cy="3306600"/>
              <a:chOff x="914400" y="3246480"/>
              <a:chExt cx="4800600" cy="33066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3246480"/>
                <a:ext cx="4800600" cy="33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914400" y="3779640"/>
                <a:ext cx="1524240" cy="39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770360"/>
                <a:ext cx="1524240" cy="398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334120" y="4025880"/>
              <a:ext cx="3200400" cy="16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grafía de una unión interdig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o participan específicamente las  proteínas de membrana ni los elementos del citoesquele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Un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3872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iones Inter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523880"/>
            <a:ext cx="6400800" cy="3988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lasifican según su forma, estructura y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895480"/>
          <a:ext cx="6986880" cy="3149640"/>
        </p:xfrm>
        <a:graphic>
          <a:graphicData uri="http://schemas.openxmlformats.org/drawingml/2006/table">
            <a:tbl>
              <a:tblPr/>
              <a:tblGrid>
                <a:gridCol w="2262240"/>
                <a:gridCol w="47246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S (Zónu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an el espacio intercelular para evitar el paso de sustancias por ese espacio (Epitelio intestina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enen la ubicación de las células y el material extracelular o matri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n el pasaje de pequeñas sustancias entre células contigu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ONES  DE  ANCLAJE</a:t>
            </a:r>
            <a:br>
              <a:rPr sz="25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Inter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4640" y="10666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2514600"/>
            <a:ext cx="2743200" cy="380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Uniones Intermedias forman un cinturón de adhesión alrededor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roteína CADERINA atraviesa la membrana plasmática y se une a otra caderina de una célula vecina.  En el citoplasma, la caderina se vincula a los filamentos de actina del citoesqu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164040" cy="53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ión de las caderinas a los filamentos de Ac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3960" y="914400"/>
            <a:ext cx="437652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133720"/>
            <a:ext cx="3886200" cy="311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desmosomas, las proteínas transmembrana que participan de la unión intercelular son las  CADERINAS , que se unen en el espacio intercelular formando “asas”.  En el extremo citoplasmático, se unen a una placa proteica que, a su vez, se une a proteínas del citoesqueleto como la queratina, que es un filamento inter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907240" cy="624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2697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ltraestructura de los 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990720"/>
            <a:ext cx="8077320" cy="5562360"/>
            <a:chOff x="380880" y="990720"/>
            <a:chExt cx="8077320" cy="5562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805040" y="990720"/>
              <a:ext cx="398592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29200" y="4800600"/>
              <a:ext cx="3429000" cy="119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crografía que muestra tres Desmosomas situados entre dos células del epitelio intestinal de 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876560" y="2514600"/>
              <a:ext cx="2895840" cy="685800"/>
              <a:chOff x="4876560" y="2514600"/>
              <a:chExt cx="2895840" cy="6858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876560" y="2743200"/>
                <a:ext cx="152424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0880" y="2590920"/>
              <a:ext cx="2438280" cy="685800"/>
              <a:chOff x="380880" y="2590920"/>
              <a:chExt cx="2438280" cy="68580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447560" y="2819520"/>
                <a:ext cx="13716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5909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21:48:59Z</dcterms:created>
  <dc:creator>Familia</dc:creator>
  <dc:description/>
  <dc:language>en-US</dc:language>
  <cp:lastModifiedBy>PARIS</cp:lastModifiedBy>
  <dcterms:modified xsi:type="dcterms:W3CDTF">2010-04-19T05:00:34Z</dcterms:modified>
  <cp:revision>10</cp:revision>
  <dc:subject/>
  <dc:title>xxx</dc:title>
</cp:coreProperties>
</file>