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4AC-8394-4440-AA4B-933F2570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A52-5BAA-4F20-BDAC-3DFC309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2DF-1CC7-420A-9F06-C4709F0D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550-985D-4D07-9A51-D9658C7E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D5B-05C2-400A-B530-1EA69D82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35D-55C9-4081-B615-8645C3C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6E0-5A19-4C31-8EFF-755305F8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916-D7B9-428F-B445-0439E16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651-449A-49E5-8F23-FEA91F9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AC-E3F8-4067-A387-DADCDDB9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73C-C90D-4C7B-A5CB-E72C9203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A96-879A-485B-8902-99814C1D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7CB-9D22-421A-9B7B-BB305DA6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81532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Book Antiqua"/>
              </a:rPr>
              <a:t>Transmisión de señales entre célu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51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6019920" y="1523880"/>
            <a:ext cx="3001680" cy="4618080"/>
            <a:chOff x="6019920" y="1523880"/>
            <a:chExt cx="3001680" cy="4618080"/>
          </a:xfrm>
        </p:grpSpPr>
        <p:graphicFrame>
          <p:nvGraphicFramePr>
            <p:cNvPr id="72" name=""/>
            <p:cNvGraphicFramePr/>
            <p:nvPr/>
          </p:nvGraphicFramePr>
          <p:xfrm>
            <a:off x="6019920" y="1523880"/>
            <a:ext cx="3001680" cy="461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1523880"/>
                      <a:ext cx="3001680" cy="461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6800400" y="4057560"/>
              <a:ext cx="4568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95840" y="4895640"/>
              <a:ext cx="304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4572000" cy="2683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762120" y="3886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canismo de control de la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spuestas aclopadas a 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1752480"/>
          <a:ext cx="8915400" cy="4686480"/>
        </p:xfrm>
        <a:graphic>
          <a:graphicData uri="http://schemas.openxmlformats.org/drawingml/2006/table">
            <a:tbl>
              <a:tblPr/>
              <a:tblGrid>
                <a:gridCol w="2303640"/>
                <a:gridCol w="1560240"/>
                <a:gridCol w="2376720"/>
                <a:gridCol w="26748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mo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élula d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 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úsc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inefr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ceptor 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ip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pó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. Fascic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citon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teocla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hibe resorción ó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nu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roidogén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pato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ucogeno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H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GE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que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re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sta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otro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reción de 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ulos distal y cole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bsorción de agu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71800" y="38862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6240" y="1019160"/>
            <a:ext cx="73915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17778" r="0" b="20003"/>
          <a:stretch/>
        </p:blipFill>
        <p:spPr>
          <a:xfrm>
            <a:off x="0" y="2438280"/>
            <a:ext cx="9144000" cy="426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3808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SFOLIPASA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C  (PL-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838080"/>
            <a:ext cx="7924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6600"/>
                </a:solidFill>
                <a:latin typeface="Book Antiqua"/>
              </a:rPr>
              <a:t>Las fosfolipasas C participan en el metabolismo de los fosfatidilinositol bifosfato (PIP2) y las vías calcio-dependientes de la señalización celular realcionados con lípidos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. Todas son capaces de hidrolizar al (PIP2) en dos moléculas segundo mensajero de gran importancia, que terminan alterando las respuestas celulares a la proliferación, diferenciación celular, apoptosis, remodelaje del citoesqueleto, tráfico vesicular, canales iónicos, funciones endocrinas y neurotrans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8137" t="0" r="0" b="0"/>
          <a:stretch/>
        </p:blipFill>
        <p:spPr>
          <a:xfrm>
            <a:off x="380880" y="1523880"/>
            <a:ext cx="4572000" cy="29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3372120" cy="3743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95280" y="380880"/>
            <a:ext cx="65534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roles de concentración citosólica del cal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08240" y="839880"/>
            <a:ext cx="73785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2746" t="2634" r="2746" b="4925"/>
          <a:stretch/>
        </p:blipFill>
        <p:spPr>
          <a:xfrm>
            <a:off x="250920" y="404640"/>
            <a:ext cx="864216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4300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82640" y="228600"/>
            <a:ext cx="7675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a liberación de Ca2+ a partir del RER mediado por el IP3 puede regular diversas funciones 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3086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8760" y="609480"/>
          <a:ext cx="882792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609480"/>
                    <a:ext cx="882792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480" y="5029200"/>
            <a:ext cx="800100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Book Antiqua"/>
              </a:rPr>
              <a:t>Pseudohipoparatiroidismo. </a:t>
            </a: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La PTH se une a un receptor asociado a proteina G en la membrana plasmatica, y tras una serie de pasos activa genes y enzimas que median la acción biológica. Por ejemplo, puede inducir la propia liberacion de calcio intracel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35360" y="1143000"/>
            <a:ext cx="4280040" cy="464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4829040"/>
            <a:ext cx="44197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os esteroid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rmonas sexuales masculinas y femen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eza de las glándulas suprarrenales (cortisol, cortisona, aldostero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tamina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2784" r="0" b="36094"/>
          <a:stretch/>
        </p:blipFill>
        <p:spPr>
          <a:xfrm>
            <a:off x="609480" y="990720"/>
            <a:ext cx="370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304920"/>
            <a:ext cx="3733920" cy="9471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Book Antiqua"/>
              </a:rPr>
              <a:t>Glosario de tér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162920" cy="48675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2767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1663560"/>
            <a:ext cx="4343400" cy="187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48320" y="4267080"/>
            <a:ext cx="4495680" cy="1779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38680" y="39466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9040" y="1295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152280"/>
            <a:ext cx="80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Primeros mensajeros </a:t>
            </a:r>
            <a:r>
              <a:rPr b="1" lang="es-ES_tradnl" sz="3200" spc="-1" strike="noStrike">
                <a:solidFill>
                  <a:srgbClr val="6600ff"/>
                </a:solidFill>
                <a:latin typeface="Arial"/>
              </a:rPr>
              <a:t>liposolubles</a:t>
            </a: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 con receptores intracelu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0" t="2784" r="0" b="36094"/>
          <a:stretch/>
        </p:blipFill>
        <p:spPr>
          <a:xfrm>
            <a:off x="457200" y="1676520"/>
            <a:ext cx="37036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2960" y="5715000"/>
            <a:ext cx="47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roxina (Tetrayodotironina) y Triyodotiron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retin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14480"/>
            <a:ext cx="8610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333cc"/>
                </a:solidFill>
                <a:latin typeface="Arial"/>
              </a:rPr>
              <a:t>Mensajeros hidrosolubles que unen receptores de superficie cel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3870360"/>
            <a:ext cx="4724280" cy="275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280" y="1447920"/>
            <a:ext cx="472464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éptidos y proteín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luca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ormona antidiuré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xitoc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giotens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actores de liberación de las hormonas hipofisi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s endorf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factores de crecimiento y de trans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70964" r="0" b="0"/>
          <a:stretch/>
        </p:blipFill>
        <p:spPr>
          <a:xfrm>
            <a:off x="4267080" y="1143000"/>
            <a:ext cx="4419720" cy="220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19480" y="647712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ctor de crecimiento epidérmico (EG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6240" y="1147680"/>
            <a:ext cx="7391520" cy="45626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19320"/>
            <a:ext cx="845820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1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íntesis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elular de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mensajero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quími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2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secre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por la célula emiso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3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transporte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hasta la célula blanc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4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detección / recep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el mensajero (señal) por un receptor celular (proteí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5)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ransmisión intracelular de la señal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(transducción de señal)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y cambio en el status celular (metabolismo, expresión génica, etc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10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6) </a:t>
            </a:r>
            <a:r>
              <a:rPr b="0" lang="es-ES_tradnl" sz="2500" spc="-1" strike="noStrike">
                <a:solidFill>
                  <a:srgbClr val="ed181e"/>
                </a:solidFill>
                <a:latin typeface="Arial"/>
              </a:rPr>
              <a:t>eliminación</a:t>
            </a:r>
            <a:r>
              <a:rPr b="0" lang="es-ES_tradnl" sz="2500" spc="-1" strike="noStrike">
                <a:solidFill>
                  <a:srgbClr val="1822cd"/>
                </a:solidFill>
                <a:latin typeface="Arial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(degradación) de la señal  (interrupción del proceso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04920"/>
            <a:ext cx="7696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"/>
              </a:rPr>
              <a:t>Etapas de la comunicación celular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23960" y="1828800"/>
            <a:ext cx="781056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intracelulares (p.e. esteroides tiroxina y ácido retino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liposolubles con receptores de superficie celula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de naturaleza hidrosoluble con receptores de superficie celular (polipéptidos y las amina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gases, como el óxido nítrico (NO) y el monóxido de carbono (CO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808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ensajeros químicos clasificados de acuerdo a su naturalez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1965" t="4242" r="19077" b="6061"/>
          <a:stretch/>
        </p:blipFill>
        <p:spPr>
          <a:xfrm>
            <a:off x="457200" y="914400"/>
            <a:ext cx="5300640" cy="56386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209680" y="228600"/>
            <a:ext cx="36576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gundos mens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3352680"/>
            <a:ext cx="3047760" cy="22885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zima que transfiere el grupo fosfato terminal del ATP a un aminoácido específico o a una proteína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67680" cy="349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380880"/>
            <a:ext cx="7315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tivación de la Proteína quinasa dependiente de AM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229280" cy="482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56320" y="228600"/>
            <a:ext cx="4006800" cy="1923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La activación de enzimas efectoras mediante la acti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de proteína-G trimérica conlleva la síntesis de 2º men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220968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657600"/>
            <a:ext cx="297180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Presente en todas las células de los mamíferos excepto en los eritro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5080" y="2500200"/>
            <a:ext cx="275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Amplificación de la señ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Regulación e interacción con otras vías señaliz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7800" y="517680"/>
            <a:ext cx="8444160" cy="1008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os 2º mensajeros en la cascada de señalización de la transducción de la señal amplifican y modulan la señal en las diferentes vías de señ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4893" b="5557"/>
          <a:stretch/>
        </p:blipFill>
        <p:spPr>
          <a:xfrm>
            <a:off x="3141720" y="1905120"/>
            <a:ext cx="592596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209600"/>
            <a:ext cx="7391520" cy="5191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28600"/>
            <a:ext cx="61722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imulación de la degradación de glucógeno por AMPc en células del músculo esquel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4:26:51Z</dcterms:created>
  <dc:creator>Mónica</dc:creator>
  <dc:description/>
  <dc:language>en-US</dc:language>
  <cp:lastModifiedBy>PARIS</cp:lastModifiedBy>
  <dcterms:modified xsi:type="dcterms:W3CDTF">2010-04-19T05:00:39Z</dcterms:modified>
  <cp:revision>4</cp:revision>
  <dc:subject/>
  <dc:title>Presentación de PowerPoint</dc:title>
</cp:coreProperties>
</file>