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3.wmf" ContentType="image/x-wmf"/>
  <Override PartName="/ppt/media/image2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B03-B4EA-420B-9DEA-804FC3CD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B21-1D7C-457B-BBC8-466DE0B0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880-76C6-4528-8CDC-CB7466B1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2D69-757E-400B-8E6F-E664E74B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DC93-2AA0-4469-BDF5-1BDA0909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AD32-D584-4BDB-815F-E2660645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593-9E88-4569-8F08-90D15008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663-768F-48B3-93DF-0C9C2E78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850-437F-4B80-A416-02FF036B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084-00D2-4C79-A996-06012534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E66-D918-4554-A221-865BBC9C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E68-2849-460A-B6F3-78443740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B859-3A8C-4090-83C2-709F264AF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815328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Book Antiqua"/>
              </a:rPr>
              <a:t>Transmisión de señales entre cél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8514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6019920" y="1523880"/>
            <a:ext cx="3001680" cy="4618080"/>
            <a:chOff x="6019920" y="1523880"/>
            <a:chExt cx="3001680" cy="4618080"/>
          </a:xfrm>
        </p:grpSpPr>
        <p:graphicFrame>
          <p:nvGraphicFramePr>
            <p:cNvPr id="72" name=""/>
            <p:cNvGraphicFramePr/>
            <p:nvPr/>
          </p:nvGraphicFramePr>
          <p:xfrm>
            <a:off x="6019920" y="1523880"/>
            <a:ext cx="3001680" cy="461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1523880"/>
                      <a:ext cx="3001680" cy="461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6800400" y="4057560"/>
              <a:ext cx="4568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95840" y="4895640"/>
              <a:ext cx="3042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4572000" cy="26830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762120" y="38862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canismo de control de la 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spuestas aclopadas a 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28600" y="1752480"/>
          <a:ext cx="8915400" cy="4686480"/>
        </p:xfrm>
        <a:graphic>
          <a:graphicData uri="http://schemas.openxmlformats.org/drawingml/2006/table">
            <a:tbl>
              <a:tblPr/>
              <a:tblGrid>
                <a:gridCol w="2303640"/>
                <a:gridCol w="1560240"/>
                <a:gridCol w="2376720"/>
                <a:gridCol w="2674800"/>
              </a:tblGrid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m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élula di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ue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nefrina (receptor </a:t>
                      </a: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ucogenó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nefr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eceptor </a:t>
                      </a: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ipoc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pó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. Fascic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eroidogén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iton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teocla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hibe resorción ós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u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eroidogén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uc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patoc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ucogeno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atotro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reción de 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E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que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atosta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atotro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reción de 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bulos distal y col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bsorción de agu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971800" y="388620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76240" y="1019160"/>
            <a:ext cx="73915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17778" r="0" b="20003"/>
          <a:stretch/>
        </p:blipFill>
        <p:spPr>
          <a:xfrm>
            <a:off x="0" y="243828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280" y="3808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SFOLIPASA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C  (PL-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838080"/>
            <a:ext cx="7924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6600"/>
                </a:solidFill>
                <a:latin typeface="Book Antiqua"/>
              </a:rPr>
              <a:t>Las fosfolipasas C participan en el metabolismo de los fosfatidilinositol bifosfato (PIP2) y las vías calcio-dependientes de la señalización celular realcionados con lípidos</a:t>
            </a: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. Todas son capaces de hidrolizar al (PIP2) en dos moléculas segundo mensajero de gran importancia, que terminan alterando las respuestas celulares a la proliferación, diferenciación celular, apoptosis, remodelaje del citoesqueleto, tráfico vesicular, canales iónicos, funciones endocrinas y neurotrans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8137" t="0" r="0" b="0"/>
          <a:stretch/>
        </p:blipFill>
        <p:spPr>
          <a:xfrm>
            <a:off x="380880" y="1523880"/>
            <a:ext cx="4572000" cy="2952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410080" y="2133720"/>
            <a:ext cx="3372120" cy="3743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95280" y="380880"/>
            <a:ext cx="65534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roles de concentración citosólica del cal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08240" y="839880"/>
            <a:ext cx="73785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2746" t="2634" r="2746" b="4925"/>
          <a:stretch/>
        </p:blipFill>
        <p:spPr>
          <a:xfrm>
            <a:off x="250920" y="404640"/>
            <a:ext cx="8642160" cy="5904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43000" y="10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82640" y="228600"/>
            <a:ext cx="76755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a liberación de Ca2+ a partir del RER mediado por el IP3 puede regular diversas funciones cel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620120" cy="30862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8760" y="609480"/>
          <a:ext cx="8827920" cy="43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609480"/>
                    <a:ext cx="882792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09480" y="5029200"/>
            <a:ext cx="800100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 Antiqua"/>
              </a:rPr>
              <a:t>Pseudohipoparatiroidismo. </a:t>
            </a: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La PTH se une a un receptor asociado a proteina G en la membrana plasmatica, y tras una serie de pasos activa genes y enzimas que median la acción biológica. Por ejemplo, puede inducir la propia liberacion de calcio intracel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35360" y="1143000"/>
            <a:ext cx="4280040" cy="464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4829040"/>
            <a:ext cx="441972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Los esteroid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rmonas sexuales masculinas y femen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teza de las glándulas suprarrenales (cortisol, cortisona, aldostero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tamina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0"/>
            <a:ext cx="80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Primeros mensajeros </a:t>
            </a:r>
            <a:r>
              <a:rPr b="1" lang="es-ES_tradnl" sz="3200" spc="-1" strike="noStrike">
                <a:solidFill>
                  <a:srgbClr val="6600ff"/>
                </a:solidFill>
                <a:latin typeface="Arial"/>
              </a:rPr>
              <a:t>liposolubles</a:t>
            </a: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 con receptores intracelul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0" t="2784" r="0" b="36094"/>
          <a:stretch/>
        </p:blipFill>
        <p:spPr>
          <a:xfrm>
            <a:off x="609480" y="990720"/>
            <a:ext cx="370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14600" y="304920"/>
            <a:ext cx="3733920" cy="9471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754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Book Antiqua"/>
              </a:rPr>
              <a:t>Glosario de térm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8675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276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0" y="1663560"/>
            <a:ext cx="4343400" cy="1876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8320" y="4267080"/>
            <a:ext cx="4495680" cy="1779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38680" y="394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39040" y="1295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52280"/>
            <a:ext cx="80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Primeros mensajeros </a:t>
            </a:r>
            <a:r>
              <a:rPr b="1" lang="es-ES_tradnl" sz="3200" spc="-1" strike="noStrike">
                <a:solidFill>
                  <a:srgbClr val="6600ff"/>
                </a:solidFill>
                <a:latin typeface="Arial"/>
              </a:rPr>
              <a:t>liposolubles</a:t>
            </a: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 con receptores intracelul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rcRect l="0" t="2784" r="0" b="36094"/>
          <a:stretch/>
        </p:blipFill>
        <p:spPr>
          <a:xfrm>
            <a:off x="457200" y="1676520"/>
            <a:ext cx="37036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2960" y="5715000"/>
            <a:ext cx="47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iroxina (Tetrayodotironina) y Triyodotiron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retin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114480"/>
            <a:ext cx="86104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33cc"/>
                </a:solidFill>
                <a:latin typeface="Arial"/>
              </a:rPr>
              <a:t>Mensajeros hidrosolubles que unen receptores de superficie celu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14800" y="3870360"/>
            <a:ext cx="4724280" cy="275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2280" y="1447920"/>
            <a:ext cx="472464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éptidos y proteín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ormona antidiurét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xitoc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ngiotens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actores de liberación de las hormonas hipofisiar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s endorfi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factores de crecimiento y de trans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70964" r="0" b="0"/>
          <a:stretch/>
        </p:blipFill>
        <p:spPr>
          <a:xfrm>
            <a:off x="4267080" y="1143000"/>
            <a:ext cx="4419720" cy="2203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19480" y="6477120"/>
            <a:ext cx="33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ctor de crecimiento epidérmico (EG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76240" y="1147680"/>
            <a:ext cx="7391520" cy="45626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219320"/>
            <a:ext cx="84582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1)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síntesis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elular del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mensajero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químic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2)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secreción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del mensajero por la célula emisor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3)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transporte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del mensajero hasta la célula blanc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4)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detección / recepción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del mensajero (señal) por un receptor celular (proteín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5)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ransmisión intracelular de la señal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(transducción de señal)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y cambio en el status celular (metabolismo, expresión génica, etc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6)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eliminación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(degradación) de la señal  (interrupción del proceso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04920"/>
            <a:ext cx="7696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Arial"/>
              </a:rPr>
              <a:t>Etapas de la comunicación celular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23960" y="1828800"/>
            <a:ext cx="781056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liposolubles con receptores intracelulares (p.e. esteroides tiroxina y ácido retinoico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liposolubles con receptores de superficie celula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de naturaleza hidrosoluble con receptores de superficie celular (polipéptidos y las amina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gases, como el óxido nítrico (NO) y el monóxido de carbono (CO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808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ensajeros químicos clasificados de acuerdo a su naturaleza quí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21965" t="4242" r="19077" b="6061"/>
          <a:stretch/>
        </p:blipFill>
        <p:spPr>
          <a:xfrm>
            <a:off x="457200" y="914400"/>
            <a:ext cx="5300640" cy="56386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209680" y="228600"/>
            <a:ext cx="36576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gundos mensaj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3352680"/>
            <a:ext cx="3047760" cy="22885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zima que transfiere el grupo fosfato terminal del ATP a un aminoácido específico o a una proteína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505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267680" cy="349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380880"/>
            <a:ext cx="731520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tivación de la Proteína quinasa dependiente de AM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229280" cy="4829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56320" y="228600"/>
            <a:ext cx="4006800" cy="1923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</a:rPr>
              <a:t>La activación de enzimas efectoras mediante la activ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</a:rPr>
              <a:t>de proteína-G trimérica conlleva la síntesis de 2º mensaj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2209680"/>
            <a:ext cx="1295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3657600"/>
            <a:ext cx="2971800" cy="1922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 Antiqua"/>
              </a:rPr>
              <a:t>Presente en todas las células de los mamíferos excepto en los eritro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35080" y="2500200"/>
            <a:ext cx="275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</a:rPr>
              <a:t>Amplificación de la señ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</a:rPr>
              <a:t>Regulación e interacción con otras vías señalizad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7800" y="517680"/>
            <a:ext cx="8444160" cy="1008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os 2º mensajeros en la cascada de señalización de la transducción de la señal amplifican y modulan la señal en las diferentes vías de seña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4893" b="5557"/>
          <a:stretch/>
        </p:blipFill>
        <p:spPr>
          <a:xfrm>
            <a:off x="3141720" y="1905120"/>
            <a:ext cx="592596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209600"/>
            <a:ext cx="7391520" cy="5191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66680" y="228600"/>
            <a:ext cx="617220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imulación de la degradación de glucógeno por AMPc en células del músculo esquel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4:26:51Z</dcterms:created>
  <dc:creator>Mónica</dc:creator>
  <dc:description/>
  <dc:language>en-US</dc:language>
  <cp:lastModifiedBy>PARIS</cp:lastModifiedBy>
  <dcterms:modified xsi:type="dcterms:W3CDTF">2010-04-19T05:00:39Z</dcterms:modified>
  <cp:revision>4</cp:revision>
  <dc:subject/>
  <dc:title>Presentación de PowerPoint</dc:title>
</cp:coreProperties>
</file>