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9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84B-C155-4F5E-A1C7-F6DE45AE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846-14B8-4492-A37E-0A04264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36C-4FAB-4238-8319-0CDCE1D7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CF0-27D2-4AFA-B147-87D66259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9AB-2919-42EE-A5E3-66531F58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F99-495C-488C-A6AD-984AB399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185-C791-4A16-AA0A-E967B17A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745-BDE4-44ED-91D9-48E9CE3B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E9B-9B5D-4B6D-9021-CFC68B40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236-7151-433F-8078-437213E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958-7F97-4FB6-8192-0FB2FC2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50E-253A-4A33-A214-CB8B20D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BA3-A6BB-4AA8-8E24-E979B264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2743200"/>
          <a:ext cx="160020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16002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16360" y="2349360"/>
            <a:ext cx="2567160" cy="2190600"/>
            <a:chOff x="4716360" y="2349360"/>
            <a:chExt cx="2567160" cy="2190600"/>
          </a:xfrm>
        </p:grpSpPr>
        <p:graphicFrame>
          <p:nvGraphicFramePr>
            <p:cNvPr id="44" name=""/>
            <p:cNvGraphicFramePr/>
            <p:nvPr/>
          </p:nvGraphicFramePr>
          <p:xfrm>
            <a:off x="5173560" y="2349360"/>
            <a:ext cx="210996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3560" y="2349360"/>
                      <a:ext cx="210996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4716360" y="3016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68640" y="309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21280" y="3016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49880" y="35496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83040" y="36255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35268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7480" y="444168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¿Es tan simple re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75440" y="6381720"/>
            <a:ext cx="53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dified from 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1052640"/>
            <a:ext cx="4876920" cy="4302000"/>
            <a:chOff x="0" y="1052640"/>
            <a:chExt cx="4876920" cy="4302000"/>
          </a:xfrm>
        </p:grpSpPr>
        <p:graphicFrame>
          <p:nvGraphicFramePr>
            <p:cNvPr id="82" name=""/>
            <p:cNvGraphicFramePr/>
            <p:nvPr/>
          </p:nvGraphicFramePr>
          <p:xfrm>
            <a:off x="0" y="1692360"/>
            <a:ext cx="4876920" cy="36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92360"/>
                      <a:ext cx="4876920" cy="36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1588680" y="105264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Comic Sans MS"/>
                </a:rPr>
                <a:t>Pregun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254560" y="1052640"/>
            <a:ext cx="3278160" cy="3816360"/>
            <a:chOff x="5254560" y="1052640"/>
            <a:chExt cx="3278160" cy="3816360"/>
          </a:xfrm>
        </p:grpSpPr>
        <p:graphicFrame>
          <p:nvGraphicFramePr>
            <p:cNvPr id="86" name=""/>
            <p:cNvGraphicFramePr/>
            <p:nvPr/>
          </p:nvGraphicFramePr>
          <p:xfrm>
            <a:off x="5254560" y="2085840"/>
            <a:ext cx="3278160" cy="278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4560" y="2085840"/>
                      <a:ext cx="3278160" cy="278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6217920" y="1052640"/>
              <a:ext cx="12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Comic Sans MS"/>
                </a:rPr>
                <a:t>Decis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08360" y="404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eck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unto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228600"/>
            <a:ext cx="342900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5640" y="17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iciación de la replicación del DNA durante la fa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87280" y="1600200"/>
          <a:ext cx="684072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00200"/>
                    <a:ext cx="6840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620640"/>
            <a:ext cx="63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Palatino Linotype"/>
              </a:rPr>
              <a:t>Inhibidores de ciclinas: proteínas que frenan el ciclo en los check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5040360" cy="552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12000" y="1484280"/>
            <a:ext cx="2808000" cy="1008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El DNA dañado detiene el ciclo celular en 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2840" y="477720"/>
            <a:ext cx="67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xisten dos tipos de inhibidores de kina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pendientes de ciclinas (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7454" r="50003" b="4864"/>
          <a:stretch/>
        </p:blipFill>
        <p:spPr>
          <a:xfrm>
            <a:off x="849240" y="1557360"/>
            <a:ext cx="3521160" cy="410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51961" t="16411" r="0" b="9049"/>
          <a:stretch/>
        </p:blipFill>
        <p:spPr>
          <a:xfrm>
            <a:off x="5221440" y="1484280"/>
            <a:ext cx="358776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4221000"/>
            <a:ext cx="576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44000" y="1197000"/>
            <a:ext cx="0" cy="576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466120" y="2077920"/>
            <a:ext cx="419760" cy="395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9840" y="655308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rtesía de Patricia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55280" y="549360"/>
            <a:ext cx="7777440" cy="6310800"/>
            <a:chOff x="755280" y="549360"/>
            <a:chExt cx="7777440" cy="6310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646" r="0" b="0"/>
            <a:stretch/>
          </p:blipFill>
          <p:spPr>
            <a:xfrm>
              <a:off x="900000" y="1311120"/>
              <a:ext cx="7524720" cy="44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>
              <a:off x="755280" y="5877000"/>
              <a:ext cx="5977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55640" y="1197000"/>
              <a:ext cx="0" cy="46800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640" y="119700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7920" y="6021360"/>
              <a:ext cx="26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9999"/>
                  </a:solidFill>
                  <a:latin typeface="Comic Sans MS"/>
                </a:rPr>
                <a:t>Regulación pos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0000" y="5877000"/>
              <a:ext cx="1512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532720" y="1197000"/>
              <a:ext cx="0" cy="4680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0800" y="1197000"/>
              <a:ext cx="5641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28440" y="549360"/>
              <a:ext cx="27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Comic Sans MS"/>
                </a:rPr>
                <a:t>Regulación neg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9840" y="6553080"/>
              <a:ext cx="25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Cortesía de Patricia Bl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6720" y="4653000"/>
              <a:ext cx="216000" cy="2160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076720" y="4653000"/>
              <a:ext cx="21600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7720" y="4759200"/>
              <a:ext cx="360360" cy="360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42960" y="177480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omic Sans MS"/>
              </a:rPr>
              <a:t>(citoki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68360" y="189000"/>
          <a:ext cx="691344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691344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56000" y="4076640"/>
          <a:ext cx="525600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076640"/>
                    <a:ext cx="5256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95800" y="658332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7200" y="-4932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Rb: otro importante regulador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1808" t="18497" r="9844" b="0"/>
          <a:stretch/>
        </p:blipFill>
        <p:spPr>
          <a:xfrm>
            <a:off x="1619280" y="1125360"/>
            <a:ext cx="5905440" cy="460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09840" y="655308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rtesía de Patricia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9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b siempre está fosfori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Está más inactiva como secuestradora (de E2F) cuando está moderadamente fosfori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7056360" cy="3535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2920" y="5445000"/>
            <a:ext cx="727416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Mecanismo que controla la iniciación de la fase S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16360" y="404640"/>
            <a:ext cx="36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Ciclo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20000" cy="321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941720"/>
            <a:ext cx="79200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El ciclo celular dirige la transición del estado de quiescencia (G0) al estado de proliferación, asegurando la fidelidad del transcripto gen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6480" y="378000"/>
            <a:ext cx="9071640" cy="5854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ciclo celular es un proceso ordenado donde una célula se divide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ormar dos células hijas idén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e proceso no es aislado ni indiferente al resto de los procesos celu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contrario, se activa como consecuencia del balance de señal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obtener una ordenada transición por el ciclo celular, la célula evolucion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que cada paso en el proceso dependa de la eficiente termin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procesos que controlan el ciclo celular comp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)Regulación transcrip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b)Regulación post-transcripcional que incluye modificaciones proteicas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osforilación y regulación de la velocidad de proteól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o todas las proteínas involucradas en el ciclo celular están regulad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gual ma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1240" y="944640"/>
            <a:ext cx="8381520" cy="497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urante un ciclo celular los reguladores negativos del cicl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ticipan en la decisión de entrada en fase S son los inhib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 quinasas dependientes de ciclinas (CKI) y 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os CKI inhiben la actividad de CD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os CKI son inestables como las cicl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b inhibe la actividad transcripcional de E2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 fosforilación de Rb produce la liberación de E2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i el balance es positivo para actividad de CDKs y para a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 E2F, la célula entra en fase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5120" y="260280"/>
            <a:ext cx="8678880" cy="722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53 está mutada en 50% de los casos de cáncer (germinal y 4somáticame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53 es un factor transcripcional que puede inducir arresto del ciclo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 muerte celular programada. Mediante esta capacidad transcripcional p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ctúa como guardián del genoma (evita la inestabilidad genó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o de los blancos transcripcionales de p53 es MDM2. Esta proteína es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3 ligasa de ubiquitina para la degradacion de p53 en el proteosoma. Por lo tanto, un feedback negativo regula los niveles (y como consecuencia de ello, la actividad) de p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Otro blanco transcripcional de p53 es p21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lo que explica su capac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rrestar el ciclo celular en G1 (p21 y otros blancos transcripcionales de p53 contribuyen también al arresto en 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niveles de p53 aumentan como consecuencia de señales de daño al AD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473800" cy="4038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332000" y="476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Fases del Ciclo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7340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La longitud de G1 varía y depende de las condiciones externas y de señales extracelulares de otras cél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00000" y="476280"/>
          <a:ext cx="46389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46389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27520" y="630864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7960" y="28404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85560" y="500040"/>
            <a:ext cx="375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racterísticas fundament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tamente Or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inamente regu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0120" y="5410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4508640"/>
            <a:ext cx="413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unciona un número fin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 una población celular en divis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pués: senescencia y apop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329440" cy="361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373720"/>
            <a:ext cx="720108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xperimento de fusión celular en células de mamífero. Los resultados demuestran la presencia de factores que dirigen el paso de G1 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54936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as cdks junto con proteínas reguladores llamadas ciclinas dirigen la célula a través del cicl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384280" cy="30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51280" y="1700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in ciclinas las cdks están in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3500280"/>
            <a:ext cx="4321080" cy="1059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Las ciclinas estan en un proceso constante de síntesis y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Los niveles de Cdk </a:t>
            </a: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 son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608360" cy="511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7280" y="620640"/>
            <a:ext cx="237672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istema de control d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85264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36520" y="2760840"/>
            <a:ext cx="388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las ciclinas se degradan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ya no se neces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 </a:t>
            </a: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en la etapa correspondi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del cicl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620640"/>
            <a:ext cx="698508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Base estructural de la activación de Cd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794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3:50:12Z</dcterms:created>
  <dc:creator>PARIS</dc:creator>
  <dc:description/>
  <dc:language>en-US</dc:language>
  <cp:lastModifiedBy>PARIS</cp:lastModifiedBy>
  <dcterms:modified xsi:type="dcterms:W3CDTF">2010-04-12T11:22:31Z</dcterms:modified>
  <cp:revision>4</cp:revision>
  <dc:subject/>
  <dc:title>Diapositiva 1</dc:title>
</cp:coreProperties>
</file>