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9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8DE-18B8-43BB-A41E-7105C2FC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485-66D8-4E72-914B-F976A4F7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936-1FF3-4394-AA31-91BE276C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FE8-00DF-4754-A568-6755FF77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9308-6A5E-4C7E-8D5B-480D0345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C9A-2CB3-4B97-8555-2D95EF8D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A02-3A56-4077-AF42-C2AA8928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F0C-9C3A-44B7-BB74-835D3A21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8B5-64E0-4252-94B3-6367EE25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AB5-F88C-4AF9-A429-82C3A7BA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4E0-C810-4DD5-BD38-0C27BFA7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9B0-12E8-49EB-9A4F-9B4E4DA7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71E5-511A-44F6-ACDB-485C479A5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76520" y="2743200"/>
          <a:ext cx="160020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743200"/>
                    <a:ext cx="16002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716360" y="2349360"/>
            <a:ext cx="2567160" cy="2190600"/>
            <a:chOff x="4716360" y="2349360"/>
            <a:chExt cx="2567160" cy="2190600"/>
          </a:xfrm>
        </p:grpSpPr>
        <p:graphicFrame>
          <p:nvGraphicFramePr>
            <p:cNvPr id="44" name=""/>
            <p:cNvGraphicFramePr/>
            <p:nvPr/>
          </p:nvGraphicFramePr>
          <p:xfrm>
            <a:off x="5173560" y="2349360"/>
            <a:ext cx="210996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73560" y="2349360"/>
                      <a:ext cx="210996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4716360" y="30160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68640" y="30924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21280" y="30160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49880" y="35496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83040" y="362556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352680" y="31240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7480" y="4441680"/>
            <a:ext cx="55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¿Es tan simple real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475440" y="6381720"/>
            <a:ext cx="53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Modified from Molecular biology of the cell, Alberts et al., 3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1052640"/>
            <a:ext cx="4876920" cy="4302000"/>
            <a:chOff x="0" y="1052640"/>
            <a:chExt cx="4876920" cy="4302000"/>
          </a:xfrm>
        </p:grpSpPr>
        <p:graphicFrame>
          <p:nvGraphicFramePr>
            <p:cNvPr id="82" name=""/>
            <p:cNvGraphicFramePr/>
            <p:nvPr/>
          </p:nvGraphicFramePr>
          <p:xfrm>
            <a:off x="0" y="1692360"/>
            <a:ext cx="4876920" cy="366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692360"/>
                      <a:ext cx="4876920" cy="36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" name=""/>
            <p:cNvSpPr/>
            <p:nvPr/>
          </p:nvSpPr>
          <p:spPr>
            <a:xfrm>
              <a:off x="1588680" y="1052640"/>
              <a:ext cx="136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Comic Sans MS"/>
                </a:rPr>
                <a:t>Pregun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254560" y="1052640"/>
            <a:ext cx="3278160" cy="3816360"/>
            <a:chOff x="5254560" y="1052640"/>
            <a:chExt cx="3278160" cy="3816360"/>
          </a:xfrm>
        </p:grpSpPr>
        <p:graphicFrame>
          <p:nvGraphicFramePr>
            <p:cNvPr id="86" name=""/>
            <p:cNvGraphicFramePr/>
            <p:nvPr/>
          </p:nvGraphicFramePr>
          <p:xfrm>
            <a:off x="5254560" y="2085840"/>
            <a:ext cx="3278160" cy="278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4560" y="2085840"/>
                      <a:ext cx="3278160" cy="278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6217920" y="1052640"/>
              <a:ext cx="125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Comic Sans MS"/>
                </a:rPr>
                <a:t>Decis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708360" y="404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heck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untos 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58920" y="228600"/>
            <a:ext cx="342900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35640" y="1700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iciación de la replicación del DNA durante la fa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187280" y="1600200"/>
          <a:ext cx="6840720" cy="38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00200"/>
                    <a:ext cx="68407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620640"/>
            <a:ext cx="639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Palatino Linotype"/>
              </a:rPr>
              <a:t>Inhibidores de ciclinas: proteínas que frenan el ciclo en los check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5040360" cy="5524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12000" y="1484280"/>
            <a:ext cx="2808000" cy="1008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El DNA dañado detiene el ciclo celular en 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12840" y="477720"/>
            <a:ext cx="675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xisten dos tipos de inhibidores de kina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pendientes de ciclinas (C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17454" r="50003" b="4864"/>
          <a:stretch/>
        </p:blipFill>
        <p:spPr>
          <a:xfrm>
            <a:off x="849240" y="1557360"/>
            <a:ext cx="3521160" cy="4103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51961" t="16411" r="0" b="9049"/>
          <a:stretch/>
        </p:blipFill>
        <p:spPr>
          <a:xfrm>
            <a:off x="5221440" y="1484280"/>
            <a:ext cx="3587760" cy="4176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4221000"/>
            <a:ext cx="576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44000" y="1197000"/>
            <a:ext cx="0" cy="57636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466120" y="2077920"/>
            <a:ext cx="419760" cy="3952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9840" y="6553080"/>
            <a:ext cx="25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Cortesía de Patricia Bla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755280" y="549360"/>
            <a:ext cx="7777440" cy="6310800"/>
            <a:chOff x="755280" y="549360"/>
            <a:chExt cx="7777440" cy="631080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0" t="21646" r="0" b="0"/>
            <a:stretch/>
          </p:blipFill>
          <p:spPr>
            <a:xfrm>
              <a:off x="900000" y="1311120"/>
              <a:ext cx="7524720" cy="442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flipH="1">
              <a:off x="755280" y="5877000"/>
              <a:ext cx="59770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755640" y="1197000"/>
              <a:ext cx="0" cy="46800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5640" y="1197000"/>
              <a:ext cx="1368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37920" y="6021360"/>
              <a:ext cx="26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9999"/>
                  </a:solidFill>
                  <a:latin typeface="Comic Sans MS"/>
                </a:rPr>
                <a:t>Regulación posi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20000" y="5877000"/>
              <a:ext cx="1512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532720" y="1197000"/>
              <a:ext cx="0" cy="4680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90800" y="1197000"/>
              <a:ext cx="5641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28440" y="549360"/>
              <a:ext cx="277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Comic Sans MS"/>
                </a:rPr>
                <a:t>Regulación nega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9840" y="6553080"/>
              <a:ext cx="256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Cortesía de Patricia Blan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76720" y="4653000"/>
              <a:ext cx="216000" cy="21600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076720" y="4653000"/>
              <a:ext cx="216000" cy="2160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57720" y="4759200"/>
              <a:ext cx="360360" cy="3603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342960" y="177480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omic Sans MS"/>
              </a:rPr>
              <a:t>(citoki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68360" y="189000"/>
          <a:ext cx="691344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691344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556000" y="4076640"/>
          <a:ext cx="5256000" cy="25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4076640"/>
                    <a:ext cx="52560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4195800" y="6583320"/>
            <a:ext cx="421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Molecular biology of the cell, Alberts et al., 3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7200" y="-49320"/>
            <a:ext cx="47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Rb: otro importante regulador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11808" t="18497" r="9844" b="0"/>
          <a:stretch/>
        </p:blipFill>
        <p:spPr>
          <a:xfrm>
            <a:off x="1619280" y="1125360"/>
            <a:ext cx="5905440" cy="460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109840" y="6553080"/>
            <a:ext cx="25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Cortesía de Patricia Bla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89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Rb siempre está fosforil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Está más inactiva como secuestradora (de E2F) cuando está moderadamente fosforil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7056360" cy="3535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42920" y="5445000"/>
            <a:ext cx="7274160" cy="703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Mecanismo que controla la iniciación de la fase S en ani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417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916360" y="404640"/>
            <a:ext cx="36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no Linotype"/>
              </a:rPr>
              <a:t>Ciclo cel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8820000" cy="321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4941720"/>
            <a:ext cx="7920000" cy="916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Palatino Linotype"/>
              </a:rPr>
              <a:t>El ciclo celular dirige la transición del estado de quiescencia (G0) al estado de proliferación, asegurando la fidelidad del transcripto gené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6480" y="378000"/>
            <a:ext cx="9071640" cy="5854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eaf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Resum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ciclo celular es un proceso ordenado donde una célula se divide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formar dos células hijas idén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ste proceso no es aislado ni indiferente al resto de los procesos celu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l contrario, se activa como consecuencia del balance de señales exter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 in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ara obtener una ordenada transición por el ciclo celular, la célula evolucion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ara que cada paso en el proceso dependa de la eficiente terminación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os procesos que controlan el ciclo celular compren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)Regulación transcrip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b)Regulación post-transcripcional que incluye modificaciones proteicas co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fosforilación y regulación de la velocidad de proteóli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No todas las proteínas involucradas en el ciclo celular están regulad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igual man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1240" y="944640"/>
            <a:ext cx="8381520" cy="4972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eaf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Resu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urante un ciclo celular los reguladores negativos del ciclo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articipan en la decisión de entrada en fase S son los inhib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e quinasas dependientes de ciclinas (CKI) y R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os CKI inhiben la actividad de CD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os CKI son inestables como las cicli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Rb inhibe la actividad transcripcional de E2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 fosforilación de Rb produce la liberación de E2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i el balance es positivo para actividad de CDKs y para activ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e E2F, la célula entra en fase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5120" y="260280"/>
            <a:ext cx="8678880" cy="7226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eaf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Resu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53 está mutada en 50% de los casos de cáncer (germinal y 4somáticamen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53 es un factor transcripcional que puede inducir arresto del ciclo cel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o muerte celular programada. Mediante esta capacidad transcripcional p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ctúa como guardián del genoma (evita la inestabilidad genóm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Uno de los blancos transcripcionales de p53 es MDM2. Esta proteína es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3 ligasa de ubiquitina para la degradacion de p53 en el proteosoma. Por lo tanto, un feedback negativo regula los niveles (y como consecuencia de ello, la actividad) de p5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Otro blanco transcripcional de p53 es p21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lo que explica su capac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rrestar el ciclo celular en G1 (p21 y otros blancos transcripcionales de p53 contribuyen también al arresto en G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os niveles de p53 aumentan como consecuencia de señales de daño al AD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473800" cy="4038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332000" y="47628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no Linotype"/>
              </a:rPr>
              <a:t>Fases del Ciclo cel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573408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La longitud de G1 varía y depende de las condiciones externas y de señales extracelulares de otras célu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00000" y="476280"/>
          <a:ext cx="4638960" cy="55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76280"/>
                    <a:ext cx="463896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727520" y="6308640"/>
            <a:ext cx="421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Molecular biology of the cell, Alberts et al., 3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7960" y="28404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l cicl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85560" y="500040"/>
            <a:ext cx="375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aracterísticas fundament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ltamente Ord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Finamente regul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0120" y="5410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4508640"/>
            <a:ext cx="413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unciona un número fini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 ve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 una población celular en divisió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pués: senescencia y apop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329440" cy="3614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5373720"/>
            <a:ext cx="7201080" cy="916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xperimento de fusión celular en células de mamífero. Los resultados demuestran la presencia de factores que dirigen el paso de G1 a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00000" y="549360"/>
            <a:ext cx="67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Las cdks junto con proteínas reguladores llamadas ciclinas dirigen la célula a través del ciclo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2384280" cy="3024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51280" y="1700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Sin ciclinas las cdks están ina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3500280"/>
            <a:ext cx="4321080" cy="10598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Palatino Linotype"/>
              </a:rPr>
              <a:t>Las ciclinas estan en un proceso constante de síntesis y 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Palatino Linotype"/>
              </a:rPr>
              <a:t>Los niveles de Cdk </a:t>
            </a:r>
            <a:r>
              <a:rPr b="0" lang="es-ES" sz="1800" spc="-1" strike="noStrike">
                <a:solidFill>
                  <a:srgbClr val="000000"/>
                </a:solidFill>
                <a:latin typeface="Palatino Linotype"/>
              </a:rPr>
              <a:t> son 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4608360" cy="511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867280" y="620640"/>
            <a:ext cx="2376720" cy="1191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istema de control del cicl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2852640"/>
            <a:ext cx="27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36520" y="2760840"/>
            <a:ext cx="388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cc"/>
                </a:solidFill>
                <a:latin typeface="Palatino Linotype"/>
              </a:rPr>
              <a:t>las ciclinas se degradan c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cc"/>
                </a:solidFill>
                <a:latin typeface="Palatino Linotype"/>
              </a:rPr>
              <a:t>ya no se necesi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cc"/>
                </a:solidFill>
                <a:latin typeface="Palatino Linotype"/>
              </a:rPr>
              <a:t> </a:t>
            </a:r>
            <a:r>
              <a:rPr b="1" lang="es-ES" sz="1800" spc="-1" strike="noStrike">
                <a:solidFill>
                  <a:srgbClr val="3366cc"/>
                </a:solidFill>
                <a:latin typeface="Palatino Linotype"/>
              </a:rPr>
              <a:t>en la etapa correspondi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cc"/>
                </a:solidFill>
                <a:latin typeface="Palatino Linotype"/>
              </a:rPr>
              <a:t>del cicl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34544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58920" y="620640"/>
            <a:ext cx="698508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Base estructural de la activación de Cd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6794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3:50:12Z</dcterms:created>
  <dc:creator>PARIS</dc:creator>
  <dc:description/>
  <dc:language>en-US</dc:language>
  <cp:lastModifiedBy>PARIS</cp:lastModifiedBy>
  <dcterms:modified xsi:type="dcterms:W3CDTF">2010-04-12T11:22:31Z</dcterms:modified>
  <cp:revision>4</cp:revision>
  <dc:subject/>
  <dc:title>Diapositiva 1</dc:title>
</cp:coreProperties>
</file>