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29.wmf" ContentType="image/x-wmf"/>
  <Override PartName="/ppt/media/image31.png" ContentType="image/png"/>
  <Override PartName="/ppt/media/image19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0.jpeg" ContentType="image/jpeg"/>
  <Override PartName="/ppt/media/image8.jpeg" ContentType="image/jpeg"/>
  <Override PartName="/ppt/media/image23.wmf" ContentType="image/x-wmf"/>
  <Override PartName="/ppt/media/image9.jpeg" ContentType="image/jpeg"/>
  <Override PartName="/ppt/media/image32.wmf" ContentType="image/x-wmf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4F06-E48D-46D1-A753-A8AC036D0B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E58-A641-4372-9CDD-786C8C9978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A0B-41DE-4958-8E57-EE5C85BA08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991A-10D6-48F6-BB22-5D9024F2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D21-470A-4005-A5AB-1409C234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504-9848-4F34-8771-7EA25C0DF8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CCFD-2877-4B7D-9A32-248FFE277B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1F6-6EF1-46B0-9BDA-19191BBB07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206D-E986-47A1-A205-96C6A134AE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493-113C-4315-BEA1-6E8F20F1A3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08B-2110-441A-8E2D-EDC07D15E6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497-23BB-40CC-87B5-7880B54241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507-934A-49FD-B3AE-1419750677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DC4B-0DA6-457D-9912-C5EC52B6E2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A5F-A896-4843-A6C2-DF05B37E70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F27-A0E7-402F-80F1-2FBDECC453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F3FC-7798-4DCF-9DF5-F882C68CBC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5FC-EA76-4E52-89E0-CB39E05A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AAB-4534-4187-B9CD-72C41C0438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0E20-2286-4383-A252-7B25DD60D8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E22E-A7C4-4EC5-878D-762739D238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5999-E5D0-46C9-A333-891AA19406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C0C-1D52-43F7-9217-D1BADB1350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6565-ADDA-4A93-AA83-24A6F8A6E2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98A9-A1A4-4D5C-8D31-141274CACA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672F-2C1D-4833-B083-995D68D89E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152B-2F99-4BF7-87AF-368E4F275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FFBA-1C8C-4C45-B85C-9DB6B4BD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49EA-C7C4-4F85-9F74-272BB3E5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F77-7C93-4168-BCC7-A2FC9813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F9F-84CC-42F4-8DA8-2EEA1D44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45D-5B48-4F28-96D2-C7FEF83F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2DC-1D8B-484D-B5F2-C3306F91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152-AA61-4709-8FDD-4F182182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77B-9204-4191-8338-9B56EA21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F7F-CBD5-4A1C-A18C-CABB8CF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07E-62DE-42D0-8479-61437183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1D4-83F4-4F3B-9840-3B501C69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CC0-2361-44BD-9860-9497C24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CCC-B532-4A3C-839A-C1FDA2B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05-F163-4ECA-AC08-38CB4AA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E521-A3E1-4319-8EDA-8A627F46061F}" type="slidenum">
              <a:rPr b="0" lang="es-C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86200"/>
            <a:ext cx="7848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A) Proteínas en la cubierta de un virus (B) microtubulos en un corte transversal de la cola de un espermatozoidel; (C) contorno de un grano de polen; (D) ala de una mariposa mostrando el patrón creado por escamasl; (E) cabeza de un giras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14880" cy="1724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304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ción esquemática de la oxidación del azúcar en un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1143000"/>
            <a:ext cx="5410080" cy="5181480"/>
            <a:chOff x="685800" y="1143000"/>
            <a:chExt cx="5410080" cy="51814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0" r="31660" b="0"/>
            <a:stretch/>
          </p:blipFill>
          <p:spPr>
            <a:xfrm>
              <a:off x="685800" y="1143000"/>
              <a:ext cx="5181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257800" y="2895480"/>
              <a:ext cx="8380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114300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5432400" y="2049480"/>
          <a:ext cx="3406680" cy="38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2400" y="2049480"/>
                    <a:ext cx="34066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3"/>
          <p:cNvGrpSpPr/>
          <p:nvPr/>
        </p:nvGrpSpPr>
        <p:grpSpPr>
          <a:xfrm>
            <a:off x="1379520" y="216000"/>
            <a:ext cx="5096160" cy="6423120"/>
            <a:chOff x="1379520" y="216000"/>
            <a:chExt cx="5096160" cy="6423120"/>
          </a:xfrm>
        </p:grpSpPr>
        <p:pic>
          <p:nvPicPr>
            <p:cNvPr id="98" name="Picture 4" descr="ch2f19"/>
            <p:cNvPicPr/>
            <p:nvPr/>
          </p:nvPicPr>
          <p:blipFill>
            <a:blip r:embed="rId3"/>
            <a:stretch/>
          </p:blipFill>
          <p:spPr>
            <a:xfrm>
              <a:off x="1655640" y="228600"/>
              <a:ext cx="47628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452600" y="228600"/>
              <a:ext cx="2286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452600" y="216000"/>
              <a:ext cx="1346040" cy="146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429560" y="533520"/>
              <a:ext cx="143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1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acromolécula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ubunidades si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452600" y="1709640"/>
              <a:ext cx="1346040" cy="126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488600" y="1647720"/>
              <a:ext cx="1326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2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as subunidade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cetil-CoA y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canti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ades limitad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TP y 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436760" y="3009960"/>
              <a:ext cx="1346040" cy="3565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1379520" y="3809880"/>
              <a:ext cx="1452600" cy="13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3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xidación comp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l acetil-Coa h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y 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 con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gran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antidades de ATP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417920" y="24120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350240" y="216000"/>
              <a:ext cx="8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lim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3052800" y="762120"/>
              <a:ext cx="6858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90880" y="7365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roteí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4189320" y="762120"/>
              <a:ext cx="984240" cy="2286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5618160" y="762120"/>
              <a:ext cx="6858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4171680" y="73656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oli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5657760" y="73656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a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2944800" y="1289160"/>
              <a:ext cx="895320" cy="380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170240" y="1289160"/>
              <a:ext cx="1028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516640" y="1289160"/>
              <a:ext cx="89532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901600" y="13399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4"/>
            <p:cNvSpPr/>
            <p:nvPr/>
          </p:nvSpPr>
          <p:spPr>
            <a:xfrm>
              <a:off x="4108320" y="125100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ono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(ej. glucos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5435280" y="1244520"/>
              <a:ext cx="104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y glice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557600" y="1682640"/>
              <a:ext cx="228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4475160" y="213372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>
              <a:off x="4551480" y="1682640"/>
              <a:ext cx="320400" cy="594000"/>
            </a:xfrm>
            <a:prstGeom prst="downArrow">
              <a:avLst>
                <a:gd name="adj1" fmla="val 50000"/>
                <a:gd name="adj2" fmla="val 4634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 rot="16200000">
              <a:off x="4336560" y="1845000"/>
              <a:ext cx="69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5084640" y="1905120"/>
              <a:ext cx="3049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4991040" y="1879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4367160" y="2286000"/>
              <a:ext cx="68580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4336920" y="2254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309920" y="2882880"/>
              <a:ext cx="77652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4256280" y="285768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6"/>
            <p:cNvSpPr/>
            <p:nvPr/>
          </p:nvSpPr>
          <p:spPr>
            <a:xfrm>
              <a:off x="4551480" y="35053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4357800" y="3429000"/>
              <a:ext cx="66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4157640" y="4559400"/>
              <a:ext cx="1066680" cy="380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4103640" y="452124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poder re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5084640" y="5029200"/>
              <a:ext cx="304920" cy="762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1"/>
            <p:cNvSpPr/>
            <p:nvPr/>
          </p:nvSpPr>
          <p:spPr>
            <a:xfrm>
              <a:off x="4995720" y="5229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"/>
            <p:cNvSpPr/>
            <p:nvPr/>
          </p:nvSpPr>
          <p:spPr>
            <a:xfrm>
              <a:off x="4565520" y="4948200"/>
              <a:ext cx="2239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"/>
            <p:cNvSpPr/>
            <p:nvPr/>
          </p:nvSpPr>
          <p:spPr>
            <a:xfrm>
              <a:off x="4519440" y="571176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4"/>
            <p:cNvSpPr/>
            <p:nvPr/>
          </p:nvSpPr>
          <p:spPr>
            <a:xfrm>
              <a:off x="4551480" y="4971960"/>
              <a:ext cx="320400" cy="895320"/>
            </a:xfrm>
            <a:prstGeom prst="downArrow">
              <a:avLst>
                <a:gd name="adj1" fmla="val 50000"/>
                <a:gd name="adj2" fmla="val 698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5"/>
            <p:cNvSpPr/>
            <p:nvPr/>
          </p:nvSpPr>
          <p:spPr>
            <a:xfrm>
              <a:off x="317484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3827520" y="54151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4484520" y="58723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592308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3880080" y="538164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0"/>
            <p:cNvSpPr/>
            <p:nvPr/>
          </p:nvSpPr>
          <p:spPr>
            <a:xfrm>
              <a:off x="317520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1"/>
            <p:cNvSpPr/>
            <p:nvPr/>
          </p:nvSpPr>
          <p:spPr>
            <a:xfrm>
              <a:off x="4484880" y="583884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92308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 rot="16200000">
              <a:off x="4524120" y="5249520"/>
              <a:ext cx="381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3774960" y="5105520"/>
              <a:ext cx="7621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3639600" y="4952880"/>
              <a:ext cx="99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sfori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oxid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6"/>
            <p:cNvSpPr/>
            <p:nvPr/>
          </p:nvSpPr>
          <p:spPr>
            <a:xfrm>
              <a:off x="4237200" y="6400800"/>
              <a:ext cx="914400" cy="21924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4319280" y="636264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4"/>
          <p:cNvGrpSpPr/>
          <p:nvPr/>
        </p:nvGrpSpPr>
        <p:grpSpPr>
          <a:xfrm>
            <a:off x="1773000" y="228600"/>
            <a:ext cx="6274440" cy="6477840"/>
            <a:chOff x="1773000" y="228600"/>
            <a:chExt cx="6274440" cy="6477840"/>
          </a:xfrm>
        </p:grpSpPr>
        <p:sp>
          <p:nvSpPr>
            <p:cNvPr id="153" name="Text Box 3"/>
            <p:cNvSpPr/>
            <p:nvPr/>
          </p:nvSpPr>
          <p:spPr>
            <a:xfrm>
              <a:off x="4038120" y="22860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3961080" y="190512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4381560" y="83808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3923640" y="379404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81560" y="251460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4609440" y="76212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6056640" y="281952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1773000" y="281952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rot="18091200">
              <a:off x="5695920" y="177156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 rot="3299400">
              <a:off x="3161880" y="182844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293920" y="16002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5792760" y="16765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4592520" y="233028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 flipV="1">
              <a:off x="4533840" y="274248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4919400" y="297180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8"/>
            <p:cNvSpPr/>
            <p:nvPr/>
          </p:nvSpPr>
          <p:spPr>
            <a:xfrm>
              <a:off x="4381560" y="434340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822840" y="539424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4756680" y="449568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980720" y="320040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5713200" y="318132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50160" y="578952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gure 2-70"/>
          <p:cNvPicPr/>
          <p:nvPr/>
        </p:nvPicPr>
        <p:blipFill>
          <a:blip r:embed="rId1"/>
          <a:stretch/>
        </p:blipFill>
        <p:spPr>
          <a:xfrm>
            <a:off x="3314880" y="380880"/>
            <a:ext cx="4076640" cy="6094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0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CuadroTexto"/>
          <p:cNvSpPr/>
          <p:nvPr/>
        </p:nvSpPr>
        <p:spPr>
          <a:xfrm>
            <a:off x="466920" y="2209680"/>
            <a:ext cx="212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licó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6 Conector recto de flecha"/>
          <p:cNvCxnSpPr/>
          <p:nvPr/>
        </p:nvCxnSpPr>
        <p:spPr>
          <a:xfrm>
            <a:off x="4724280" y="6400440"/>
            <a:ext cx="7668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7 CuadroTexto"/>
          <p:cNvSpPr/>
          <p:nvPr/>
        </p:nvSpPr>
        <p:spPr>
          <a:xfrm>
            <a:off x="4889520" y="64008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je 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8 CuadroTexto"/>
          <p:cNvSpPr/>
          <p:nvPr/>
        </p:nvSpPr>
        <p:spPr>
          <a:xfrm>
            <a:off x="626400" y="3886200"/>
            <a:ext cx="270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n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presencia de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2b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igure 2-72b"/>
          <p:cNvPicPr/>
          <p:nvPr/>
        </p:nvPicPr>
        <p:blipFill>
          <a:blip r:embed="rId1"/>
          <a:stretch/>
        </p:blipFill>
        <p:spPr>
          <a:xfrm>
            <a:off x="303120" y="1770120"/>
            <a:ext cx="8535960" cy="3316320"/>
          </a:xfrm>
          <a:prstGeom prst="rect">
            <a:avLst/>
          </a:prstGeom>
          <a:ln w="0">
            <a:noFill/>
          </a:ln>
        </p:spPr>
      </p:pic>
      <p:sp>
        <p:nvSpPr>
          <p:cNvPr id="182" name="3 CuadroTexto"/>
          <p:cNvSpPr/>
          <p:nvPr/>
        </p:nvSpPr>
        <p:spPr>
          <a:xfrm>
            <a:off x="1005480" y="563868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 Glucosa genera ATP y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itochondria"/>
          <p:cNvPicPr/>
          <p:nvPr/>
        </p:nvPicPr>
        <p:blipFill>
          <a:blip r:embed="rId1"/>
          <a:stretch/>
        </p:blipFill>
        <p:spPr>
          <a:xfrm>
            <a:off x="228600" y="114300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mitoecb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3862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987640" y="30492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473440" y="1103400"/>
            <a:ext cx="2680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 A 10 um de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 4 um de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24560" y="1905120"/>
            <a:ext cx="13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7 Conector recto de flecha"/>
          <p:cNvCxnSpPr/>
          <p:nvPr/>
        </p:nvCxnSpPr>
        <p:spPr>
          <a:xfrm>
            <a:off x="7315200" y="236232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3404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5029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lization of mitochondria near sites of high ATP utilization in cardiac muscle and a sperm ta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3"/>
          <p:cNvGrpSpPr/>
          <p:nvPr/>
        </p:nvGrpSpPr>
        <p:grpSpPr>
          <a:xfrm>
            <a:off x="914400" y="152280"/>
            <a:ext cx="7238520" cy="6400800"/>
            <a:chOff x="914400" y="152280"/>
            <a:chExt cx="7238520" cy="6400800"/>
          </a:xfrm>
        </p:grpSpPr>
        <p:sp>
          <p:nvSpPr>
            <p:cNvPr id="192" name="Rectangle 74"/>
            <p:cNvSpPr/>
            <p:nvPr/>
          </p:nvSpPr>
          <p:spPr>
            <a:xfrm>
              <a:off x="914400" y="152280"/>
              <a:ext cx="723852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5" descr="mitesq"/>
            <p:cNvPicPr/>
            <p:nvPr/>
          </p:nvPicPr>
          <p:blipFill>
            <a:blip r:embed="rId1"/>
            <a:stretch/>
          </p:blipFill>
          <p:spPr>
            <a:xfrm>
              <a:off x="1506600" y="228240"/>
              <a:ext cx="432036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6"/>
            <p:cNvSpPr/>
            <p:nvPr/>
          </p:nvSpPr>
          <p:spPr>
            <a:xfrm>
              <a:off x="1916640" y="5638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ri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7"/>
            <p:cNvSpPr/>
            <p:nvPr/>
          </p:nvSpPr>
          <p:spPr>
            <a:xfrm>
              <a:off x="1352160" y="502884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8"/>
            <p:cNvSpPr/>
            <p:nvPr/>
          </p:nvSpPr>
          <p:spPr>
            <a:xfrm>
              <a:off x="3687120" y="260280"/>
              <a:ext cx="135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ermeable a  io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oléculas pequeñ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9"/>
            <p:cNvSpPr/>
            <p:nvPr/>
          </p:nvSpPr>
          <p:spPr>
            <a:xfrm>
              <a:off x="1526760" y="73620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r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80"/>
            <p:cNvSpPr/>
            <p:nvPr/>
          </p:nvSpPr>
          <p:spPr>
            <a:xfrm>
              <a:off x="1878120" y="304560"/>
              <a:ext cx="904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1"/>
            <p:cNvSpPr/>
            <p:nvPr/>
          </p:nvSpPr>
          <p:spPr>
            <a:xfrm>
              <a:off x="4069440" y="990360"/>
              <a:ext cx="2652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permeable a la mayor parte de 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ones y moléculas pequeñas incluyendo H</a:t>
              </a:r>
              <a:r>
                <a:rPr b="0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transportad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lectrones (complejos  I-I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intercambiadores  ATP-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otros transportad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2"/>
            <p:cNvSpPr/>
            <p:nvPr/>
          </p:nvSpPr>
          <p:spPr>
            <a:xfrm>
              <a:off x="4253400" y="3085920"/>
              <a:ext cx="321984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piruvato deshidrogen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l ciclo  de Kre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 la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-oxidación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para   oxidació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DNA y  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, ADP, Pi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1972080" y="99036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4"/>
            <p:cNvSpPr/>
            <p:nvPr/>
          </p:nvSpPr>
          <p:spPr>
            <a:xfrm>
              <a:off x="2328840" y="77112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5"/>
            <p:cNvSpPr/>
            <p:nvPr/>
          </p:nvSpPr>
          <p:spPr>
            <a:xfrm flipV="1">
              <a:off x="3119040" y="685080"/>
              <a:ext cx="2041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6"/>
            <p:cNvSpPr/>
            <p:nvPr/>
          </p:nvSpPr>
          <p:spPr>
            <a:xfrm flipV="1">
              <a:off x="3386880" y="1370880"/>
              <a:ext cx="203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7"/>
            <p:cNvSpPr/>
            <p:nvPr/>
          </p:nvSpPr>
          <p:spPr>
            <a:xfrm flipV="1">
              <a:off x="3947400" y="3314160"/>
              <a:ext cx="2800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V="1">
              <a:off x="1933920" y="435276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9"/>
            <p:cNvSpPr/>
            <p:nvPr/>
          </p:nvSpPr>
          <p:spPr>
            <a:xfrm flipV="1">
              <a:off x="2175840" y="493380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146960" y="1874880"/>
            <a:ext cx="6496920" cy="4299120"/>
            <a:chOff x="1146960" y="1874880"/>
            <a:chExt cx="6496920" cy="4299120"/>
          </a:xfrm>
        </p:grpSpPr>
        <p:sp>
          <p:nvSpPr>
            <p:cNvPr id="209" name="Line 4"/>
            <p:cNvSpPr/>
            <p:nvPr/>
          </p:nvSpPr>
          <p:spPr>
            <a:xfrm flipV="1">
              <a:off x="629604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522936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416232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4452840" y="3093840"/>
              <a:ext cx="236232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16200000">
              <a:off x="3652920" y="275076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 rot="16200000">
              <a:off x="4643280" y="3283920"/>
              <a:ext cx="1066680" cy="533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 rot="16200000">
              <a:off x="5710320" y="374148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995640" y="187488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2624040" y="4313160"/>
              <a:ext cx="990720" cy="990720"/>
              <a:chOff x="2624040" y="4313160"/>
              <a:chExt cx="990720" cy="990720"/>
            </a:xfrm>
          </p:grpSpPr>
          <p:sp>
            <p:nvSpPr>
              <p:cNvPr id="218" name="Oval 13"/>
              <p:cNvSpPr/>
              <p:nvPr/>
            </p:nvSpPr>
            <p:spPr>
              <a:xfrm>
                <a:off x="2624040" y="4313160"/>
                <a:ext cx="99072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2643120" y="4332240"/>
                <a:ext cx="952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5"/>
            <p:cNvSpPr/>
            <p:nvPr/>
          </p:nvSpPr>
          <p:spPr>
            <a:xfrm>
              <a:off x="2705760" y="2712960"/>
              <a:ext cx="85284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3943440" y="27892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4983480" y="332244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064560" y="37288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614760" y="2932200"/>
              <a:ext cx="304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4584960" y="3147120"/>
              <a:ext cx="3074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5665680" y="3633840"/>
              <a:ext cx="30492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 flipV="1">
              <a:off x="3081240" y="31698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2948040" y="3627360"/>
              <a:ext cx="27936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2890800" y="3481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1146960" y="4541760"/>
              <a:ext cx="1082880" cy="6426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zúc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y gr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319480" y="48466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7"/>
            <p:cNvGrpSpPr/>
            <p:nvPr/>
          </p:nvGrpSpPr>
          <p:grpSpPr>
            <a:xfrm>
              <a:off x="3660840" y="5151240"/>
              <a:ext cx="637920" cy="459720"/>
              <a:chOff x="3660840" y="5151240"/>
              <a:chExt cx="637920" cy="459720"/>
            </a:xfrm>
          </p:grpSpPr>
          <p:sp>
            <p:nvSpPr>
              <p:cNvPr id="233" name="AutoShape 28"/>
              <p:cNvSpPr/>
              <p:nvPr/>
            </p:nvSpPr>
            <p:spPr>
              <a:xfrm>
                <a:off x="3710160" y="515124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660840" y="5170320"/>
                <a:ext cx="637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0"/>
            <p:cNvGrpSpPr/>
            <p:nvPr/>
          </p:nvGrpSpPr>
          <p:grpSpPr>
            <a:xfrm>
              <a:off x="6486120" y="5151240"/>
              <a:ext cx="651240" cy="457200"/>
              <a:chOff x="6486120" y="5151240"/>
              <a:chExt cx="651240" cy="457200"/>
            </a:xfrm>
          </p:grpSpPr>
          <p:sp>
            <p:nvSpPr>
              <p:cNvPr id="236" name="AutoShape 31"/>
              <p:cNvSpPr/>
              <p:nvPr/>
            </p:nvSpPr>
            <p:spPr>
              <a:xfrm>
                <a:off x="6535800" y="5151240"/>
                <a:ext cx="533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32"/>
              <p:cNvSpPr/>
              <p:nvPr/>
            </p:nvSpPr>
            <p:spPr>
              <a:xfrm>
                <a:off x="6486120" y="5151240"/>
                <a:ext cx="65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6815160" y="4160880"/>
              <a:ext cx="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4969800" y="577512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5"/>
            <p:cNvSpPr/>
            <p:nvPr/>
          </p:nvSpPr>
          <p:spPr>
            <a:xfrm rot="16200000">
              <a:off x="5424480" y="4446000"/>
              <a:ext cx="114120" cy="266688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6"/>
            <p:cNvSpPr/>
            <p:nvPr/>
          </p:nvSpPr>
          <p:spPr>
            <a:xfrm flipH="1">
              <a:off x="6823080" y="4313160"/>
              <a:ext cx="457200" cy="380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7"/>
            <p:cNvSpPr/>
            <p:nvPr/>
          </p:nvSpPr>
          <p:spPr>
            <a:xfrm>
              <a:off x="7218000" y="4160880"/>
              <a:ext cx="4258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8"/>
            <p:cNvSpPr/>
            <p:nvPr/>
          </p:nvSpPr>
          <p:spPr>
            <a:xfrm>
              <a:off x="3629160" y="4770360"/>
              <a:ext cx="30456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9"/>
          <p:cNvSpPr/>
          <p:nvPr/>
        </p:nvSpPr>
        <p:spPr>
          <a:xfrm>
            <a:off x="3323160" y="533520"/>
            <a:ext cx="210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2"/>
          <p:cNvGrpSpPr/>
          <p:nvPr/>
        </p:nvGrpSpPr>
        <p:grpSpPr>
          <a:xfrm>
            <a:off x="2668320" y="380880"/>
            <a:ext cx="6274440" cy="6477840"/>
            <a:chOff x="2668320" y="380880"/>
            <a:chExt cx="6274440" cy="6477840"/>
          </a:xfrm>
        </p:grpSpPr>
        <p:sp>
          <p:nvSpPr>
            <p:cNvPr id="246" name="Text Box 33"/>
            <p:cNvSpPr/>
            <p:nvPr/>
          </p:nvSpPr>
          <p:spPr>
            <a:xfrm>
              <a:off x="4933440" y="38088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4856400" y="205740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5"/>
            <p:cNvSpPr/>
            <p:nvPr/>
          </p:nvSpPr>
          <p:spPr>
            <a:xfrm>
              <a:off x="5276880" y="99036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4818960" y="394632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5276880" y="266688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504760" y="91440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9"/>
            <p:cNvSpPr/>
            <p:nvPr/>
          </p:nvSpPr>
          <p:spPr>
            <a:xfrm>
              <a:off x="6951960" y="297180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2668320" y="297180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1"/>
            <p:cNvSpPr/>
            <p:nvPr/>
          </p:nvSpPr>
          <p:spPr>
            <a:xfrm rot="18091200">
              <a:off x="6591240" y="192384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2"/>
            <p:cNvSpPr/>
            <p:nvPr/>
          </p:nvSpPr>
          <p:spPr>
            <a:xfrm rot="3299400">
              <a:off x="4057200" y="198072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3"/>
            <p:cNvSpPr/>
            <p:nvPr/>
          </p:nvSpPr>
          <p:spPr>
            <a:xfrm>
              <a:off x="3189240" y="175248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4"/>
            <p:cNvSpPr/>
            <p:nvPr/>
          </p:nvSpPr>
          <p:spPr>
            <a:xfrm>
              <a:off x="6688080" y="18288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5"/>
            <p:cNvSpPr/>
            <p:nvPr/>
          </p:nvSpPr>
          <p:spPr>
            <a:xfrm>
              <a:off x="5487840" y="248256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V="1">
              <a:off x="5429160" y="289476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7"/>
            <p:cNvSpPr/>
            <p:nvPr/>
          </p:nvSpPr>
          <p:spPr>
            <a:xfrm>
              <a:off x="5814720" y="312408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8"/>
            <p:cNvSpPr/>
            <p:nvPr/>
          </p:nvSpPr>
          <p:spPr>
            <a:xfrm>
              <a:off x="5276880" y="449568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9"/>
            <p:cNvSpPr/>
            <p:nvPr/>
          </p:nvSpPr>
          <p:spPr>
            <a:xfrm>
              <a:off x="4718160" y="554652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0"/>
            <p:cNvSpPr/>
            <p:nvPr/>
          </p:nvSpPr>
          <p:spPr>
            <a:xfrm>
              <a:off x="5652000" y="464796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1"/>
            <p:cNvSpPr/>
            <p:nvPr/>
          </p:nvSpPr>
          <p:spPr>
            <a:xfrm>
              <a:off x="2876040" y="335268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2"/>
            <p:cNvSpPr/>
            <p:nvPr/>
          </p:nvSpPr>
          <p:spPr>
            <a:xfrm>
              <a:off x="6608520" y="333360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tras célula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4245480" y="594180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54"/>
          <p:cNvSpPr/>
          <p:nvPr/>
        </p:nvSpPr>
        <p:spPr>
          <a:xfrm>
            <a:off x="12240" y="762120"/>
            <a:ext cx="4460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ucosa + 2ADP + Pi + 2N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Piruvato + 2ATP + 2NADH + 2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9"/>
          <p:cNvGrpSpPr/>
          <p:nvPr/>
        </p:nvGrpSpPr>
        <p:grpSpPr>
          <a:xfrm>
            <a:off x="1289160" y="914400"/>
            <a:ext cx="7034040" cy="2377440"/>
            <a:chOff x="1289160" y="914400"/>
            <a:chExt cx="7034040" cy="2377440"/>
          </a:xfrm>
        </p:grpSpPr>
        <p:sp>
          <p:nvSpPr>
            <p:cNvPr id="52" name="Line 40"/>
            <p:cNvSpPr/>
            <p:nvPr/>
          </p:nvSpPr>
          <p:spPr>
            <a:xfrm>
              <a:off x="4559400" y="129204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206208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47"/>
            <p:cNvSpPr/>
            <p:nvPr/>
          </p:nvSpPr>
          <p:spPr>
            <a:xfrm>
              <a:off x="3319560" y="930240"/>
              <a:ext cx="290988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8"/>
            <p:cNvSpPr/>
            <p:nvPr/>
          </p:nvSpPr>
          <p:spPr>
            <a:xfrm>
              <a:off x="3250800" y="9144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dos los organism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49"/>
            <p:cNvGrpSpPr/>
            <p:nvPr/>
          </p:nvGrpSpPr>
          <p:grpSpPr>
            <a:xfrm>
              <a:off x="1289160" y="1666800"/>
              <a:ext cx="1542960" cy="1625040"/>
              <a:chOff x="1289160" y="1666800"/>
              <a:chExt cx="1542960" cy="1625040"/>
            </a:xfrm>
          </p:grpSpPr>
          <p:sp>
            <p:nvSpPr>
              <p:cNvPr id="57" name="AutoShape 50"/>
              <p:cNvSpPr/>
              <p:nvPr/>
            </p:nvSpPr>
            <p:spPr>
              <a:xfrm>
                <a:off x="1289160" y="1666800"/>
                <a:ext cx="1542960" cy="1625040"/>
              </a:xfrm>
              <a:custGeom>
                <a:avLst/>
                <a:gdLst>
                  <a:gd name="textAreaLeft" fmla="*/ 75240 w 1542960"/>
                  <a:gd name="textAreaRight" fmla="*/ 1467720 w 1542960"/>
                  <a:gd name="textAreaTop" fmla="*/ 75240 h 1625040"/>
                  <a:gd name="textAreaBottom" fmla="*/ 1549800 h 1625040"/>
                </a:gdLst>
                <a:ahLst/>
                <a:rect l="textAreaLeft" t="textAreaTop" r="textAreaRight" b="textAreaBottom"/>
                <a:pathLst>
                  <a:path w="21600" h="22749">
                    <a:moveTo>
                      <a:pt x="3600" y="0"/>
                    </a:moveTo>
                    <a:arcTo wR="3600" hR="3600" stAng="16200000" swAng="-5400000"/>
                    <a:lnTo>
                      <a:pt x="0" y="19149"/>
                    </a:lnTo>
                    <a:arcTo wR="3600" hR="3600" stAng="10800000" swAng="-5400000"/>
                    <a:lnTo>
                      <a:pt x="18000" y="227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51"/>
              <p:cNvSpPr/>
              <p:nvPr/>
            </p:nvSpPr>
            <p:spPr>
              <a:xfrm>
                <a:off x="1303200" y="1800000"/>
                <a:ext cx="1334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ot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la 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65"/>
            <p:cNvSpPr/>
            <p:nvPr/>
          </p:nvSpPr>
          <p:spPr>
            <a:xfrm flipV="1">
              <a:off x="2057400" y="1485720"/>
              <a:ext cx="50864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6"/>
            <p:cNvSpPr/>
            <p:nvPr/>
          </p:nvSpPr>
          <p:spPr>
            <a:xfrm>
              <a:off x="712476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7"/>
            <p:cNvGrpSpPr/>
            <p:nvPr/>
          </p:nvGrpSpPr>
          <p:grpSpPr>
            <a:xfrm>
              <a:off x="6105960" y="1714320"/>
              <a:ext cx="2217240" cy="1320480"/>
              <a:chOff x="6105960" y="1714320"/>
              <a:chExt cx="2217240" cy="1320480"/>
            </a:xfrm>
          </p:grpSpPr>
          <p:sp>
            <p:nvSpPr>
              <p:cNvPr id="62" name="AutoShape 68"/>
              <p:cNvSpPr/>
              <p:nvPr/>
            </p:nvSpPr>
            <p:spPr>
              <a:xfrm>
                <a:off x="6105960" y="1714320"/>
                <a:ext cx="2217240" cy="1320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9"/>
              <p:cNvSpPr/>
              <p:nvPr/>
            </p:nvSpPr>
            <p:spPr>
              <a:xfrm>
                <a:off x="6110640" y="1714320"/>
                <a:ext cx="2207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imi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compuest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í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6"/>
          <p:cNvSpPr/>
          <p:nvPr/>
        </p:nvSpPr>
        <p:spPr>
          <a:xfrm>
            <a:off x="213372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 2-38"/>
          <p:cNvPicPr/>
          <p:nvPr/>
        </p:nvPicPr>
        <p:blipFill>
          <a:blip r:embed="rId1"/>
          <a:stretch/>
        </p:blipFill>
        <p:spPr>
          <a:xfrm>
            <a:off x="228600" y="3527280"/>
            <a:ext cx="4800600" cy="2949840"/>
          </a:xfrm>
          <a:prstGeom prst="rect">
            <a:avLst/>
          </a:prstGeom>
          <a:ln w="0">
            <a:noFill/>
          </a:ln>
        </p:spPr>
      </p:pic>
      <p:sp>
        <p:nvSpPr>
          <p:cNvPr id="66" name="38 CuadroTexto"/>
          <p:cNvSpPr/>
          <p:nvPr/>
        </p:nvSpPr>
        <p:spPr>
          <a:xfrm>
            <a:off x="5105520" y="37339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élulas captan Energía de su entorno y la usan para generar 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e de la energía usada se disipa como calor (Entalpía, H) y se libera a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menta la Entropía (S) del unive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447920" y="380880"/>
            <a:ext cx="6286320" cy="4838760"/>
            <a:chOff x="1447920" y="380880"/>
            <a:chExt cx="6286320" cy="4838760"/>
          </a:xfrm>
        </p:grpSpPr>
        <p:graphicFrame>
          <p:nvGraphicFramePr>
            <p:cNvPr id="269" name="Object 3"/>
            <p:cNvGraphicFramePr/>
            <p:nvPr/>
          </p:nvGraphicFramePr>
          <p:xfrm>
            <a:off x="1447920" y="380880"/>
            <a:ext cx="6286320" cy="483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80880"/>
                      <a:ext cx="6286320" cy="483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Rectangle 4"/>
            <p:cNvSpPr/>
            <p:nvPr/>
          </p:nvSpPr>
          <p:spPr>
            <a:xfrm>
              <a:off x="3971880" y="2381040"/>
              <a:ext cx="457200" cy="60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"/>
            <p:cNvSpPr/>
            <p:nvPr/>
          </p:nvSpPr>
          <p:spPr>
            <a:xfrm>
              <a:off x="3906360" y="2314440"/>
              <a:ext cx="60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ic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3355200" y="1380960"/>
              <a:ext cx="858960" cy="337320"/>
              <a:chOff x="3355200" y="1380960"/>
              <a:chExt cx="858960" cy="33732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3400560" y="1456920"/>
                <a:ext cx="7614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8"/>
              <p:cNvSpPr/>
              <p:nvPr/>
            </p:nvSpPr>
            <p:spPr>
              <a:xfrm>
                <a:off x="3355200" y="138096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9"/>
            <p:cNvGrpSpPr/>
            <p:nvPr/>
          </p:nvGrpSpPr>
          <p:grpSpPr>
            <a:xfrm>
              <a:off x="4260600" y="1380960"/>
              <a:ext cx="1270440" cy="337320"/>
              <a:chOff x="4260600" y="1380960"/>
              <a:chExt cx="1270440" cy="337320"/>
            </a:xfrm>
          </p:grpSpPr>
          <p:sp>
            <p:nvSpPr>
              <p:cNvPr id="277" name="Rectangle 10"/>
              <p:cNvSpPr/>
              <p:nvPr/>
            </p:nvSpPr>
            <p:spPr>
              <a:xfrm>
                <a:off x="4333680" y="1457280"/>
                <a:ext cx="114264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1"/>
              <p:cNvSpPr/>
              <p:nvPr/>
            </p:nvSpPr>
            <p:spPr>
              <a:xfrm>
                <a:off x="4260600" y="138096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2"/>
            <p:cNvGrpSpPr/>
            <p:nvPr/>
          </p:nvGrpSpPr>
          <p:grpSpPr>
            <a:xfrm>
              <a:off x="3373920" y="447480"/>
              <a:ext cx="858960" cy="337320"/>
              <a:chOff x="3373920" y="447480"/>
              <a:chExt cx="858960" cy="337320"/>
            </a:xfrm>
          </p:grpSpPr>
          <p:sp>
            <p:nvSpPr>
              <p:cNvPr id="280" name="Rectangle 13"/>
              <p:cNvSpPr/>
              <p:nvPr/>
            </p:nvSpPr>
            <p:spPr>
              <a:xfrm>
                <a:off x="3419640" y="523440"/>
                <a:ext cx="76176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4"/>
              <p:cNvSpPr/>
              <p:nvPr/>
            </p:nvSpPr>
            <p:spPr>
              <a:xfrm>
                <a:off x="3373920" y="44748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"/>
            <p:cNvGrpSpPr/>
            <p:nvPr/>
          </p:nvGrpSpPr>
          <p:grpSpPr>
            <a:xfrm>
              <a:off x="4289040" y="447480"/>
              <a:ext cx="1270440" cy="337320"/>
              <a:chOff x="4289040" y="447480"/>
              <a:chExt cx="1270440" cy="337320"/>
            </a:xfrm>
          </p:grpSpPr>
          <p:sp>
            <p:nvSpPr>
              <p:cNvPr id="283" name="Rectangle 16"/>
              <p:cNvSpPr/>
              <p:nvPr/>
            </p:nvSpPr>
            <p:spPr>
              <a:xfrm>
                <a:off x="4362480" y="523800"/>
                <a:ext cx="11430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7"/>
              <p:cNvSpPr/>
              <p:nvPr/>
            </p:nvSpPr>
            <p:spPr>
              <a:xfrm>
                <a:off x="4289040" y="44748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18"/>
            <p:cNvSpPr/>
            <p:nvPr/>
          </p:nvSpPr>
          <p:spPr>
            <a:xfrm>
              <a:off x="6591240" y="904680"/>
              <a:ext cx="99072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6548400" y="109548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6367320" y="55224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7505640" y="752400"/>
              <a:ext cx="152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5753160" y="1047600"/>
              <a:ext cx="8380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V="1">
              <a:off x="6286680" y="131400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4"/>
            <p:cNvGrpSpPr/>
            <p:nvPr/>
          </p:nvGrpSpPr>
          <p:grpSpPr>
            <a:xfrm>
              <a:off x="3755880" y="1787400"/>
              <a:ext cx="1003680" cy="337320"/>
              <a:chOff x="3755880" y="1787400"/>
              <a:chExt cx="1003680" cy="337320"/>
            </a:xfrm>
          </p:grpSpPr>
          <p:sp>
            <p:nvSpPr>
              <p:cNvPr id="292" name="Rectangle 25"/>
              <p:cNvSpPr/>
              <p:nvPr/>
            </p:nvSpPr>
            <p:spPr>
              <a:xfrm>
                <a:off x="3828960" y="1863720"/>
                <a:ext cx="857520" cy="228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6"/>
              <p:cNvSpPr/>
              <p:nvPr/>
            </p:nvSpPr>
            <p:spPr>
              <a:xfrm>
                <a:off x="3755880" y="1787400"/>
                <a:ext cx="100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cetilCo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27"/>
            <p:cNvSpPr/>
            <p:nvPr/>
          </p:nvSpPr>
          <p:spPr>
            <a:xfrm>
              <a:off x="51451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69739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850200" y="3562200"/>
              <a:ext cx="776520" cy="33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30"/>
            <p:cNvGrpSpPr/>
            <p:nvPr/>
          </p:nvGrpSpPr>
          <p:grpSpPr>
            <a:xfrm>
              <a:off x="1603440" y="3090960"/>
              <a:ext cx="549360" cy="433080"/>
              <a:chOff x="1603440" y="3090960"/>
              <a:chExt cx="549360" cy="433080"/>
            </a:xfrm>
          </p:grpSpPr>
          <p:sp>
            <p:nvSpPr>
              <p:cNvPr id="298" name="Rectangle 31"/>
              <p:cNvSpPr/>
              <p:nvPr/>
            </p:nvSpPr>
            <p:spPr>
              <a:xfrm>
                <a:off x="1629000" y="314316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2"/>
              <p:cNvSpPr/>
              <p:nvPr/>
            </p:nvSpPr>
            <p:spPr>
              <a:xfrm>
                <a:off x="1603440" y="309096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3"/>
            <p:cNvSpPr/>
            <p:nvPr/>
          </p:nvSpPr>
          <p:spPr>
            <a:xfrm>
              <a:off x="5067360" y="2581200"/>
              <a:ext cx="53352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4"/>
            <p:cNvSpPr/>
            <p:nvPr/>
          </p:nvSpPr>
          <p:spPr>
            <a:xfrm>
              <a:off x="6972480" y="2581200"/>
              <a:ext cx="53316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5"/>
            <p:cNvSpPr/>
            <p:nvPr/>
          </p:nvSpPr>
          <p:spPr>
            <a:xfrm>
              <a:off x="5019840" y="2523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6"/>
            <p:cNvSpPr/>
            <p:nvPr/>
          </p:nvSpPr>
          <p:spPr>
            <a:xfrm>
              <a:off x="6924600" y="2533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7"/>
            <p:cNvGrpSpPr/>
            <p:nvPr/>
          </p:nvGrpSpPr>
          <p:grpSpPr>
            <a:xfrm>
              <a:off x="2933640" y="3085920"/>
              <a:ext cx="549360" cy="433080"/>
              <a:chOff x="2933640" y="3085920"/>
              <a:chExt cx="549360" cy="433080"/>
            </a:xfrm>
          </p:grpSpPr>
          <p:sp>
            <p:nvSpPr>
              <p:cNvPr id="305" name="Rectangle 38"/>
              <p:cNvSpPr/>
              <p:nvPr/>
            </p:nvSpPr>
            <p:spPr>
              <a:xfrm>
                <a:off x="2959200" y="313812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39"/>
              <p:cNvSpPr/>
              <p:nvPr/>
            </p:nvSpPr>
            <p:spPr>
              <a:xfrm>
                <a:off x="2933640" y="308592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0"/>
            <p:cNvSpPr/>
            <p:nvPr/>
          </p:nvSpPr>
          <p:spPr>
            <a:xfrm>
              <a:off x="3314880" y="387648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3225960" y="3800520"/>
              <a:ext cx="63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42"/>
          <p:cNvSpPr/>
          <p:nvPr/>
        </p:nvSpPr>
        <p:spPr>
          <a:xfrm>
            <a:off x="328680" y="5562720"/>
            <a:ext cx="85978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etil-CoA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+ 2FAD + 3NAD + +GDP + Pi = 2C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1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3NADH + 3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248160" cy="52214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390040" y="260280"/>
            <a:ext cx="44755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 los ácidos tricarboxíl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l ácido cít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CuadroTexto"/>
          <p:cNvSpPr/>
          <p:nvPr/>
        </p:nvSpPr>
        <p:spPr>
          <a:xfrm>
            <a:off x="6108840" y="20574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CuadroTexto"/>
          <p:cNvSpPr/>
          <p:nvPr/>
        </p:nvSpPr>
        <p:spPr>
          <a:xfrm>
            <a:off x="4146840" y="2666880"/>
            <a:ext cx="40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xidación del grupo acetilo hasta 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6 Conector recto de flecha"/>
          <p:cNvCxnSpPr/>
          <p:nvPr/>
        </p:nvCxnSpPr>
        <p:spPr>
          <a:xfrm flipH="1">
            <a:off x="1752120" y="5790240"/>
            <a:ext cx="53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7 CuadroTexto"/>
          <p:cNvSpPr/>
          <p:nvPr/>
        </p:nvSpPr>
        <p:spPr>
          <a:xfrm>
            <a:off x="160200" y="527688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9 Conector recto de flecha"/>
          <p:cNvCxnSpPr/>
          <p:nvPr/>
        </p:nvCxnSpPr>
        <p:spPr>
          <a:xfrm>
            <a:off x="1752120" y="1143000"/>
            <a:ext cx="213444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10 CuadroTexto"/>
          <p:cNvSpPr/>
          <p:nvPr/>
        </p:nvSpPr>
        <p:spPr>
          <a:xfrm>
            <a:off x="539640" y="7621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2 Conector recto de flecha"/>
          <p:cNvCxnSpPr/>
          <p:nvPr/>
        </p:nvCxnSpPr>
        <p:spPr>
          <a:xfrm flipH="1">
            <a:off x="1447200" y="3962160"/>
            <a:ext cx="533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53160" cy="1879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28800" y="838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final de la oxidación de las molécula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920160" y="304920"/>
            <a:ext cx="6094440" cy="6046560"/>
            <a:chOff x="920160" y="304920"/>
            <a:chExt cx="6094440" cy="6046560"/>
          </a:xfrm>
        </p:grpSpPr>
        <p:sp>
          <p:nvSpPr>
            <p:cNvPr id="322" name="AutoShape 4"/>
            <p:cNvSpPr/>
            <p:nvPr/>
          </p:nvSpPr>
          <p:spPr>
            <a:xfrm>
              <a:off x="2472480" y="304920"/>
              <a:ext cx="1134000" cy="12754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2501640" y="769320"/>
              <a:ext cx="1018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uz sol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2972160" y="2437560"/>
              <a:ext cx="2286000" cy="55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Electrones de “alta energía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2854080" y="3548160"/>
              <a:ext cx="2483640" cy="778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Gradiente electroquímic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transmembr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(gradiente de proton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3430200">
              <a:off x="2929320" y="1773360"/>
              <a:ext cx="909720" cy="272880"/>
            </a:xfrm>
            <a:prstGeom prst="rightArrow">
              <a:avLst>
                <a:gd name="adj1" fmla="val 50000"/>
                <a:gd name="adj2" fmla="val 83344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 rot="6310800">
              <a:off x="4056480" y="1718640"/>
              <a:ext cx="911880" cy="271080"/>
            </a:xfrm>
            <a:prstGeom prst="rightArrow">
              <a:avLst>
                <a:gd name="adj1" fmla="val 50000"/>
                <a:gd name="adj2" fmla="val 8409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3962880" y="2895120"/>
              <a:ext cx="543960" cy="790200"/>
            </a:xfrm>
            <a:prstGeom prst="downArrow">
              <a:avLst>
                <a:gd name="adj1" fmla="val 50000"/>
                <a:gd name="adj2" fmla="val 3631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920160" y="4694760"/>
              <a:ext cx="1325160" cy="77868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Rotación d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flagelo 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bacteri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808000" y="5790600"/>
              <a:ext cx="96696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AT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160160" y="5801040"/>
              <a:ext cx="113184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NADP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787000" y="3045960"/>
              <a:ext cx="1227600" cy="55044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cal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V="1">
              <a:off x="2203200" y="4165560"/>
              <a:ext cx="504000" cy="4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 flipV="1">
              <a:off x="5178960" y="3522240"/>
              <a:ext cx="54396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H="1">
              <a:off x="3243600" y="4538880"/>
              <a:ext cx="226800" cy="103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>
              <a:off x="4231800" y="4613400"/>
              <a:ext cx="43848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23" descr=""/>
            <p:cNvPicPr/>
            <p:nvPr/>
          </p:nvPicPr>
          <p:blipFill>
            <a:blip r:embed="rId1"/>
            <a:stretch/>
          </p:blipFill>
          <p:spPr>
            <a:xfrm>
              <a:off x="3924000" y="608400"/>
              <a:ext cx="165960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4"/>
            <p:cNvSpPr/>
            <p:nvPr/>
          </p:nvSpPr>
          <p:spPr>
            <a:xfrm>
              <a:off x="4119480" y="829080"/>
              <a:ext cx="1102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"/>
          <p:cNvSpPr/>
          <p:nvPr/>
        </p:nvSpPr>
        <p:spPr>
          <a:xfrm>
            <a:off x="4952880" y="99072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flujo de electrones subyace a los fenómenos de  transducción de energía de los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1290960" y="2525760"/>
            <a:ext cx="164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DH, FAD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1 CuadroTexto"/>
          <p:cNvSpPr/>
          <p:nvPr/>
        </p:nvSpPr>
        <p:spPr>
          <a:xfrm>
            <a:off x="5506920" y="38862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mbrana Intern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2 CuadroTexto"/>
          <p:cNvSpPr/>
          <p:nvPr/>
        </p:nvSpPr>
        <p:spPr>
          <a:xfrm>
            <a:off x="5496120" y="5867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25 Conector recto de flecha"/>
          <p:cNvCxnSpPr/>
          <p:nvPr/>
        </p:nvCxnSpPr>
        <p:spPr>
          <a:xfrm flipH="1">
            <a:off x="1980360" y="3048120"/>
            <a:ext cx="25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26 CuadroTexto"/>
          <p:cNvSpPr/>
          <p:nvPr/>
        </p:nvSpPr>
        <p:spPr>
          <a:xfrm>
            <a:off x="244080" y="35924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7 CuadroTexto"/>
          <p:cNvSpPr/>
          <p:nvPr/>
        </p:nvSpPr>
        <p:spPr>
          <a:xfrm>
            <a:off x="1921320" y="63356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iración,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663480" y="928800"/>
            <a:ext cx="808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Síntesis de ATP manejada por la transferencia de electrones hasta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tosínt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Síntesis de ATP manejada por la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900000" y="26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835280" y="24271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n la mayor parte del ATP producido por los organismos aerob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900000" y="44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887480" y="416880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gradación de carbohidratos, ácidos grasos y aminoácidos convergen en est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826920" y="566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763640" y="5392800"/>
            <a:ext cx="700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. reducción del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con los electrones donados por NADH Y 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6"/>
          <p:cNvGrpSpPr/>
          <p:nvPr/>
        </p:nvGrpSpPr>
        <p:grpSpPr>
          <a:xfrm>
            <a:off x="1082520" y="63360"/>
            <a:ext cx="6387120" cy="6743880"/>
            <a:chOff x="1082520" y="63360"/>
            <a:chExt cx="6387120" cy="6743880"/>
          </a:xfrm>
        </p:grpSpPr>
        <p:sp>
          <p:nvSpPr>
            <p:cNvPr id="354" name="Line 3"/>
            <p:cNvSpPr/>
            <p:nvPr/>
          </p:nvSpPr>
          <p:spPr>
            <a:xfrm>
              <a:off x="4800600" y="59436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"/>
            <p:cNvSpPr/>
            <p:nvPr/>
          </p:nvSpPr>
          <p:spPr>
            <a:xfrm>
              <a:off x="4800600" y="476244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800600" y="16128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4800600" y="242568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8"/>
            <p:cNvSpPr/>
            <p:nvPr/>
          </p:nvSpPr>
          <p:spPr>
            <a:xfrm>
              <a:off x="1936800" y="2209680"/>
              <a:ext cx="251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5623200" y="758880"/>
              <a:ext cx="182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ADH -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0"/>
            <p:cNvSpPr/>
            <p:nvPr/>
          </p:nvSpPr>
          <p:spPr>
            <a:xfrm>
              <a:off x="5725080" y="2971800"/>
              <a:ext cx="1716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oQ - Ci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5781600" y="506736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it c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2"/>
            <p:cNvGrpSpPr/>
            <p:nvPr/>
          </p:nvGrpSpPr>
          <p:grpSpPr>
            <a:xfrm>
              <a:off x="4445280" y="4305240"/>
              <a:ext cx="713880" cy="533520"/>
              <a:chOff x="4445280" y="4305240"/>
              <a:chExt cx="713880" cy="533520"/>
            </a:xfrm>
          </p:grpSpPr>
          <p:sp>
            <p:nvSpPr>
              <p:cNvPr id="363" name="Oval 13"/>
              <p:cNvSpPr/>
              <p:nvPr/>
            </p:nvSpPr>
            <p:spPr>
              <a:xfrm>
                <a:off x="4473360" y="4305240"/>
                <a:ext cx="68580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4445280" y="4343400"/>
                <a:ext cx="6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t </a:t>
                </a: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5"/>
            <p:cNvGrpSpPr/>
            <p:nvPr/>
          </p:nvGrpSpPr>
          <p:grpSpPr>
            <a:xfrm>
              <a:off x="4457880" y="1952640"/>
              <a:ext cx="691560" cy="533520"/>
              <a:chOff x="4457880" y="1952640"/>
              <a:chExt cx="691560" cy="53352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4457880" y="1952640"/>
                <a:ext cx="68544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"/>
              <p:cNvSpPr/>
              <p:nvPr/>
            </p:nvSpPr>
            <p:spPr>
              <a:xfrm>
                <a:off x="4458240" y="200988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8"/>
            <p:cNvGrpSpPr/>
            <p:nvPr/>
          </p:nvGrpSpPr>
          <p:grpSpPr>
            <a:xfrm>
              <a:off x="4533840" y="6273720"/>
              <a:ext cx="533520" cy="533520"/>
              <a:chOff x="4533840" y="6273720"/>
              <a:chExt cx="533520" cy="533520"/>
            </a:xfrm>
          </p:grpSpPr>
          <p:sp>
            <p:nvSpPr>
              <p:cNvPr id="369" name="Oval 19"/>
              <p:cNvSpPr/>
              <p:nvPr/>
            </p:nvSpPr>
            <p:spPr>
              <a:xfrm>
                <a:off x="4533840" y="6273720"/>
                <a:ext cx="533520" cy="533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20"/>
              <p:cNvSpPr/>
              <p:nvPr/>
            </p:nvSpPr>
            <p:spPr>
              <a:xfrm>
                <a:off x="4586400" y="63021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1"/>
            <p:cNvGrpSpPr/>
            <p:nvPr/>
          </p:nvGrpSpPr>
          <p:grpSpPr>
            <a:xfrm>
              <a:off x="2108160" y="1765440"/>
              <a:ext cx="1600200" cy="987120"/>
              <a:chOff x="2108160" y="1765440"/>
              <a:chExt cx="1600200" cy="987120"/>
            </a:xfrm>
          </p:grpSpPr>
          <p:sp>
            <p:nvSpPr>
              <p:cNvPr id="372" name="AutoShape 22"/>
              <p:cNvSpPr/>
              <p:nvPr/>
            </p:nvSpPr>
            <p:spPr>
              <a:xfrm>
                <a:off x="2108160" y="1765440"/>
                <a:ext cx="1600200" cy="98712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3"/>
              <p:cNvGrpSpPr/>
              <p:nvPr/>
            </p:nvGrpSpPr>
            <p:grpSpPr>
              <a:xfrm>
                <a:off x="2152440" y="2038320"/>
                <a:ext cx="610920" cy="337320"/>
                <a:chOff x="2152440" y="2038320"/>
                <a:chExt cx="610920" cy="337320"/>
              </a:xfrm>
            </p:grpSpPr>
            <p:sp>
              <p:nvSpPr>
                <p:cNvPr id="374" name="Oval 24"/>
                <p:cNvSpPr/>
                <p:nvPr/>
              </p:nvSpPr>
              <p:spPr>
                <a:xfrm>
                  <a:off x="215244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5"/>
                <p:cNvSpPr/>
                <p:nvPr/>
              </p:nvSpPr>
              <p:spPr>
                <a:xfrm>
                  <a:off x="2166480" y="203832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26"/>
              <p:cNvGrpSpPr/>
              <p:nvPr/>
            </p:nvGrpSpPr>
            <p:grpSpPr>
              <a:xfrm>
                <a:off x="3089160" y="2038320"/>
                <a:ext cx="609480" cy="337320"/>
                <a:chOff x="3089160" y="2038320"/>
                <a:chExt cx="609480" cy="337320"/>
              </a:xfrm>
            </p:grpSpPr>
            <p:sp>
              <p:nvSpPr>
                <p:cNvPr id="377" name="Oval 27"/>
                <p:cNvSpPr/>
                <p:nvPr/>
              </p:nvSpPr>
              <p:spPr>
                <a:xfrm>
                  <a:off x="308916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8"/>
                <p:cNvSpPr/>
                <p:nvPr/>
              </p:nvSpPr>
              <p:spPr>
                <a:xfrm>
                  <a:off x="3117240" y="203832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Text Box 29"/>
            <p:cNvSpPr/>
            <p:nvPr/>
          </p:nvSpPr>
          <p:spPr>
            <a:xfrm>
              <a:off x="1082520" y="2809800"/>
              <a:ext cx="293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uccinato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2"/>
            <p:cNvSpPr/>
            <p:nvPr/>
          </p:nvSpPr>
          <p:spPr>
            <a:xfrm>
              <a:off x="4038480" y="835200"/>
              <a:ext cx="1600200" cy="8413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3"/>
            <p:cNvGrpSpPr/>
            <p:nvPr/>
          </p:nvGrpSpPr>
          <p:grpSpPr>
            <a:xfrm>
              <a:off x="4535640" y="835200"/>
              <a:ext cx="642600" cy="337320"/>
              <a:chOff x="4535640" y="835200"/>
              <a:chExt cx="642600" cy="337320"/>
            </a:xfrm>
          </p:grpSpPr>
          <p:sp>
            <p:nvSpPr>
              <p:cNvPr id="382" name="Oval 44"/>
              <p:cNvSpPr/>
              <p:nvPr/>
            </p:nvSpPr>
            <p:spPr>
              <a:xfrm>
                <a:off x="4556520" y="867240"/>
                <a:ext cx="582480" cy="2592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45"/>
              <p:cNvSpPr/>
              <p:nvPr/>
            </p:nvSpPr>
            <p:spPr>
              <a:xfrm>
                <a:off x="4535640" y="8352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M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4508640" y="1289160"/>
              <a:ext cx="587160" cy="337320"/>
              <a:chOff x="4508640" y="1289160"/>
              <a:chExt cx="587160" cy="337320"/>
            </a:xfrm>
          </p:grpSpPr>
          <p:sp>
            <p:nvSpPr>
              <p:cNvPr id="385" name="Oval 47"/>
              <p:cNvSpPr/>
              <p:nvPr/>
            </p:nvSpPr>
            <p:spPr>
              <a:xfrm>
                <a:off x="4508640" y="1321200"/>
                <a:ext cx="581400" cy="2606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8"/>
              <p:cNvSpPr/>
              <p:nvPr/>
            </p:nvSpPr>
            <p:spPr>
              <a:xfrm>
                <a:off x="4521960" y="128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e-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3962520" y="5083200"/>
              <a:ext cx="1657080" cy="987480"/>
              <a:chOff x="3962520" y="5083200"/>
              <a:chExt cx="1657080" cy="987480"/>
            </a:xfrm>
          </p:grpSpPr>
          <p:sp>
            <p:nvSpPr>
              <p:cNvPr id="388" name="AutoShape 50"/>
              <p:cNvSpPr/>
              <p:nvPr/>
            </p:nvSpPr>
            <p:spPr>
              <a:xfrm>
                <a:off x="3962520" y="5083200"/>
                <a:ext cx="1657080" cy="987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51"/>
              <p:cNvGrpSpPr/>
              <p:nvPr/>
            </p:nvGrpSpPr>
            <p:grpSpPr>
              <a:xfrm>
                <a:off x="4495680" y="5083200"/>
                <a:ext cx="609120" cy="342720"/>
                <a:chOff x="4495680" y="5083200"/>
                <a:chExt cx="609120" cy="342720"/>
              </a:xfrm>
            </p:grpSpPr>
            <p:sp>
              <p:nvSpPr>
                <p:cNvPr id="390" name="Oval 52"/>
                <p:cNvSpPr/>
                <p:nvPr/>
              </p:nvSpPr>
              <p:spPr>
                <a:xfrm>
                  <a:off x="4495680" y="5121360"/>
                  <a:ext cx="6091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53"/>
                <p:cNvSpPr/>
                <p:nvPr/>
              </p:nvSpPr>
              <p:spPr>
                <a:xfrm>
                  <a:off x="4497840" y="5083200"/>
                  <a:ext cx="60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54"/>
              <p:cNvGrpSpPr/>
              <p:nvPr/>
            </p:nvGrpSpPr>
            <p:grpSpPr>
              <a:xfrm>
                <a:off x="4453920" y="5616720"/>
                <a:ext cx="662400" cy="370800"/>
                <a:chOff x="4453920" y="5616720"/>
                <a:chExt cx="662400" cy="370800"/>
              </a:xfrm>
            </p:grpSpPr>
            <p:sp>
              <p:nvSpPr>
                <p:cNvPr id="393" name="Oval 55"/>
                <p:cNvSpPr/>
                <p:nvPr/>
              </p:nvSpPr>
              <p:spPr>
                <a:xfrm>
                  <a:off x="4484160" y="5664240"/>
                  <a:ext cx="6091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 Box 56"/>
                <p:cNvSpPr/>
                <p:nvPr/>
              </p:nvSpPr>
              <p:spPr>
                <a:xfrm>
                  <a:off x="4453920" y="5616720"/>
                  <a:ext cx="662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i="1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502000" y="5159520"/>
              <a:ext cx="1384200" cy="914400"/>
              <a:chOff x="2502000" y="5159520"/>
              <a:chExt cx="1384200" cy="914400"/>
            </a:xfrm>
          </p:grpSpPr>
          <p:sp>
            <p:nvSpPr>
              <p:cNvPr id="396" name="Text Box 61"/>
              <p:cNvSpPr/>
              <p:nvPr/>
            </p:nvSpPr>
            <p:spPr>
              <a:xfrm>
                <a:off x="2502000" y="5159520"/>
                <a:ext cx="835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ianu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zi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62"/>
              <p:cNvSpPr/>
              <p:nvPr/>
            </p:nvSpPr>
            <p:spPr>
              <a:xfrm>
                <a:off x="3429000" y="515952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>
                <a:off x="3657600" y="5616720"/>
                <a:ext cx="228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66"/>
            <p:cNvSpPr/>
            <p:nvPr/>
          </p:nvSpPr>
          <p:spPr>
            <a:xfrm>
              <a:off x="4323600" y="63360"/>
              <a:ext cx="93204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>
              <a:off x="4800600" y="546732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75"/>
            <p:cNvGrpSpPr/>
            <p:nvPr/>
          </p:nvGrpSpPr>
          <p:grpSpPr>
            <a:xfrm>
              <a:off x="4114800" y="2743200"/>
              <a:ext cx="1447920" cy="1555920"/>
              <a:chOff x="4114800" y="2743200"/>
              <a:chExt cx="1447920" cy="1555920"/>
            </a:xfrm>
          </p:grpSpPr>
          <p:sp>
            <p:nvSpPr>
              <p:cNvPr id="402" name="Line 5"/>
              <p:cNvSpPr/>
              <p:nvPr/>
            </p:nvSpPr>
            <p:spPr>
              <a:xfrm>
                <a:off x="4800600" y="3994200"/>
                <a:ext cx="0" cy="304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1"/>
              <p:cNvSpPr/>
              <p:nvPr/>
            </p:nvSpPr>
            <p:spPr>
              <a:xfrm>
                <a:off x="4114800" y="2743200"/>
                <a:ext cx="144792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73"/>
              <p:cNvGrpSpPr/>
              <p:nvPr/>
            </p:nvGrpSpPr>
            <p:grpSpPr>
              <a:xfrm>
                <a:off x="4514400" y="3205080"/>
                <a:ext cx="573840" cy="337320"/>
                <a:chOff x="4514400" y="3205080"/>
                <a:chExt cx="573840" cy="337320"/>
              </a:xfrm>
            </p:grpSpPr>
            <p:sp>
              <p:nvSpPr>
                <p:cNvPr id="405" name="Oval 33"/>
                <p:cNvSpPr/>
                <p:nvPr/>
              </p:nvSpPr>
              <p:spPr>
                <a:xfrm>
                  <a:off x="4549680" y="3262320"/>
                  <a:ext cx="527040" cy="247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34"/>
                <p:cNvSpPr/>
                <p:nvPr/>
              </p:nvSpPr>
              <p:spPr>
                <a:xfrm>
                  <a:off x="4514400" y="320508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Oval 36"/>
              <p:cNvSpPr/>
              <p:nvPr/>
            </p:nvSpPr>
            <p:spPr>
              <a:xfrm>
                <a:off x="4562640" y="2805120"/>
                <a:ext cx="527040" cy="247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7"/>
              <p:cNvSpPr/>
              <p:nvPr/>
            </p:nvSpPr>
            <p:spPr>
              <a:xfrm>
                <a:off x="4517280" y="2754360"/>
                <a:ext cx="60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Cit </a:t>
                </a:r>
                <a:r>
                  <a:rPr b="1" i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4503960" y="3701880"/>
                <a:ext cx="650160" cy="370800"/>
                <a:chOff x="4503960" y="3701880"/>
                <a:chExt cx="650160" cy="370800"/>
              </a:xfrm>
            </p:grpSpPr>
            <p:sp>
              <p:nvSpPr>
                <p:cNvPr id="410" name="Oval 39"/>
                <p:cNvSpPr/>
                <p:nvPr/>
              </p:nvSpPr>
              <p:spPr>
                <a:xfrm>
                  <a:off x="4566960" y="3759120"/>
                  <a:ext cx="525600" cy="2793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Text Box 40"/>
                <p:cNvSpPr/>
                <p:nvPr/>
              </p:nvSpPr>
              <p:spPr>
                <a:xfrm>
                  <a:off x="4503960" y="3701880"/>
                  <a:ext cx="6501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i="1" lang="es-ES_tradnl" sz="16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Line 68"/>
              <p:cNvSpPr/>
              <p:nvPr/>
            </p:nvSpPr>
            <p:spPr>
              <a:xfrm>
                <a:off x="4800600" y="3549600"/>
                <a:ext cx="0" cy="2001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9"/>
              <p:cNvSpPr/>
              <p:nvPr/>
            </p:nvSpPr>
            <p:spPr>
              <a:xfrm>
                <a:off x="4800600" y="3048120"/>
                <a:ext cx="0" cy="19980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70"/>
            <p:cNvSpPr/>
            <p:nvPr/>
          </p:nvSpPr>
          <p:spPr>
            <a:xfrm>
              <a:off x="4800600" y="114300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1"/>
            <p:cNvSpPr/>
            <p:nvPr/>
          </p:nvSpPr>
          <p:spPr>
            <a:xfrm>
              <a:off x="2813040" y="2209680"/>
              <a:ext cx="22860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2"/>
            <p:cNvSpPr/>
            <p:nvPr/>
          </p:nvSpPr>
          <p:spPr>
            <a:xfrm>
              <a:off x="4800600" y="49536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6"/>
          <p:cNvSpPr/>
          <p:nvPr/>
        </p:nvSpPr>
        <p:spPr>
          <a:xfrm>
            <a:off x="412200" y="1219320"/>
            <a:ext cx="87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75 Conector recto de flecha"/>
          <p:cNvCxnSpPr>
            <a:stCxn id="399" idx="2"/>
            <a:endCxn id="416" idx="0"/>
          </p:cNvCxnSpPr>
          <p:nvPr/>
        </p:nvCxnSpPr>
        <p:spPr>
          <a:xfrm>
            <a:off x="4788360" y="460440"/>
            <a:ext cx="11880" cy="3402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19" name="77 Conector recto de flecha"/>
          <p:cNvCxnSpPr/>
          <p:nvPr/>
        </p:nvCxnSpPr>
        <p:spPr>
          <a:xfrm flipH="1" flipV="1">
            <a:off x="3429000" y="3351960"/>
            <a:ext cx="76680" cy="2293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420" name="79 Conector recto de flecha"/>
          <p:cNvCxnSpPr/>
          <p:nvPr/>
        </p:nvCxnSpPr>
        <p:spPr>
          <a:xfrm>
            <a:off x="1219320" y="1752120"/>
            <a:ext cx="7624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6159600" cy="4690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179280" y="1238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ergía derivada del transporte de electrones se acopla a la formación de un gradiente de pr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lejo V (ATPasa) acopla el flujo energéticamente favorable de los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4876920" y="575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TP producido se usa para realizar Trabaj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80880" y="5683320"/>
            <a:ext cx="364932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DH = 3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asi 2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265480" y="319680"/>
            <a:ext cx="3987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plamiento quimiosm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28600" y="1049760"/>
            <a:ext cx="86868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hipotesis quimiosmótica, propuesta por Peter Mitchell en 1961, consistía de cuatro postulados. En términos de las funciones de la mitocondria era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04920" y="2337480"/>
            <a:ext cx="8534160" cy="420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- La cadena respiratoria mitocondrial es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ranslocadora de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La cadena bombea protones fuera de la matriz cuando se transportan electrones a lo largo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- El complejo ATP sintas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mbién transloca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través de la membrana interna. Debido a su actividad reversible puede usar la energía de la hidrólisis del ATP  para bombear protones a través de la membrana, pero si existe una gradiente electroquímica de protones suficientemente grande, los protones fluyen en dirección inversa a través del complejo y permiten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- La membrana mitocondrial interna es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ermeabl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en general a cationes y an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.- En la membrana mitocondrial interna existe un conjunto de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teínas transportad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ncargadas de la entrada y la salida de metabolitos y de ciertos iones org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00920" cy="5658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81080" y="380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grafia electronica de un cloropl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76320" y="1295280"/>
            <a:ext cx="6476760" cy="4641840"/>
            <a:chOff x="76320" y="1295280"/>
            <a:chExt cx="6476760" cy="4641840"/>
          </a:xfrm>
        </p:grpSpPr>
        <p:graphicFrame>
          <p:nvGraphicFramePr>
            <p:cNvPr id="431" name="Object 3"/>
            <p:cNvGraphicFramePr/>
            <p:nvPr/>
          </p:nvGraphicFramePr>
          <p:xfrm>
            <a:off x="76320" y="1323720"/>
            <a:ext cx="6476760" cy="426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323720"/>
                      <a:ext cx="6476760" cy="42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Rectangle 4"/>
            <p:cNvSpPr/>
            <p:nvPr/>
          </p:nvSpPr>
          <p:spPr>
            <a:xfrm>
              <a:off x="247680" y="1974600"/>
              <a:ext cx="532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304920" y="1898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228600" y="2417400"/>
              <a:ext cx="121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7"/>
            <p:cNvSpPr/>
            <p:nvPr/>
          </p:nvSpPr>
          <p:spPr>
            <a:xfrm>
              <a:off x="151560" y="235548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152280" y="4551120"/>
              <a:ext cx="137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189720" y="448596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3429000" y="1441080"/>
              <a:ext cx="53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3403440" y="12952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572000" y="1898280"/>
              <a:ext cx="1294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4678560" y="144108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76320" y="55558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2514600" y="479412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2385360" y="464148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3047760" y="5327280"/>
              <a:ext cx="16761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656440" y="5295600"/>
              <a:ext cx="18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 inter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3886200" y="487008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0"/>
            <p:cNvSpPr/>
            <p:nvPr/>
          </p:nvSpPr>
          <p:spPr>
            <a:xfrm>
              <a:off x="3604680" y="482256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4114800" y="4412880"/>
              <a:ext cx="9140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65120" y="426060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5841720" y="4565520"/>
              <a:ext cx="685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4"/>
            <p:cNvSpPr/>
            <p:nvPr/>
          </p:nvSpPr>
          <p:spPr>
            <a:xfrm>
              <a:off x="5328360" y="456552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ra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4267080" y="220320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4330440" y="258408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122360" y="201888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tr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8"/>
            <p:cNvSpPr/>
            <p:nvPr/>
          </p:nvSpPr>
          <p:spPr>
            <a:xfrm>
              <a:off x="4196880" y="24318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9"/>
          <p:cNvSpPr/>
          <p:nvPr/>
        </p:nvSpPr>
        <p:spPr>
          <a:xfrm>
            <a:off x="3278160" y="4572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6861240" y="1255680"/>
            <a:ext cx="20826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a 4 um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 a 10 um de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a 40 por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gure 2-36"/>
          <p:cNvPicPr/>
          <p:nvPr/>
        </p:nvPicPr>
        <p:blipFill>
          <a:blip r:embed="rId1"/>
          <a:stretch/>
        </p:blipFill>
        <p:spPr>
          <a:xfrm>
            <a:off x="2108160" y="380880"/>
            <a:ext cx="4924440" cy="6094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36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25320" y="52578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más sen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165960" y="190512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complej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N, ARN,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92640" y="3505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694584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men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5405400" y="548640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1371600" y="1523880"/>
            <a:ext cx="6476760" cy="4852440"/>
            <a:chOff x="1371600" y="1523880"/>
            <a:chExt cx="6476760" cy="4852440"/>
          </a:xfrm>
        </p:grpSpPr>
        <p:graphicFrame>
          <p:nvGraphicFramePr>
            <p:cNvPr id="461" name="Object 3"/>
            <p:cNvGraphicFramePr/>
            <p:nvPr/>
          </p:nvGraphicFramePr>
          <p:xfrm>
            <a:off x="1371600" y="1523880"/>
            <a:ext cx="6476760" cy="47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523880"/>
                      <a:ext cx="6476760" cy="47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Rectangle 4"/>
            <p:cNvSpPr/>
            <p:nvPr/>
          </p:nvSpPr>
          <p:spPr>
            <a:xfrm>
              <a:off x="1371600" y="5837400"/>
              <a:ext cx="647676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1698120" y="593136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5879880" y="592740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2112840" y="2308320"/>
              <a:ext cx="73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re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3673080" y="2126520"/>
              <a:ext cx="1649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3590640" y="2577960"/>
              <a:ext cx="1683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3591720" y="3027240"/>
              <a:ext cx="2111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er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3261960" y="3385080"/>
              <a:ext cx="69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atr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4818600" y="3385080"/>
              <a:ext cx="82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672720" y="3654720"/>
              <a:ext cx="1911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ra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4077720" y="4104000"/>
              <a:ext cx="619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5"/>
            <p:cNvSpPr/>
            <p:nvPr/>
          </p:nvSpPr>
          <p:spPr>
            <a:xfrm>
              <a:off x="3916440" y="4553280"/>
              <a:ext cx="1015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3264120" y="5004360"/>
              <a:ext cx="2107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del 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7"/>
            <p:cNvSpPr/>
            <p:nvPr/>
          </p:nvSpPr>
          <p:spPr>
            <a:xfrm>
              <a:off x="2768400" y="1587240"/>
              <a:ext cx="60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1643040" y="641520"/>
            <a:ext cx="5965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ción entre mitocondrias y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4"/>
          <p:cNvGrpSpPr/>
          <p:nvPr/>
        </p:nvGrpSpPr>
        <p:grpSpPr>
          <a:xfrm>
            <a:off x="1447920" y="304920"/>
            <a:ext cx="6400800" cy="6419520"/>
            <a:chOff x="1447920" y="304920"/>
            <a:chExt cx="6400800" cy="6419520"/>
          </a:xfrm>
        </p:grpSpPr>
        <p:sp>
          <p:nvSpPr>
            <p:cNvPr id="479" name="Line 5"/>
            <p:cNvSpPr/>
            <p:nvPr/>
          </p:nvSpPr>
          <p:spPr>
            <a:xfrm flipV="1">
              <a:off x="4876920" y="167652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5105520" y="3505680"/>
              <a:ext cx="68580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3733920" y="121932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8"/>
            <p:cNvGrpSpPr/>
            <p:nvPr/>
          </p:nvGrpSpPr>
          <p:grpSpPr>
            <a:xfrm>
              <a:off x="6277320" y="4391640"/>
              <a:ext cx="990360" cy="990720"/>
              <a:chOff x="6277320" y="4391640"/>
              <a:chExt cx="990360" cy="990720"/>
            </a:xfrm>
          </p:grpSpPr>
          <p:sp>
            <p:nvSpPr>
              <p:cNvPr id="483" name="Oval 9"/>
              <p:cNvSpPr/>
              <p:nvPr/>
            </p:nvSpPr>
            <p:spPr>
              <a:xfrm>
                <a:off x="6277320" y="4391640"/>
                <a:ext cx="99036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6296040" y="4410720"/>
                <a:ext cx="95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alv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"/>
            <p:cNvGrpSpPr/>
            <p:nvPr/>
          </p:nvGrpSpPr>
          <p:grpSpPr>
            <a:xfrm>
              <a:off x="4667400" y="2833560"/>
              <a:ext cx="572760" cy="1066680"/>
              <a:chOff x="4667400" y="2833560"/>
              <a:chExt cx="572760" cy="1066680"/>
            </a:xfrm>
          </p:grpSpPr>
          <p:sp>
            <p:nvSpPr>
              <p:cNvPr id="486" name="AutoShape 12"/>
              <p:cNvSpPr/>
              <p:nvPr/>
            </p:nvSpPr>
            <p:spPr>
              <a:xfrm rot="16200000">
                <a:off x="4400640" y="3099960"/>
                <a:ext cx="1066680" cy="533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4740840" y="313884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"/>
            <p:cNvGrpSpPr/>
            <p:nvPr/>
          </p:nvGrpSpPr>
          <p:grpSpPr>
            <a:xfrm>
              <a:off x="2505240" y="5487480"/>
              <a:ext cx="533160" cy="459720"/>
              <a:chOff x="2505240" y="5487480"/>
              <a:chExt cx="533160" cy="459720"/>
            </a:xfrm>
          </p:grpSpPr>
          <p:sp>
            <p:nvSpPr>
              <p:cNvPr id="489" name="AutoShape 15"/>
              <p:cNvSpPr/>
              <p:nvPr/>
            </p:nvSpPr>
            <p:spPr>
              <a:xfrm>
                <a:off x="2505240" y="548748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6"/>
              <p:cNvSpPr/>
              <p:nvPr/>
            </p:nvSpPr>
            <p:spPr>
              <a:xfrm>
                <a:off x="2522880" y="55065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7"/>
            <p:cNvGrpSpPr/>
            <p:nvPr/>
          </p:nvGrpSpPr>
          <p:grpSpPr>
            <a:xfrm>
              <a:off x="4804200" y="5563800"/>
              <a:ext cx="1215360" cy="457200"/>
              <a:chOff x="4804200" y="5563800"/>
              <a:chExt cx="1215360" cy="457200"/>
            </a:xfrm>
          </p:grpSpPr>
          <p:sp>
            <p:nvSpPr>
              <p:cNvPr id="492" name="AutoShape 18"/>
              <p:cNvSpPr/>
              <p:nvPr/>
            </p:nvSpPr>
            <p:spPr>
              <a:xfrm>
                <a:off x="4857840" y="5563800"/>
                <a:ext cx="11617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9"/>
              <p:cNvSpPr/>
              <p:nvPr/>
            </p:nvSpPr>
            <p:spPr>
              <a:xfrm>
                <a:off x="4804200" y="55638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zúc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20"/>
            <p:cNvSpPr/>
            <p:nvPr/>
          </p:nvSpPr>
          <p:spPr>
            <a:xfrm>
              <a:off x="3580920" y="63255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 rot="16200000">
              <a:off x="4019760" y="4820760"/>
              <a:ext cx="114480" cy="2666880"/>
            </a:xfrm>
            <a:custGeom>
              <a:avLst/>
              <a:gdLst>
                <a:gd name="textAreaLeft" fmla="*/ 33480 w 114480"/>
                <a:gd name="textAreaRight" fmla="*/ 114840 w 11448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2"/>
            <p:cNvGrpSpPr/>
            <p:nvPr/>
          </p:nvGrpSpPr>
          <p:grpSpPr>
            <a:xfrm>
              <a:off x="6782040" y="1905120"/>
              <a:ext cx="1066680" cy="2438280"/>
              <a:chOff x="6782040" y="1905120"/>
              <a:chExt cx="1066680" cy="2438280"/>
            </a:xfrm>
          </p:grpSpPr>
          <p:sp>
            <p:nvSpPr>
              <p:cNvPr id="497" name="Text Box 23"/>
              <p:cNvSpPr/>
              <p:nvPr/>
            </p:nvSpPr>
            <p:spPr>
              <a:xfrm>
                <a:off x="6782040" y="1905120"/>
                <a:ext cx="1066680" cy="368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NADP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4"/>
              <p:cNvSpPr/>
              <p:nvPr/>
            </p:nvSpPr>
            <p:spPr>
              <a:xfrm>
                <a:off x="6782040" y="2514600"/>
                <a:ext cx="0" cy="18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rc 25"/>
              <p:cNvSpPr/>
              <p:nvPr/>
            </p:nvSpPr>
            <p:spPr>
              <a:xfrm flipH="1">
                <a:off x="6782040" y="3505320"/>
                <a:ext cx="457200" cy="380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6"/>
              <p:cNvSpPr/>
              <p:nvPr/>
            </p:nvSpPr>
            <p:spPr>
              <a:xfrm>
                <a:off x="6940440" y="3200400"/>
                <a:ext cx="590760" cy="405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s-ES_tradnl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Arc 27"/>
            <p:cNvSpPr/>
            <p:nvPr/>
          </p:nvSpPr>
          <p:spPr>
            <a:xfrm>
              <a:off x="2381400" y="5115600"/>
              <a:ext cx="30492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8"/>
            <p:cNvSpPr/>
            <p:nvPr/>
          </p:nvSpPr>
          <p:spPr>
            <a:xfrm>
              <a:off x="3200760" y="304920"/>
              <a:ext cx="213300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29"/>
            <p:cNvGrpSpPr/>
            <p:nvPr/>
          </p:nvGrpSpPr>
          <p:grpSpPr>
            <a:xfrm>
              <a:off x="5677200" y="3124440"/>
              <a:ext cx="571320" cy="762120"/>
              <a:chOff x="5677200" y="3124440"/>
              <a:chExt cx="571320" cy="762120"/>
            </a:xfrm>
          </p:grpSpPr>
          <p:sp>
            <p:nvSpPr>
              <p:cNvPr id="504" name="AutoShape 30"/>
              <p:cNvSpPr/>
              <p:nvPr/>
            </p:nvSpPr>
            <p:spPr>
              <a:xfrm>
                <a:off x="5677200" y="3124440"/>
                <a:ext cx="57132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31"/>
              <p:cNvSpPr/>
              <p:nvPr/>
            </p:nvSpPr>
            <p:spPr>
              <a:xfrm>
                <a:off x="5812200" y="3361680"/>
                <a:ext cx="30060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2"/>
            <p:cNvGrpSpPr/>
            <p:nvPr/>
          </p:nvGrpSpPr>
          <p:grpSpPr>
            <a:xfrm>
              <a:off x="2590920" y="4077360"/>
              <a:ext cx="571680" cy="762120"/>
              <a:chOff x="2590920" y="4077360"/>
              <a:chExt cx="571680" cy="762120"/>
            </a:xfrm>
          </p:grpSpPr>
          <p:sp>
            <p:nvSpPr>
              <p:cNvPr id="507" name="AutoShape 33"/>
              <p:cNvSpPr/>
              <p:nvPr/>
            </p:nvSpPr>
            <p:spPr>
              <a:xfrm>
                <a:off x="2590920" y="4077360"/>
                <a:ext cx="57168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4"/>
              <p:cNvSpPr/>
              <p:nvPr/>
            </p:nvSpPr>
            <p:spPr>
              <a:xfrm>
                <a:off x="2725920" y="4314600"/>
                <a:ext cx="30096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5"/>
            <p:cNvGrpSpPr/>
            <p:nvPr/>
          </p:nvGrpSpPr>
          <p:grpSpPr>
            <a:xfrm>
              <a:off x="4953240" y="1676520"/>
              <a:ext cx="838080" cy="838080"/>
              <a:chOff x="4953240" y="1676520"/>
              <a:chExt cx="838080" cy="838080"/>
            </a:xfrm>
          </p:grpSpPr>
          <p:sp>
            <p:nvSpPr>
              <p:cNvPr id="510" name="AutoShape 36"/>
              <p:cNvSpPr/>
              <p:nvPr/>
            </p:nvSpPr>
            <p:spPr>
              <a:xfrm>
                <a:off x="4953240" y="167652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37"/>
              <p:cNvSpPr/>
              <p:nvPr/>
            </p:nvSpPr>
            <p:spPr>
              <a:xfrm>
                <a:off x="5070960" y="188928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38"/>
            <p:cNvGrpSpPr/>
            <p:nvPr/>
          </p:nvGrpSpPr>
          <p:grpSpPr>
            <a:xfrm>
              <a:off x="1447920" y="2895840"/>
              <a:ext cx="838080" cy="838080"/>
              <a:chOff x="1447920" y="2895840"/>
              <a:chExt cx="838080" cy="838080"/>
            </a:xfrm>
          </p:grpSpPr>
          <p:sp>
            <p:nvSpPr>
              <p:cNvPr id="513" name="AutoShape 39"/>
              <p:cNvSpPr/>
              <p:nvPr/>
            </p:nvSpPr>
            <p:spPr>
              <a:xfrm>
                <a:off x="1447920" y="289584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40"/>
              <p:cNvSpPr/>
              <p:nvPr/>
            </p:nvSpPr>
            <p:spPr>
              <a:xfrm>
                <a:off x="1565640" y="310860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1"/>
            <p:cNvGrpSpPr/>
            <p:nvPr/>
          </p:nvGrpSpPr>
          <p:grpSpPr>
            <a:xfrm>
              <a:off x="2705400" y="2589840"/>
              <a:ext cx="1949400" cy="718920"/>
              <a:chOff x="2705400" y="2589840"/>
              <a:chExt cx="1949400" cy="718920"/>
            </a:xfrm>
          </p:grpSpPr>
          <p:grpSp>
            <p:nvGrpSpPr>
              <p:cNvPr id="516" name="Group 42"/>
              <p:cNvGrpSpPr/>
              <p:nvPr/>
            </p:nvGrpSpPr>
            <p:grpSpPr>
              <a:xfrm>
                <a:off x="2705400" y="2800800"/>
                <a:ext cx="387360" cy="459720"/>
                <a:chOff x="2705400" y="2800800"/>
                <a:chExt cx="387360" cy="459720"/>
              </a:xfrm>
            </p:grpSpPr>
            <p:sp>
              <p:nvSpPr>
                <p:cNvPr id="517" name="Oval 43"/>
                <p:cNvSpPr/>
                <p:nvPr/>
              </p:nvSpPr>
              <p:spPr>
                <a:xfrm>
                  <a:off x="2762640" y="2946600"/>
                  <a:ext cx="27936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44"/>
                <p:cNvSpPr/>
                <p:nvPr/>
              </p:nvSpPr>
              <p:spPr>
                <a:xfrm>
                  <a:off x="2705400" y="2800800"/>
                  <a:ext cx="38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Arc 45"/>
              <p:cNvSpPr/>
              <p:nvPr/>
            </p:nvSpPr>
            <p:spPr>
              <a:xfrm flipH="1" rot="21555000">
                <a:off x="2895840" y="2590920"/>
                <a:ext cx="228600" cy="3045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6"/>
              <p:cNvSpPr/>
              <p:nvPr/>
            </p:nvSpPr>
            <p:spPr>
              <a:xfrm>
                <a:off x="3117960" y="2597400"/>
                <a:ext cx="88920" cy="320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7"/>
              <p:cNvSpPr/>
              <p:nvPr/>
            </p:nvSpPr>
            <p:spPr>
              <a:xfrm>
                <a:off x="3206880" y="2622960"/>
                <a:ext cx="144792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rc 48"/>
            <p:cNvSpPr/>
            <p:nvPr/>
          </p:nvSpPr>
          <p:spPr>
            <a:xfrm flipV="1">
              <a:off x="2467080" y="4876920"/>
              <a:ext cx="381240" cy="2286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49"/>
            <p:cNvSpPr/>
            <p:nvPr/>
          </p:nvSpPr>
          <p:spPr>
            <a:xfrm>
              <a:off x="1854000" y="4953600"/>
              <a:ext cx="6040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2876760" y="322920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51"/>
            <p:cNvSpPr/>
            <p:nvPr/>
          </p:nvSpPr>
          <p:spPr>
            <a:xfrm rot="19381800">
              <a:off x="2254320" y="341352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52"/>
            <p:cNvSpPr/>
            <p:nvPr/>
          </p:nvSpPr>
          <p:spPr>
            <a:xfrm rot="20536200">
              <a:off x="5486760" y="236268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3"/>
            <p:cNvGrpSpPr/>
            <p:nvPr/>
          </p:nvGrpSpPr>
          <p:grpSpPr>
            <a:xfrm>
              <a:off x="5761440" y="2210040"/>
              <a:ext cx="715320" cy="683640"/>
              <a:chOff x="5761440" y="2210040"/>
              <a:chExt cx="715320" cy="683640"/>
            </a:xfrm>
          </p:grpSpPr>
          <p:grpSp>
            <p:nvGrpSpPr>
              <p:cNvPr id="528" name="Group 54"/>
              <p:cNvGrpSpPr/>
              <p:nvPr/>
            </p:nvGrpSpPr>
            <p:grpSpPr>
              <a:xfrm>
                <a:off x="5761440" y="2433960"/>
                <a:ext cx="387000" cy="459720"/>
                <a:chOff x="5761440" y="2433960"/>
                <a:chExt cx="387000" cy="459720"/>
              </a:xfrm>
            </p:grpSpPr>
            <p:sp>
              <p:nvSpPr>
                <p:cNvPr id="529" name="Oval 55"/>
                <p:cNvSpPr/>
                <p:nvPr/>
              </p:nvSpPr>
              <p:spPr>
                <a:xfrm>
                  <a:off x="5818320" y="2579760"/>
                  <a:ext cx="27900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56"/>
                <p:cNvSpPr/>
                <p:nvPr/>
              </p:nvSpPr>
              <p:spPr>
                <a:xfrm>
                  <a:off x="5761440" y="2433960"/>
                  <a:ext cx="38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Arc 57"/>
              <p:cNvSpPr/>
              <p:nvPr/>
            </p:nvSpPr>
            <p:spPr>
              <a:xfrm flipH="1" rot="21555000">
                <a:off x="5950800" y="2224080"/>
                <a:ext cx="228240" cy="304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58"/>
              <p:cNvSpPr/>
              <p:nvPr/>
            </p:nvSpPr>
            <p:spPr>
              <a:xfrm>
                <a:off x="6172200" y="221004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59"/>
            <p:cNvSpPr/>
            <p:nvPr/>
          </p:nvSpPr>
          <p:spPr>
            <a:xfrm flipV="1">
              <a:off x="5943960" y="2847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0"/>
            <p:cNvSpPr/>
            <p:nvPr/>
          </p:nvSpPr>
          <p:spPr>
            <a:xfrm>
              <a:off x="5261760" y="396324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61"/>
            <p:cNvSpPr/>
            <p:nvPr/>
          </p:nvSpPr>
          <p:spPr>
            <a:xfrm>
              <a:off x="3134520" y="434268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62"/>
            <p:cNvSpPr/>
            <p:nvPr/>
          </p:nvSpPr>
          <p:spPr>
            <a:xfrm flipH="1">
              <a:off x="5486760" y="4953600"/>
              <a:ext cx="761760" cy="5335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60 CuadroTexto"/>
          <p:cNvSpPr/>
          <p:nvPr/>
        </p:nvSpPr>
        <p:spPr>
          <a:xfrm>
            <a:off x="7002720" y="1442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3 Conector recto de flecha"/>
          <p:cNvCxnSpPr/>
          <p:nvPr/>
        </p:nvCxnSpPr>
        <p:spPr>
          <a:xfrm>
            <a:off x="6172200" y="5867280"/>
            <a:ext cx="5342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64 CuadroTexto"/>
          <p:cNvSpPr/>
          <p:nvPr/>
        </p:nvSpPr>
        <p:spPr>
          <a:xfrm>
            <a:off x="6787440" y="5867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umo 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5 CuadroTexto"/>
          <p:cNvSpPr/>
          <p:nvPr/>
        </p:nvSpPr>
        <p:spPr>
          <a:xfrm>
            <a:off x="6872760" y="3809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jación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4"/>
          <p:cNvGraphicFramePr/>
          <p:nvPr/>
        </p:nvGraphicFramePr>
        <p:xfrm>
          <a:off x="3124080" y="152280"/>
          <a:ext cx="2551320" cy="64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280"/>
                    <a:ext cx="25513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2 CuadroTexto"/>
          <p:cNvSpPr/>
          <p:nvPr/>
        </p:nvSpPr>
        <p:spPr>
          <a:xfrm>
            <a:off x="5874120" y="2819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lorof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1147680" y="1143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380880" y="220968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itación electrónica a niveles de mayor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c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ferencia electrónica a un receptor de electr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lorofila capta electrones d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12 Conector recto de flecha"/>
          <p:cNvCxnSpPr/>
          <p:nvPr/>
        </p:nvCxnSpPr>
        <p:spPr>
          <a:xfrm flipH="1">
            <a:off x="1445400" y="1523520"/>
            <a:ext cx="2520" cy="68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949320" y="685800"/>
            <a:ext cx="7203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3"/>
          <p:cNvGrpSpPr/>
          <p:nvPr/>
        </p:nvGrpSpPr>
        <p:grpSpPr>
          <a:xfrm>
            <a:off x="932040" y="838080"/>
            <a:ext cx="6476760" cy="5181480"/>
            <a:chOff x="932040" y="838080"/>
            <a:chExt cx="6476760" cy="5181480"/>
          </a:xfrm>
        </p:grpSpPr>
        <p:graphicFrame>
          <p:nvGraphicFramePr>
            <p:cNvPr id="549" name="Object 4"/>
            <p:cNvGraphicFramePr/>
            <p:nvPr/>
          </p:nvGraphicFramePr>
          <p:xfrm>
            <a:off x="932040" y="838080"/>
            <a:ext cx="6476760" cy="518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2040" y="838080"/>
                      <a:ext cx="64767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1" name="Group 5"/>
            <p:cNvGrpSpPr/>
            <p:nvPr/>
          </p:nvGrpSpPr>
          <p:grpSpPr>
            <a:xfrm>
              <a:off x="3827160" y="990360"/>
              <a:ext cx="761760" cy="761760"/>
              <a:chOff x="3827160" y="990360"/>
              <a:chExt cx="761760" cy="761760"/>
            </a:xfrm>
          </p:grpSpPr>
          <p:sp>
            <p:nvSpPr>
              <p:cNvPr id="552" name="Oval 6"/>
              <p:cNvSpPr/>
              <p:nvPr/>
            </p:nvSpPr>
            <p:spPr>
              <a:xfrm>
                <a:off x="3827160" y="990360"/>
                <a:ext cx="761760" cy="76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"/>
              <p:cNvSpPr/>
              <p:nvPr/>
            </p:nvSpPr>
            <p:spPr>
              <a:xfrm>
                <a:off x="3951360" y="109332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Rectangle 8"/>
            <p:cNvSpPr/>
            <p:nvPr/>
          </p:nvSpPr>
          <p:spPr>
            <a:xfrm>
              <a:off x="5960880" y="1142640"/>
              <a:ext cx="13712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9"/>
            <p:cNvSpPr/>
            <p:nvPr/>
          </p:nvSpPr>
          <p:spPr>
            <a:xfrm>
              <a:off x="5596920" y="1066680"/>
              <a:ext cx="177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en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 ant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1147680" y="3323880"/>
              <a:ext cx="1623600" cy="1112760"/>
              <a:chOff x="1147680" y="3323880"/>
              <a:chExt cx="1623600" cy="1112760"/>
            </a:xfrm>
          </p:grpSpPr>
          <p:sp>
            <p:nvSpPr>
              <p:cNvPr id="557" name="Rectangle 11"/>
              <p:cNvSpPr/>
              <p:nvPr/>
            </p:nvSpPr>
            <p:spPr>
              <a:xfrm>
                <a:off x="1147680" y="3327120"/>
                <a:ext cx="1623600" cy="110952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2"/>
              <p:cNvSpPr/>
              <p:nvPr/>
            </p:nvSpPr>
            <p:spPr>
              <a:xfrm>
                <a:off x="1210320" y="3323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ra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A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baj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"/>
            <p:cNvGrpSpPr/>
            <p:nvPr/>
          </p:nvGrpSpPr>
          <p:grpSpPr>
            <a:xfrm>
              <a:off x="5724360" y="3242880"/>
              <a:ext cx="1623600" cy="1157400"/>
              <a:chOff x="5724360" y="3242880"/>
              <a:chExt cx="1623600" cy="1157400"/>
            </a:xfrm>
          </p:grpSpPr>
          <p:sp>
            <p:nvSpPr>
              <p:cNvPr id="560" name="Rectangle 14"/>
              <p:cNvSpPr/>
              <p:nvPr/>
            </p:nvSpPr>
            <p:spPr>
              <a:xfrm>
                <a:off x="5724360" y="3290400"/>
                <a:ext cx="1623600" cy="110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5"/>
              <p:cNvSpPr/>
              <p:nvPr/>
            </p:nvSpPr>
            <p:spPr>
              <a:xfrm>
                <a:off x="5788440" y="3242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li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B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alt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6"/>
            <p:cNvSpPr/>
            <p:nvPr/>
          </p:nvSpPr>
          <p:spPr>
            <a:xfrm>
              <a:off x="5351400" y="4724280"/>
              <a:ext cx="106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7"/>
            <p:cNvSpPr/>
            <p:nvPr/>
          </p:nvSpPr>
          <p:spPr>
            <a:xfrm>
              <a:off x="4978080" y="463212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8"/>
            <p:cNvSpPr/>
            <p:nvPr/>
          </p:nvSpPr>
          <p:spPr>
            <a:xfrm>
              <a:off x="4665600" y="5190840"/>
              <a:ext cx="15235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4707720" y="5013000"/>
              <a:ext cx="198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teína-pig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"/>
            <p:cNvSpPr/>
            <p:nvPr/>
          </p:nvSpPr>
          <p:spPr>
            <a:xfrm>
              <a:off x="1998360" y="5181480"/>
              <a:ext cx="2209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003680" y="5028840"/>
              <a:ext cx="318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 especial” de 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del 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20 CuadroTexto"/>
          <p:cNvSpPr/>
          <p:nvPr/>
        </p:nvSpPr>
        <p:spPr>
          <a:xfrm>
            <a:off x="1175040" y="4572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quema de un Fotosistema (Centro de reacción+Complejo Ant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1600200" y="380880"/>
            <a:ext cx="6248160" cy="5673600"/>
            <a:chOff x="1600200" y="380880"/>
            <a:chExt cx="6248160" cy="5673600"/>
          </a:xfrm>
        </p:grpSpPr>
        <p:graphicFrame>
          <p:nvGraphicFramePr>
            <p:cNvPr id="570" name="Object 3"/>
            <p:cNvGraphicFramePr/>
            <p:nvPr/>
          </p:nvGraphicFramePr>
          <p:xfrm>
            <a:off x="1600200" y="380880"/>
            <a:ext cx="6248160" cy="567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880"/>
                      <a:ext cx="624816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2" name="Group 4"/>
            <p:cNvGrpSpPr/>
            <p:nvPr/>
          </p:nvGrpSpPr>
          <p:grpSpPr>
            <a:xfrm>
              <a:off x="2661120" y="1528560"/>
              <a:ext cx="1332720" cy="326880"/>
              <a:chOff x="2661120" y="1528560"/>
              <a:chExt cx="1332720" cy="326880"/>
            </a:xfrm>
          </p:grpSpPr>
          <p:sp>
            <p:nvSpPr>
              <p:cNvPr id="573" name="Rectangle 5"/>
              <p:cNvSpPr/>
              <p:nvPr/>
            </p:nvSpPr>
            <p:spPr>
              <a:xfrm>
                <a:off x="2698560" y="1588680"/>
                <a:ext cx="1295280" cy="2667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6"/>
              <p:cNvSpPr/>
              <p:nvPr/>
            </p:nvSpPr>
            <p:spPr>
              <a:xfrm>
                <a:off x="2661120" y="1528560"/>
                <a:ext cx="116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7"/>
            <p:cNvGrpSpPr/>
            <p:nvPr/>
          </p:nvGrpSpPr>
          <p:grpSpPr>
            <a:xfrm>
              <a:off x="5398200" y="566280"/>
              <a:ext cx="1304280" cy="326880"/>
              <a:chOff x="5398200" y="566280"/>
              <a:chExt cx="1304280" cy="326880"/>
            </a:xfrm>
          </p:grpSpPr>
          <p:sp>
            <p:nvSpPr>
              <p:cNvPr id="576" name="Rectangle 8"/>
              <p:cNvSpPr/>
              <p:nvPr/>
            </p:nvSpPr>
            <p:spPr>
              <a:xfrm>
                <a:off x="5406840" y="626760"/>
                <a:ext cx="1295640" cy="2664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9"/>
              <p:cNvSpPr/>
              <p:nvPr/>
            </p:nvSpPr>
            <p:spPr>
              <a:xfrm>
                <a:off x="5398200" y="56628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10"/>
            <p:cNvSpPr/>
            <p:nvPr/>
          </p:nvSpPr>
          <p:spPr>
            <a:xfrm>
              <a:off x="3828960" y="4636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"/>
            <p:cNvSpPr/>
            <p:nvPr/>
          </p:nvSpPr>
          <p:spPr>
            <a:xfrm>
              <a:off x="6534000" y="3465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3831120" y="46810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6558480" y="34938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 flipV="1">
              <a:off x="3740040" y="3556440"/>
              <a:ext cx="990720" cy="22860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6508800" y="1055520"/>
              <a:ext cx="83808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3828960" y="1893600"/>
              <a:ext cx="1752480" cy="3049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65840" y="1131480"/>
              <a:ext cx="138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se forma u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grad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lectroquí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que genera ATP</a:t>
              </a:r>
              <a:r>
                <a:rPr b="0" lang="es-ES_tradnl" sz="12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>
              <a:off x="4610160" y="2198520"/>
              <a:ext cx="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438440" y="2636640"/>
              <a:ext cx="381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4416840" y="2592000"/>
              <a:ext cx="39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419880" y="10555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erredox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6495840" y="3112920"/>
              <a:ext cx="124776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6953040" y="1461960"/>
              <a:ext cx="68580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4591080" y="3951000"/>
              <a:ext cx="1295280" cy="5335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6964200" y="13982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4667400" y="387468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cia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3653640" y="345564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quin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600360" y="5119560"/>
              <a:ext cx="129528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759120" y="5081400"/>
              <a:ext cx="175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zima que “rompe” 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3981240" y="5716440"/>
              <a:ext cx="1600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3677400" y="5703480"/>
              <a:ext cx="21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Arial"/>
                </a:rPr>
                <a:t>direccion del flujo de electr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695240" y="2198520"/>
              <a:ext cx="30492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 rot="16200000">
              <a:off x="1125360" y="29444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tencial redox,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4734000" y="3141360"/>
              <a:ext cx="5331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4752360" y="3080880"/>
              <a:ext cx="447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6" descr=""/>
          <p:cNvPicPr/>
          <p:nvPr/>
        </p:nvPicPr>
        <p:blipFill>
          <a:blip r:embed="rId1"/>
          <a:stretch/>
        </p:blipFill>
        <p:spPr>
          <a:xfrm>
            <a:off x="457200" y="669960"/>
            <a:ext cx="8153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1604880" y="57240"/>
            <a:ext cx="5253120" cy="6781680"/>
            <a:chOff x="1604880" y="57240"/>
            <a:chExt cx="5253120" cy="6781680"/>
          </a:xfrm>
        </p:grpSpPr>
        <p:graphicFrame>
          <p:nvGraphicFramePr>
            <p:cNvPr id="606" name="Object 3"/>
            <p:cNvGraphicFramePr/>
            <p:nvPr/>
          </p:nvGraphicFramePr>
          <p:xfrm>
            <a:off x="1604880" y="57240"/>
            <a:ext cx="5253120" cy="678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4880" y="57240"/>
                      <a:ext cx="5253120" cy="67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Rectangle 4"/>
            <p:cNvSpPr/>
            <p:nvPr/>
          </p:nvSpPr>
          <p:spPr>
            <a:xfrm>
              <a:off x="2138400" y="43812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2293920" y="43812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>
              <a:off x="3481560" y="819000"/>
              <a:ext cx="1600200" cy="30492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3666240" y="74304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"/>
            <p:cNvSpPr/>
            <p:nvPr/>
          </p:nvSpPr>
          <p:spPr>
            <a:xfrm>
              <a:off x="1900440" y="157176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1938240" y="156204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5977080" y="156204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1"/>
            <p:cNvSpPr/>
            <p:nvPr/>
          </p:nvSpPr>
          <p:spPr>
            <a:xfrm>
              <a:off x="6126120" y="156528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2"/>
            <p:cNvSpPr/>
            <p:nvPr/>
          </p:nvSpPr>
          <p:spPr>
            <a:xfrm>
              <a:off x="1909800" y="347652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1909800" y="3479760"/>
              <a:ext cx="660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3357720" y="1276200"/>
              <a:ext cx="1904760" cy="1067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5"/>
            <p:cNvSpPr/>
            <p:nvPr/>
          </p:nvSpPr>
          <p:spPr>
            <a:xfrm>
              <a:off x="3584160" y="1200240"/>
              <a:ext cx="1369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 electr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tosint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3395880" y="2628720"/>
              <a:ext cx="761760" cy="38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7"/>
            <p:cNvSpPr/>
            <p:nvPr/>
          </p:nvSpPr>
          <p:spPr>
            <a:xfrm>
              <a:off x="4415040" y="2628720"/>
              <a:ext cx="923760" cy="38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8"/>
            <p:cNvSpPr/>
            <p:nvPr/>
          </p:nvSpPr>
          <p:spPr>
            <a:xfrm>
              <a:off x="3433680" y="261000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4329000" y="26193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4125960" y="256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"/>
            <p:cNvSpPr/>
            <p:nvPr/>
          </p:nvSpPr>
          <p:spPr>
            <a:xfrm>
              <a:off x="3433680" y="3429000"/>
              <a:ext cx="1752840" cy="609480"/>
            </a:xfrm>
            <a:prstGeom prst="rect">
              <a:avLst/>
            </a:prstGeom>
            <a:solidFill>
              <a:srgbClr val="e9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268800" y="3343320"/>
              <a:ext cx="2108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jación de 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3"/>
            <p:cNvSpPr/>
            <p:nvPr/>
          </p:nvSpPr>
          <p:spPr>
            <a:xfrm>
              <a:off x="3433680" y="4476600"/>
              <a:ext cx="1600200" cy="60984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3357720" y="4476600"/>
              <a:ext cx="1752480" cy="2057400"/>
            </a:xfrm>
            <a:prstGeom prst="ellipse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5"/>
            <p:cNvSpPr/>
            <p:nvPr/>
          </p:nvSpPr>
          <p:spPr>
            <a:xfrm>
              <a:off x="3281400" y="4338720"/>
              <a:ext cx="2108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gliceraldehí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3-fosf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precursor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zucare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ácid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gras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26"/>
          <p:cNvGrpSpPr/>
          <p:nvPr/>
        </p:nvGrpSpPr>
        <p:grpSpPr>
          <a:xfrm>
            <a:off x="617400" y="309600"/>
            <a:ext cx="8145720" cy="5403960"/>
            <a:chOff x="617400" y="309600"/>
            <a:chExt cx="8145720" cy="5403960"/>
          </a:xfrm>
        </p:grpSpPr>
        <p:pic>
          <p:nvPicPr>
            <p:cNvPr id="631" name="Picture 124" descr=""/>
            <p:cNvPicPr/>
            <p:nvPr/>
          </p:nvPicPr>
          <p:blipFill>
            <a:blip r:embed="rId1"/>
            <a:stretch/>
          </p:blipFill>
          <p:spPr>
            <a:xfrm>
              <a:off x="617400" y="1752480"/>
              <a:ext cx="8145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125"/>
            <p:cNvSpPr/>
            <p:nvPr/>
          </p:nvSpPr>
          <p:spPr>
            <a:xfrm>
              <a:off x="1372680" y="309600"/>
              <a:ext cx="658152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cción catalizada por la ribulosa-1,5-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bi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rboxilasa oxigenasa (Rubis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4"/>
          <p:cNvGraphicFramePr/>
          <p:nvPr/>
        </p:nvGraphicFramePr>
        <p:xfrm>
          <a:off x="1217520" y="228600"/>
          <a:ext cx="655488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28600"/>
                    <a:ext cx="655488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gure 2-55"/>
          <p:cNvPicPr/>
          <p:nvPr/>
        </p:nvPicPr>
        <p:blipFill>
          <a:blip r:embed="rId1"/>
          <a:stretch/>
        </p:blipFill>
        <p:spPr>
          <a:xfrm>
            <a:off x="304920" y="673200"/>
            <a:ext cx="8531280" cy="552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5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2743200" y="518148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41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igure 2-41"/>
          <p:cNvPicPr/>
          <p:nvPr/>
        </p:nvPicPr>
        <p:blipFill>
          <a:blip r:embed="rId1"/>
          <a:stretch/>
        </p:blipFill>
        <p:spPr>
          <a:xfrm>
            <a:off x="303120" y="1560600"/>
            <a:ext cx="8535960" cy="373680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05520" y="524844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  que permite Trabajo Biológ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íntesis de macromoléculas,  trabajo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CuadroTexto"/>
          <p:cNvSpPr/>
          <p:nvPr/>
        </p:nvSpPr>
        <p:spPr>
          <a:xfrm>
            <a:off x="990720" y="304920"/>
            <a:ext cx="92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tosíntesis y Respiración como Procesos Compleme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010120" cy="4268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457200"/>
            <a:ext cx="25905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391160" cy="68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83818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685800" y="533520"/>
            <a:ext cx="804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uptura de los enlaces fosfoanhídrido libera energía (reacción con un valor de energía libre negativo)                    TRABAJ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4 Conector recto de flecha"/>
          <p:cNvCxnSpPr/>
          <p:nvPr/>
        </p:nvCxnSpPr>
        <p:spPr>
          <a:xfrm>
            <a:off x="3657240" y="160020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5" descr="figure 2-57"/>
          <p:cNvPicPr/>
          <p:nvPr/>
        </p:nvPicPr>
        <p:blipFill>
          <a:blip r:embed="rId1"/>
          <a:stretch/>
        </p:blipFill>
        <p:spPr>
          <a:xfrm>
            <a:off x="1322280" y="1949400"/>
            <a:ext cx="6450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2-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able 2-05"/>
          <p:cNvPicPr/>
          <p:nvPr/>
        </p:nvPicPr>
        <p:blipFill>
          <a:blip r:embed="rId1"/>
          <a:stretch/>
        </p:blipFill>
        <p:spPr>
          <a:xfrm>
            <a:off x="303120" y="2057400"/>
            <a:ext cx="8535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07:33Z</dcterms:created>
  <dc:creator>Eduardo Kessi</dc:creator>
  <dc:description/>
  <dc:language>en-US</dc:language>
  <cp:lastModifiedBy>PARIS</cp:lastModifiedBy>
  <dcterms:modified xsi:type="dcterms:W3CDTF">2010-04-12T01:16:20Z</dcterms:modified>
  <cp:revision>87</cp:revision>
  <dc:subject/>
  <dc:title>Slide 1</dc:title>
</cp:coreProperties>
</file>