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gif" ContentType="image/gif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45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41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35.jpeg" ContentType="image/jpeg"/>
  <Override PartName="/ppt/media/image46.png" ContentType="image/png"/>
  <Override PartName="/ppt/media/image19.jpeg" ContentType="image/jpeg"/>
  <Override PartName="/ppt/media/image47.gif" ContentType="image/gif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A4D-F060-4D57-A0F5-0581E851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C07-B51B-48CC-A853-C906DD44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67C-6EA1-4714-B475-32B2D3DE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723-DEB6-4953-9E5A-5D649B34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D41-1364-4B51-89A9-FBA26991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BCF-52D1-40AE-9B6E-D8A88F1D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58C-36AD-41C8-90F6-2AF08DE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C6F-D91B-443B-B3FC-4CB3752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B96-C12B-4F87-9254-A5405DD0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CBB-58CA-4F1A-9626-7617C3A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A65-6880-4271-8817-9F01766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2C9-398B-478C-BC8C-27DA74B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9789-9429-4D83-970E-908A4B182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4200" y="192240"/>
            <a:ext cx="7093080" cy="703440"/>
          </a:xfrm>
          <a:prstGeom prst="rect">
            <a:avLst/>
          </a:prstGeom>
          <a:solidFill>
            <a:srgbClr val="ff99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ucleótidos y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5000" y="1206360"/>
            <a:ext cx="4413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2286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polimerización de los nucleótidos forma ácidos nucle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0384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lace fosfodi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29760" cy="4076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19240" y="5295960"/>
            <a:ext cx="7124760" cy="15620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20773" r="-618" b="845"/>
          <a:stretch/>
        </p:blipFill>
        <p:spPr>
          <a:xfrm>
            <a:off x="3282840" y="555480"/>
            <a:ext cx="2332080" cy="538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16440" y="2163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33880" y="237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36920" y="5100480"/>
            <a:ext cx="593640" cy="5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59000" y="3895560"/>
            <a:ext cx="641520" cy="37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1960" y="3487680"/>
            <a:ext cx="265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ntido de la Cadena de Polinucleó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3833"/>
          <a:stretch/>
        </p:blipFill>
        <p:spPr>
          <a:xfrm>
            <a:off x="0" y="1270080"/>
            <a:ext cx="9144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96920" y="469800"/>
            <a:ext cx="6423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organelos celulares hay D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9507" t="15815" r="18857" b="0"/>
          <a:stretch/>
        </p:blipFill>
        <p:spPr>
          <a:xfrm>
            <a:off x="736560" y="1728720"/>
            <a:ext cx="7238880" cy="438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2084400"/>
            <a:ext cx="1554120" cy="1539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2600" y="3205080"/>
            <a:ext cx="2363760" cy="1540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4071960"/>
            <a:ext cx="2363760" cy="185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dnaspin"/>
          <p:cNvPicPr/>
          <p:nvPr/>
        </p:nvPicPr>
        <p:blipFill>
          <a:blip r:embed="rId1"/>
          <a:stretch/>
        </p:blipFill>
        <p:spPr>
          <a:xfrm>
            <a:off x="762120" y="2590920"/>
            <a:ext cx="223992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2 Rectángulo" descr=""/>
          <p:cNvPicPr/>
          <p:nvPr/>
        </p:nvPicPr>
        <p:blipFill>
          <a:blip r:embed="rId2"/>
          <a:stretch/>
        </p:blipFill>
        <p:spPr>
          <a:xfrm>
            <a:off x="2998800" y="2309760"/>
            <a:ext cx="65167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8360" y="2227320"/>
            <a:ext cx="5730840" cy="4064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434880" y="351000"/>
            <a:ext cx="79390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20702"/>
                </a:solidFill>
                <a:latin typeface="Garamond"/>
                <a:ea typeface="Arial"/>
              </a:rPr>
              <a:t>El estudio de su estructura se puede hacer a varios niveles, apareciendo estructuras primaria, secundaria y niveles de empaquetamiento superi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598840"/>
            <a:ext cx="21621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20702"/>
                </a:solidFill>
                <a:latin typeface="Times New Roman"/>
                <a:ea typeface="Arial"/>
              </a:rPr>
              <a:t>Estructura 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057400" y="433440"/>
            <a:ext cx="502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953, año culmi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8080" y="1000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J. Watson y F. Crick resuelven la estructura tridimensional del DNA (Nature 171: 737-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wycrick"/>
          <p:cNvPicPr/>
          <p:nvPr/>
        </p:nvPicPr>
        <p:blipFill>
          <a:blip r:embed="rId1"/>
          <a:stretch/>
        </p:blipFill>
        <p:spPr>
          <a:xfrm>
            <a:off x="268200" y="2317680"/>
            <a:ext cx="8647200" cy="3942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93" name="AutoShape 5"/>
          <p:cNvSpPr/>
          <p:nvPr/>
        </p:nvSpPr>
        <p:spPr>
          <a:xfrm>
            <a:off x="4195800" y="2932200"/>
            <a:ext cx="2819520" cy="1371600"/>
          </a:xfrm>
          <a:prstGeom prst="wedgeRoundRectCallout">
            <a:avLst>
              <a:gd name="adj1" fmla="val 82263"/>
              <a:gd name="adj2" fmla="val 422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atson y yo h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ncontrado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ecreto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120" y="-7920"/>
            <a:ext cx="75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Estructura secundaria: modelo de Watson y C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5 Rectángulo"/>
          <p:cNvSpPr/>
          <p:nvPr/>
        </p:nvSpPr>
        <p:spPr>
          <a:xfrm>
            <a:off x="504720" y="488880"/>
            <a:ext cx="8386920" cy="602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waycr"/>
          <p:cNvPicPr/>
          <p:nvPr/>
        </p:nvPicPr>
        <p:blipFill>
          <a:blip r:embed="rId1"/>
          <a:stretch/>
        </p:blipFill>
        <p:spPr>
          <a:xfrm>
            <a:off x="762120" y="2743200"/>
            <a:ext cx="2466720" cy="208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watcrick"/>
          <p:cNvPicPr/>
          <p:nvPr/>
        </p:nvPicPr>
        <p:blipFill>
          <a:blip r:embed="rId2"/>
          <a:stretch/>
        </p:blipFill>
        <p:spPr>
          <a:xfrm>
            <a:off x="3352680" y="2666880"/>
            <a:ext cx="2895840" cy="238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NA-EJE"/>
          <p:cNvPicPr/>
          <p:nvPr/>
        </p:nvPicPr>
        <p:blipFill>
          <a:blip r:embed="rId3"/>
          <a:stretch/>
        </p:blipFill>
        <p:spPr>
          <a:xfrm>
            <a:off x="6400800" y="2286000"/>
            <a:ext cx="2260440" cy="32767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5"/>
          <p:cNvGrpSpPr/>
          <p:nvPr/>
        </p:nvGrpSpPr>
        <p:grpSpPr>
          <a:xfrm>
            <a:off x="914400" y="685800"/>
            <a:ext cx="8000640" cy="448810920"/>
            <a:chOff x="914400" y="685800"/>
            <a:chExt cx="8000640" cy="448810920"/>
          </a:xfrm>
        </p:grpSpPr>
        <p:grpSp>
          <p:nvGrpSpPr>
            <p:cNvPr id="100" name="Group 23"/>
            <p:cNvGrpSpPr/>
            <p:nvPr/>
          </p:nvGrpSpPr>
          <p:grpSpPr>
            <a:xfrm>
              <a:off x="921600" y="689040"/>
              <a:ext cx="7985160" cy="448807680"/>
              <a:chOff x="921600" y="689040"/>
              <a:chExt cx="7985160" cy="448807680"/>
            </a:xfrm>
          </p:grpSpPr>
          <p:grpSp>
            <p:nvGrpSpPr>
              <p:cNvPr id="101" name="Group 12"/>
              <p:cNvGrpSpPr/>
              <p:nvPr/>
            </p:nvGrpSpPr>
            <p:grpSpPr>
              <a:xfrm>
                <a:off x="921600" y="689040"/>
                <a:ext cx="2340720" cy="906840"/>
                <a:chOff x="921600" y="689040"/>
                <a:chExt cx="2340720" cy="906840"/>
              </a:xfrm>
            </p:grpSpPr>
            <p:sp>
              <p:nvSpPr>
                <p:cNvPr id="102" name="Rectangle 2"/>
                <p:cNvSpPr/>
                <p:nvPr/>
              </p:nvSpPr>
              <p:spPr>
                <a:xfrm>
                  <a:off x="921600" y="689040"/>
                  <a:ext cx="2340720" cy="90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Watson y Cric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1"/>
                <p:cNvSpPr/>
                <p:nvPr/>
              </p:nvSpPr>
              <p:spPr>
                <a:xfrm>
                  <a:off x="921600" y="689040"/>
                  <a:ext cx="2340720" cy="90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4"/>
              <p:cNvGrpSpPr/>
              <p:nvPr/>
            </p:nvGrpSpPr>
            <p:grpSpPr>
              <a:xfrm>
                <a:off x="3262680" y="689040"/>
                <a:ext cx="2851200" cy="906840"/>
                <a:chOff x="3262680" y="689040"/>
                <a:chExt cx="2851200" cy="906840"/>
              </a:xfrm>
            </p:grpSpPr>
            <p:sp>
              <p:nvSpPr>
                <p:cNvPr id="105" name="Rectangle 3"/>
                <p:cNvSpPr/>
                <p:nvPr/>
              </p:nvSpPr>
              <p:spPr>
                <a:xfrm>
                  <a:off x="3262680" y="689040"/>
                  <a:ext cx="2851200" cy="90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Construyendo el mode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3262680" y="689040"/>
                  <a:ext cx="2851200" cy="90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6"/>
              <p:cNvGrpSpPr/>
              <p:nvPr/>
            </p:nvGrpSpPr>
            <p:grpSpPr>
              <a:xfrm>
                <a:off x="6114600" y="689040"/>
                <a:ext cx="2792160" cy="906840"/>
                <a:chOff x="6114600" y="689040"/>
                <a:chExt cx="2792160" cy="906840"/>
              </a:xfrm>
            </p:grpSpPr>
            <p:sp>
              <p:nvSpPr>
                <p:cNvPr id="108" name="Rectangle 4"/>
                <p:cNvSpPr/>
                <p:nvPr/>
              </p:nvSpPr>
              <p:spPr>
                <a:xfrm>
                  <a:off x="6114600" y="689040"/>
                  <a:ext cx="2792160" cy="90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Modelo finaliz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5"/>
                <p:cNvSpPr/>
                <p:nvPr/>
              </p:nvSpPr>
              <p:spPr>
                <a:xfrm>
                  <a:off x="6114600" y="689040"/>
                  <a:ext cx="2792160" cy="90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8"/>
              <p:cNvGrpSpPr/>
              <p:nvPr/>
            </p:nvGrpSpPr>
            <p:grpSpPr>
              <a:xfrm>
                <a:off x="921600" y="1595880"/>
                <a:ext cx="2340720" cy="447900840"/>
                <a:chOff x="921600" y="1595880"/>
                <a:chExt cx="2340720" cy="447900840"/>
              </a:xfrm>
            </p:grpSpPr>
            <p:sp>
              <p:nvSpPr>
                <p:cNvPr id="111" name="Rectangle 6"/>
                <p:cNvSpPr/>
                <p:nvPr/>
              </p:nvSpPr>
              <p:spPr>
                <a:xfrm>
                  <a:off x="921600" y="1595880"/>
                  <a:ext cx="2340720" cy="44790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7"/>
                <p:cNvSpPr/>
                <p:nvPr/>
              </p:nvSpPr>
              <p:spPr>
                <a:xfrm>
                  <a:off x="921600" y="1595880"/>
                  <a:ext cx="23407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20"/>
              <p:cNvGrpSpPr/>
              <p:nvPr/>
            </p:nvGrpSpPr>
            <p:grpSpPr>
              <a:xfrm>
                <a:off x="3262680" y="1595880"/>
                <a:ext cx="2851200" cy="447900840"/>
                <a:chOff x="3262680" y="1595880"/>
                <a:chExt cx="2851200" cy="447900840"/>
              </a:xfrm>
            </p:grpSpPr>
            <p:sp>
              <p:nvSpPr>
                <p:cNvPr id="114" name="Rectangle 8"/>
                <p:cNvSpPr/>
                <p:nvPr/>
              </p:nvSpPr>
              <p:spPr>
                <a:xfrm>
                  <a:off x="3262680" y="1595880"/>
                  <a:ext cx="2851200" cy="44790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9"/>
                <p:cNvSpPr/>
                <p:nvPr/>
              </p:nvSpPr>
              <p:spPr>
                <a:xfrm>
                  <a:off x="3262680" y="1595880"/>
                  <a:ext cx="28512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22"/>
              <p:cNvGrpSpPr/>
              <p:nvPr/>
            </p:nvGrpSpPr>
            <p:grpSpPr>
              <a:xfrm>
                <a:off x="6114600" y="1595880"/>
                <a:ext cx="2792160" cy="447900840"/>
                <a:chOff x="6114600" y="1595880"/>
                <a:chExt cx="2792160" cy="447900840"/>
              </a:xfrm>
            </p:grpSpPr>
            <p:sp>
              <p:nvSpPr>
                <p:cNvPr id="117" name="Rectangle 10"/>
                <p:cNvSpPr/>
                <p:nvPr/>
              </p:nvSpPr>
              <p:spPr>
                <a:xfrm>
                  <a:off x="6114600" y="1595880"/>
                  <a:ext cx="2792160" cy="44790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1"/>
                <p:cNvSpPr/>
                <p:nvPr/>
              </p:nvSpPr>
              <p:spPr>
                <a:xfrm>
                  <a:off x="6114600" y="1595880"/>
                  <a:ext cx="27921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Rectangle 24"/>
            <p:cNvSpPr/>
            <p:nvPr/>
          </p:nvSpPr>
          <p:spPr>
            <a:xfrm>
              <a:off x="914400" y="685800"/>
              <a:ext cx="800064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1985400" y="201600"/>
            <a:ext cx="51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  <a:ea typeface="Arial"/>
              </a:rPr>
              <a:t>Estructura del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2 Imagen" descr="doble hélice.bmp"/>
          <p:cNvPicPr/>
          <p:nvPr/>
        </p:nvPicPr>
        <p:blipFill>
          <a:blip r:embed="rId1"/>
          <a:stretch/>
        </p:blipFill>
        <p:spPr>
          <a:xfrm>
            <a:off x="1717560" y="1057320"/>
            <a:ext cx="5816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Adn%20l.jpg"/>
          <p:cNvPicPr/>
          <p:nvPr/>
        </p:nvPicPr>
        <p:blipFill>
          <a:blip r:embed="rId1"/>
          <a:stretch/>
        </p:blipFill>
        <p:spPr>
          <a:xfrm>
            <a:off x="2309760" y="915840"/>
            <a:ext cx="4799160" cy="5586480"/>
          </a:xfrm>
          <a:prstGeom prst="rect">
            <a:avLst/>
          </a:prstGeom>
          <a:ln w="0">
            <a:noFill/>
          </a:ln>
        </p:spPr>
      </p:pic>
      <p:sp>
        <p:nvSpPr>
          <p:cNvPr id="123" name="1 Rectángulo"/>
          <p:cNvSpPr/>
          <p:nvPr/>
        </p:nvSpPr>
        <p:spPr>
          <a:xfrm>
            <a:off x="3074760" y="15408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  <a:ea typeface="Arial"/>
              </a:rPr>
              <a:t>Doble hél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5 Grupo"/>
          <p:cNvGrpSpPr/>
          <p:nvPr/>
        </p:nvGrpSpPr>
        <p:grpSpPr>
          <a:xfrm>
            <a:off x="514440" y="138240"/>
            <a:ext cx="8099280" cy="6530760"/>
            <a:chOff x="514440" y="138240"/>
            <a:chExt cx="8099280" cy="6530760"/>
          </a:xfrm>
        </p:grpSpPr>
        <p:sp>
          <p:nvSpPr>
            <p:cNvPr id="44" name="1 Rectángulo"/>
            <p:cNvSpPr/>
            <p:nvPr/>
          </p:nvSpPr>
          <p:spPr>
            <a:xfrm>
              <a:off x="514440" y="138240"/>
              <a:ext cx="809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El dogma central de la biologí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2 Imagen" descr="Central%20Dogma.jpg"/>
            <p:cNvPicPr/>
            <p:nvPr/>
          </p:nvPicPr>
          <p:blipFill>
            <a:blip r:embed="rId1"/>
            <a:stretch/>
          </p:blipFill>
          <p:spPr>
            <a:xfrm>
              <a:off x="2081160" y="1006920"/>
              <a:ext cx="4957200" cy="56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3 Rectángulo"/>
            <p:cNvSpPr/>
            <p:nvPr/>
          </p:nvSpPr>
          <p:spPr>
            <a:xfrm>
              <a:off x="3279600" y="2166840"/>
              <a:ext cx="258120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nscrip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4 Rectángulo"/>
            <p:cNvSpPr/>
            <p:nvPr/>
          </p:nvSpPr>
          <p:spPr>
            <a:xfrm>
              <a:off x="3274920" y="4889520"/>
              <a:ext cx="27781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8800" y="0"/>
            <a:ext cx="860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Reglas de Charg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782360" y="4265640"/>
            <a:ext cx="54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 Proporción de purinas = Proporción de pirimid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+ G = C +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A =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G =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hargaff"/>
          <p:cNvPicPr/>
          <p:nvPr/>
        </p:nvPicPr>
        <p:blipFill>
          <a:blip r:embed="rId1"/>
          <a:stretch/>
        </p:blipFill>
        <p:spPr>
          <a:xfrm>
            <a:off x="714240" y="685800"/>
            <a:ext cx="7696440" cy="3263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emparejbases"/>
          <p:cNvPicPr/>
          <p:nvPr/>
        </p:nvPicPr>
        <p:blipFill>
          <a:blip r:embed="rId1"/>
          <a:stretch/>
        </p:blipFill>
        <p:spPr>
          <a:xfrm>
            <a:off x="1676520" y="809640"/>
            <a:ext cx="5744880" cy="2314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pic>
        <p:nvPicPr>
          <p:cNvPr id="128" name="Picture 3" descr="emparejbases2"/>
          <p:cNvPicPr/>
          <p:nvPr/>
        </p:nvPicPr>
        <p:blipFill>
          <a:blip r:embed="rId2"/>
          <a:stretch/>
        </p:blipFill>
        <p:spPr>
          <a:xfrm>
            <a:off x="3267000" y="3456000"/>
            <a:ext cx="5438880" cy="2673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129" name="Text Box 4"/>
          <p:cNvSpPr/>
          <p:nvPr/>
        </p:nvSpPr>
        <p:spPr>
          <a:xfrm>
            <a:off x="2806920" y="22860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gnificado reglas de Charg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90720" y="6172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mplementariedad de las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527040" y="3429000"/>
            <a:ext cx="2540160" cy="2700360"/>
            <a:chOff x="527040" y="3429000"/>
            <a:chExt cx="2540160" cy="2700360"/>
          </a:xfrm>
        </p:grpSpPr>
        <p:pic>
          <p:nvPicPr>
            <p:cNvPr id="132" name="Picture 7" descr="A=G"/>
            <p:cNvPicPr/>
            <p:nvPr/>
          </p:nvPicPr>
          <p:blipFill>
            <a:blip r:embed="rId3"/>
            <a:stretch/>
          </p:blipFill>
          <p:spPr>
            <a:xfrm>
              <a:off x="527040" y="3429000"/>
              <a:ext cx="2540160" cy="2700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133" name="Line 8"/>
            <p:cNvSpPr/>
            <p:nvPr/>
          </p:nvSpPr>
          <p:spPr>
            <a:xfrm>
              <a:off x="1575000" y="5300640"/>
              <a:ext cx="380880" cy="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4 Grupo"/>
          <p:cNvGrpSpPr/>
          <p:nvPr/>
        </p:nvGrpSpPr>
        <p:grpSpPr>
          <a:xfrm>
            <a:off x="520560" y="189000"/>
            <a:ext cx="8134560" cy="6464160"/>
            <a:chOff x="520560" y="189000"/>
            <a:chExt cx="8134560" cy="6464160"/>
          </a:xfrm>
        </p:grpSpPr>
        <p:sp>
          <p:nvSpPr>
            <p:cNvPr id="135" name="3 Rectángulo"/>
            <p:cNvSpPr/>
            <p:nvPr/>
          </p:nvSpPr>
          <p:spPr>
            <a:xfrm>
              <a:off x="520560" y="189000"/>
              <a:ext cx="8134560" cy="6464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7" descr="dnaspin"/>
            <p:cNvPicPr/>
            <p:nvPr/>
          </p:nvPicPr>
          <p:blipFill>
            <a:blip r:embed="rId1"/>
            <a:stretch/>
          </p:blipFill>
          <p:spPr>
            <a:xfrm>
              <a:off x="570960" y="2507040"/>
              <a:ext cx="2160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1-1-1-h"/>
            <p:cNvPicPr/>
            <p:nvPr/>
          </p:nvPicPr>
          <p:blipFill>
            <a:blip r:embed="rId2"/>
            <a:stretch/>
          </p:blipFill>
          <p:spPr>
            <a:xfrm>
              <a:off x="2481840" y="211680"/>
              <a:ext cx="6173280" cy="620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f1-1-1-g"/>
          <p:cNvPicPr/>
          <p:nvPr/>
        </p:nvPicPr>
        <p:blipFill>
          <a:blip r:embed="rId1"/>
          <a:srcRect l="0" t="0" r="50881" b="0"/>
          <a:stretch/>
        </p:blipFill>
        <p:spPr>
          <a:xfrm>
            <a:off x="1371600" y="228600"/>
            <a:ext cx="6210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1-1-1-g"/>
          <p:cNvPicPr/>
          <p:nvPr/>
        </p:nvPicPr>
        <p:blipFill>
          <a:blip r:embed="rId1"/>
          <a:srcRect l="47373" t="0" r="0" b="0"/>
          <a:stretch/>
        </p:blipFill>
        <p:spPr>
          <a:xfrm>
            <a:off x="1523880" y="380880"/>
            <a:ext cx="6477120" cy="62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Imagen" descr="hebras DNA.bmp"/>
          <p:cNvPicPr/>
          <p:nvPr/>
        </p:nvPicPr>
        <p:blipFill>
          <a:blip r:embed="rId1"/>
          <a:stretch/>
        </p:blipFill>
        <p:spPr>
          <a:xfrm>
            <a:off x="1066680" y="2112840"/>
            <a:ext cx="7050240" cy="2963880"/>
          </a:xfrm>
          <a:prstGeom prst="rect">
            <a:avLst/>
          </a:prstGeom>
          <a:ln w="0">
            <a:noFill/>
          </a:ln>
        </p:spPr>
      </p:pic>
      <p:sp>
        <p:nvSpPr>
          <p:cNvPr id="141" name="2 Rectángulo"/>
          <p:cNvSpPr/>
          <p:nvPr/>
        </p:nvSpPr>
        <p:spPr>
          <a:xfrm>
            <a:off x="936720" y="378000"/>
            <a:ext cx="71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Las hebras de DNA tienen sentido anti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82640" y="657360"/>
            <a:ext cx="3934080" cy="6200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8680" y="4016520"/>
            <a:ext cx="2590560" cy="2168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94360" y="243000"/>
            <a:ext cx="2024280" cy="322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760" y="18900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20702"/>
                </a:solidFill>
                <a:latin typeface="Times New Roman"/>
                <a:ea typeface="Arial"/>
              </a:rPr>
              <a:t>Cromosomas y empaquetamiento del DNA en 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4320" y="1338120"/>
            <a:ext cx="2039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600200" cy="127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1571760"/>
            <a:ext cx="751536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2301840" y="380880"/>
            <a:ext cx="4343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20702"/>
                </a:solidFill>
                <a:latin typeface="Times New Roman"/>
                <a:ea typeface="Arial"/>
              </a:rPr>
              <a:t>Micrografía electrónica de un nucle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5 Grupo"/>
          <p:cNvGrpSpPr/>
          <p:nvPr/>
        </p:nvGrpSpPr>
        <p:grpSpPr>
          <a:xfrm>
            <a:off x="538200" y="138240"/>
            <a:ext cx="8099280" cy="6530760"/>
            <a:chOff x="538200" y="138240"/>
            <a:chExt cx="8099280" cy="6530760"/>
          </a:xfrm>
        </p:grpSpPr>
        <p:sp>
          <p:nvSpPr>
            <p:cNvPr id="151" name="1 Rectángulo"/>
            <p:cNvSpPr/>
            <p:nvPr/>
          </p:nvSpPr>
          <p:spPr>
            <a:xfrm>
              <a:off x="538200" y="138240"/>
              <a:ext cx="809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El dogma central de la biologí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2 Imagen" descr="Central%20Dogma.jpg"/>
            <p:cNvPicPr/>
            <p:nvPr/>
          </p:nvPicPr>
          <p:blipFill>
            <a:blip r:embed="rId1"/>
            <a:stretch/>
          </p:blipFill>
          <p:spPr>
            <a:xfrm>
              <a:off x="2081160" y="1006920"/>
              <a:ext cx="4957200" cy="56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3 Rectángulo"/>
            <p:cNvSpPr/>
            <p:nvPr/>
          </p:nvSpPr>
          <p:spPr>
            <a:xfrm>
              <a:off x="3279600" y="2166840"/>
              <a:ext cx="258120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nscrip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4 Rectángulo"/>
            <p:cNvSpPr/>
            <p:nvPr/>
          </p:nvSpPr>
          <p:spPr>
            <a:xfrm>
              <a:off x="3274200" y="4889160"/>
              <a:ext cx="277956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Tra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 Rectángulo" descr=""/>
          <p:cNvPicPr/>
          <p:nvPr/>
        </p:nvPicPr>
        <p:blipFill>
          <a:blip r:embed="rId1"/>
          <a:stretch/>
        </p:blipFill>
        <p:spPr>
          <a:xfrm>
            <a:off x="-146160" y="2382840"/>
            <a:ext cx="6418440" cy="31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0" descr="refold-rna(anim)"/>
          <p:cNvPicPr/>
          <p:nvPr/>
        </p:nvPicPr>
        <p:blipFill>
          <a:blip r:embed="rId2"/>
          <a:stretch/>
        </p:blipFill>
        <p:spPr>
          <a:xfrm>
            <a:off x="5929200" y="3143160"/>
            <a:ext cx="3071880" cy="30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52840" y="235080"/>
            <a:ext cx="4826160" cy="657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5880" y="363600"/>
            <a:ext cx="187524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 Rectángulo"/>
          <p:cNvSpPr/>
          <p:nvPr/>
        </p:nvSpPr>
        <p:spPr>
          <a:xfrm>
            <a:off x="504720" y="379440"/>
            <a:ext cx="8229600" cy="1373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aramond"/>
                <a:ea typeface="Arial"/>
              </a:rPr>
              <a:t>El azúcar presente en el RNA es la ribosa. Esto indica que en la posición 2' del anillo del azúcar hay un grupo hidroxilo (O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7836" b="0"/>
          <a:stretch/>
        </p:blipFill>
        <p:spPr>
          <a:xfrm>
            <a:off x="1828800" y="2070000"/>
            <a:ext cx="4510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 Imagen" descr="DNA a RNA.bmp"/>
          <p:cNvPicPr/>
          <p:nvPr/>
        </p:nvPicPr>
        <p:blipFill>
          <a:blip r:embed="rId1"/>
          <a:stretch/>
        </p:blipFill>
        <p:spPr>
          <a:xfrm>
            <a:off x="1101600" y="1812960"/>
            <a:ext cx="6935760" cy="4162320"/>
          </a:xfrm>
          <a:prstGeom prst="rect">
            <a:avLst/>
          </a:prstGeom>
          <a:ln w="0">
            <a:noFill/>
          </a:ln>
        </p:spPr>
      </p:pic>
      <p:sp>
        <p:nvSpPr>
          <p:cNvPr id="160" name="2 Rectángulo"/>
          <p:cNvSpPr/>
          <p:nvPr/>
        </p:nvSpPr>
        <p:spPr>
          <a:xfrm>
            <a:off x="3118680" y="40644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DNA al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1 Rectángulo"/>
          <p:cNvSpPr/>
          <p:nvPr/>
        </p:nvSpPr>
        <p:spPr>
          <a:xfrm>
            <a:off x="2323440" y="201600"/>
            <a:ext cx="39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aramond"/>
                <a:ea typeface="Arial"/>
              </a:rPr>
              <a:t>Tipos de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2 Rectángulo"/>
          <p:cNvSpPr/>
          <p:nvPr/>
        </p:nvSpPr>
        <p:spPr>
          <a:xfrm>
            <a:off x="393840" y="1362240"/>
            <a:ext cx="834048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RNA mensajero (mRNA): sintetizado a partir del DNA durante el proceso de transcripción. Este ARN pasa al citoplasma y sirve de pauta para la síntesis de proteínas (traduc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RNA ribosomal (rRNA): constituyente de los ribosomas, orgánulos intracelulares implicados en la síntesis de proteínas. Su función es leer los RNAm para formar la proteína correspond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Arial"/>
              </a:rPr>
              <a:t>RNA de transferencia (tRNA): en un extremo se une específicamente a determinados aminoácidos, en el otro posee el anticodón que se aparea con el codón del RN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06840" y="0"/>
            <a:ext cx="428616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 Rectángulo" descr=""/>
          <p:cNvPicPr/>
          <p:nvPr/>
        </p:nvPicPr>
        <p:blipFill>
          <a:blip r:embed="rId1"/>
          <a:stretch/>
        </p:blipFill>
        <p:spPr>
          <a:xfrm>
            <a:off x="-36360" y="2170080"/>
            <a:ext cx="89424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409680" y="152280"/>
            <a:ext cx="85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y el RN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diferencian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zúcar del RNA es ribosa, y el del DNA es una desoxirrib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NA contiene la base nitrogenada URACILO, mientras que el DNA presenta TIM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guración espacial del DNA es la de una doble hélice, mientras que el RNA es un polinucleótido lineal que ocasionalmente puede presentar apareamientos intracaten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47920" y="1295280"/>
          <a:ext cx="7010280" cy="435924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Pent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Bases nitrogen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Estructu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D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808080"/>
                          </a:solidFill>
                          <a:latin typeface="Comic Sans MS"/>
                          <a:ea typeface="Arial"/>
                        </a:rPr>
                        <a:t>R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80808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67" name="Group 104"/>
          <p:cNvGrpSpPr/>
          <p:nvPr/>
        </p:nvGrpSpPr>
        <p:grpSpPr>
          <a:xfrm>
            <a:off x="762120" y="380880"/>
            <a:ext cx="7924320" cy="609480"/>
            <a:chOff x="762120" y="380880"/>
            <a:chExt cx="7924320" cy="609480"/>
          </a:xfrm>
        </p:grpSpPr>
        <p:sp>
          <p:nvSpPr>
            <p:cNvPr id="168" name="Rectangle 83"/>
            <p:cNvSpPr/>
            <p:nvPr/>
          </p:nvSpPr>
          <p:spPr>
            <a:xfrm>
              <a:off x="762120" y="380880"/>
              <a:ext cx="7924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Palatino Linotype"/>
                  <a:ea typeface="Arial"/>
                </a:rPr>
                <a:t>DIFERENCIAS ESTRUCTURALES ENT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Palatino Linotype"/>
                  <a:ea typeface="Arial"/>
                </a:rPr>
                <a:t>EL DNA Y EL 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3"/>
            <p:cNvSpPr/>
            <p:nvPr/>
          </p:nvSpPr>
          <p:spPr>
            <a:xfrm>
              <a:off x="762120" y="380880"/>
              <a:ext cx="7924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96"/>
          <p:cNvGrpSpPr/>
          <p:nvPr/>
        </p:nvGrpSpPr>
        <p:grpSpPr>
          <a:xfrm>
            <a:off x="3357720" y="2057400"/>
            <a:ext cx="3249360" cy="3311640"/>
            <a:chOff x="3357720" y="2057400"/>
            <a:chExt cx="3249360" cy="3311640"/>
          </a:xfrm>
        </p:grpSpPr>
        <p:pic>
          <p:nvPicPr>
            <p:cNvPr id="171" name="Picture 102" descr="timina"/>
            <p:cNvPicPr/>
            <p:nvPr/>
          </p:nvPicPr>
          <p:blipFill>
            <a:blip r:embed="rId1"/>
            <a:stretch/>
          </p:blipFill>
          <p:spPr>
            <a:xfrm>
              <a:off x="4962600" y="2057400"/>
              <a:ext cx="16444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00" descr="pentosadna"/>
            <p:cNvPicPr/>
            <p:nvPr/>
          </p:nvPicPr>
          <p:blipFill>
            <a:blip r:embed="rId2"/>
            <a:stretch/>
          </p:blipFill>
          <p:spPr>
            <a:xfrm>
              <a:off x="3357720" y="2143080"/>
              <a:ext cx="134748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69" descr="uracilo"/>
            <p:cNvPicPr/>
            <p:nvPr/>
          </p:nvPicPr>
          <p:blipFill>
            <a:blip r:embed="rId3"/>
            <a:stretch/>
          </p:blipFill>
          <p:spPr>
            <a:xfrm>
              <a:off x="5214960" y="4071960"/>
              <a:ext cx="12859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67" descr="pentosarna"/>
            <p:cNvPicPr/>
            <p:nvPr/>
          </p:nvPicPr>
          <p:blipFill>
            <a:blip r:embed="rId4">
              <a:lum bright="-20000"/>
            </a:blip>
            <a:stretch/>
          </p:blipFill>
          <p:spPr>
            <a:xfrm>
              <a:off x="3357720" y="4071960"/>
              <a:ext cx="1347480" cy="113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Picture 190" descr="refold-rna(anim)"/>
          <p:cNvPicPr/>
          <p:nvPr/>
        </p:nvPicPr>
        <p:blipFill>
          <a:blip r:embed="rId5"/>
          <a:stretch/>
        </p:blipFill>
        <p:spPr>
          <a:xfrm>
            <a:off x="6858000" y="41911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1" descr="dnaspin"/>
          <p:cNvPicPr/>
          <p:nvPr/>
        </p:nvPicPr>
        <p:blipFill>
          <a:blip r:embed="rId6"/>
          <a:stretch/>
        </p:blipFill>
        <p:spPr>
          <a:xfrm>
            <a:off x="6858000" y="2000160"/>
            <a:ext cx="1349280" cy="2019240"/>
          </a:xfrm>
          <a:prstGeom prst="rect">
            <a:avLst/>
          </a:prstGeom>
          <a:ln w="0">
            <a:noFill/>
          </a:ln>
        </p:spPr>
      </p:pic>
      <p:sp>
        <p:nvSpPr>
          <p:cNvPr id="177" name="35 CuadroTexto"/>
          <p:cNvSpPr/>
          <p:nvPr/>
        </p:nvSpPr>
        <p:spPr>
          <a:xfrm>
            <a:off x="3200040" y="35002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Arial"/>
              </a:rPr>
              <a:t>Desoxirrib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36 CuadroTexto"/>
          <p:cNvSpPr/>
          <p:nvPr/>
        </p:nvSpPr>
        <p:spPr>
          <a:xfrm>
            <a:off x="5267160" y="35002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Garamond"/>
                <a:ea typeface="Arial"/>
              </a:rPr>
              <a:t>Ti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37 CuadroTexto"/>
          <p:cNvSpPr/>
          <p:nvPr/>
        </p:nvSpPr>
        <p:spPr>
          <a:xfrm>
            <a:off x="3537360" y="521496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Arial"/>
              </a:rPr>
              <a:t>Rib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8 CuadroTexto"/>
          <p:cNvSpPr/>
          <p:nvPr/>
        </p:nvSpPr>
        <p:spPr>
          <a:xfrm>
            <a:off x="5291640" y="5214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Garamond"/>
                <a:ea typeface="Arial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28" descr="ch8f2"/>
          <p:cNvPicPr/>
          <p:nvPr/>
        </p:nvPicPr>
        <p:blipFill>
          <a:blip r:embed="rId1"/>
          <a:stretch/>
        </p:blipFill>
        <p:spPr>
          <a:xfrm>
            <a:off x="4197240" y="276120"/>
            <a:ext cx="3483000" cy="6193080"/>
          </a:xfrm>
          <a:prstGeom prst="rect">
            <a:avLst/>
          </a:prstGeom>
          <a:ln w="0">
            <a:noFill/>
          </a:ln>
        </p:spPr>
      </p:pic>
      <p:sp>
        <p:nvSpPr>
          <p:cNvPr id="182" name="2 Rectángulo"/>
          <p:cNvSpPr/>
          <p:nvPr/>
        </p:nvSpPr>
        <p:spPr>
          <a:xfrm>
            <a:off x="-105840" y="870120"/>
            <a:ext cx="41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  <a:ea typeface="Arial"/>
              </a:rPr>
              <a:t>¿Dónde ocurr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9720" y="1089000"/>
            <a:ext cx="845208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Son moléculas que captan o desprenden energía al transformarse unas en otras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í, el ATP desprende energía cuando se hidroliza, transformándose en ADP y fosfato inorgánico (Pi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l contrario, el ADP almacena energía cuando reacciona con el fosfato inorgánico y se transforma en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95680" y="217440"/>
            <a:ext cx="239544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ucleó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01680" y="3087720"/>
            <a:ext cx="63500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73000" y="46044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ibosa y desoxirrib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031840"/>
            <a:ext cx="73785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0"/>
            <a:ext cx="7620120" cy="825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Y FUNCIÓN DE LOS ÁCIDOS NUCLE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228760" cy="3362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114280" cy="281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95480" y="1905120"/>
            <a:ext cx="2732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694040" cy="6858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Rectángulo"/>
          <p:cNvSpPr/>
          <p:nvPr/>
        </p:nvSpPr>
        <p:spPr>
          <a:xfrm>
            <a:off x="216000" y="1035000"/>
            <a:ext cx="8663040" cy="452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adnb"/>
          <p:cNvPicPr/>
          <p:nvPr/>
        </p:nvPicPr>
        <p:blipFill>
          <a:blip r:embed="rId1"/>
          <a:srcRect l="2079" t="6135" r="5206" b="47380"/>
          <a:stretch/>
        </p:blipFill>
        <p:spPr>
          <a:xfrm>
            <a:off x="449280" y="1371600"/>
            <a:ext cx="8534520" cy="3352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668400" y="50292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Garamond"/>
                <a:ea typeface="Arial"/>
              </a:rPr>
              <a:t>Puri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312840" y="817560"/>
            <a:ext cx="8542080" cy="55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47600" y="1353960"/>
            <a:ext cx="8659800" cy="3751560"/>
            <a:chOff x="147600" y="1353960"/>
            <a:chExt cx="8659800" cy="3751560"/>
          </a:xfrm>
        </p:grpSpPr>
        <p:pic>
          <p:nvPicPr>
            <p:cNvPr id="65" name="Picture 2" descr="adnb"/>
            <p:cNvPicPr/>
            <p:nvPr/>
          </p:nvPicPr>
          <p:blipFill>
            <a:blip r:embed="rId1"/>
            <a:srcRect l="2079" t="51575" r="5206" b="6400"/>
            <a:stretch/>
          </p:blipFill>
          <p:spPr>
            <a:xfrm>
              <a:off x="147600" y="2057400"/>
              <a:ext cx="86598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3"/>
            <p:cNvSpPr/>
            <p:nvPr/>
          </p:nvSpPr>
          <p:spPr>
            <a:xfrm>
              <a:off x="7280640" y="136692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RN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"/>
            <p:cNvSpPr/>
            <p:nvPr/>
          </p:nvSpPr>
          <p:spPr>
            <a:xfrm>
              <a:off x="3804120" y="1353960"/>
              <a:ext cx="12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DN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3"/>
          <p:cNvSpPr/>
          <p:nvPr/>
        </p:nvSpPr>
        <p:spPr>
          <a:xfrm>
            <a:off x="3230640" y="55054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Garamond"/>
                <a:ea typeface="Arial"/>
              </a:rPr>
              <a:t>Pirimidi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3:34:09Z</dcterms:created>
  <dc:creator>Direccion de Informatica</dc:creator>
  <dc:description/>
  <dc:language>en-US</dc:language>
  <cp:lastModifiedBy>PARIS</cp:lastModifiedBy>
  <dcterms:modified xsi:type="dcterms:W3CDTF">2010-03-28T00:11:42Z</dcterms:modified>
  <cp:revision>62</cp:revision>
  <dc:subject/>
  <dc:title>Sin título de diapositiva</dc:title>
</cp:coreProperties>
</file>