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EF8-49E9-4805-B5D1-37142C90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46B-E4C4-483D-AC75-D63169FB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C2E-0041-4E2E-8088-ED607428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97A9-4075-488C-8151-8B7DDB77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B873-F1CC-4C79-B7B7-946DB8F7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F597-CC12-4827-B1CD-9BCBEF67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069C-E884-4120-BDA4-B79EB7A3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D686-43D1-46BF-BE86-0D2008B4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2E9A-0276-4D0B-BD52-92CAC22A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DAA7-7597-4C82-B3D8-316C1E1C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FAE2-93C4-4E65-93DB-DDFC2C8E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7F8-3C62-489E-A89A-AB7B953C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1AC6-0F50-4B12-847E-F17206BE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481C-386D-43D5-8FC1-EB992C59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8310-8470-49F7-BDC5-11A75974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C7B9-59E7-4680-BBB4-00545375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CA41-0745-4982-A523-D2988804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CF6-7942-475F-9CB3-8662D904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B77-D5D7-4951-A9F3-C41133A8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58D-6463-49A2-BBF8-908E90D7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4FD-B1BF-4D86-8962-6578D890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CA2-D71F-4F62-9E07-498085B5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D85-C9AA-4060-A3E1-0C05B036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509-7BBE-4EE4-B887-A20522C1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FEFC-28E9-43D9-A5D9-0E748289296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18DC-6E77-45AD-914A-3C2DD3867BD5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ERSONAL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vin, L. (1998) Estudio científico de la personalidad. En L. Pervin,  La ciencia de la personalidad. Madrid: McGraw H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sicopatolog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stornos del Estado de Áni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pres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ania y Trastorno Bipo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u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uici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obias Específ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nsiedad General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Trastornos de Pán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garofob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obia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Trastorno Obsesivo Compuls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-36360" y="-27000"/>
          <a:ext cx="9216720" cy="8048520"/>
        </p:xfrm>
        <a:graphic>
          <a:graphicData uri="http://schemas.openxmlformats.org/drawingml/2006/table">
            <a:tbl>
              <a:tblPr/>
              <a:tblGrid>
                <a:gridCol w="2447640"/>
                <a:gridCol w="4392720"/>
                <a:gridCol w="2376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. del E° de áni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stornos de Ansi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. Aliment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79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turbaciones en el estado emoc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r un período prolong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Depresión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istez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dida de interés en actividad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siva culp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mientos de minusvalí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sienten cans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omn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cción que va más allá de un evento estresa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Manía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ufo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trema activ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tud grandez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peranza ilimitad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ede comportarse agresiv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ntrol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Bipolaridad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íodos de manía alternados con depres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nos frecu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gual prevalencia hombres y muje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onente heredit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siedad como rasgo y como estad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.: Fisiológico, Cognitivo y Mot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do desproporcionado a las circunstancias, Afecta la vida normal del sujeto, A menudo hay un evento desencadenante, Mayor propensión en sujetos que piensan que son incapaces de controlar eventos estresa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Fobias Específicas</a:t>
                      </a:r>
                      <a:r>
                        <a:rPr b="0" lang="es-ES_tradnl" sz="1300" spc="-1" strike="noStrike">
                          <a:solidFill>
                            <a:srgbClr val="33ccff"/>
                          </a:solidFill>
                          <a:latin typeface="Tahoma"/>
                        </a:rPr>
                        <a:t>: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do intenso, excesivo, irracional y paralizante a algo particular. Interfiere en la vida normal del suje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Fobia Social</a:t>
                      </a:r>
                      <a:r>
                        <a:rPr b="0" lang="es-ES_tradnl" sz="1300" spc="-1" strike="noStrike">
                          <a:solidFill>
                            <a:srgbClr val="33ccff"/>
                          </a:solidFill>
                          <a:latin typeface="Tahoma"/>
                        </a:rPr>
                        <a:t>: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or excesivo a situaciones interpersonales. Desempeño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Agorafobia:</a:t>
                      </a:r>
                      <a:r>
                        <a:rPr b="0" lang="es-ES_tradnl" sz="1300" spc="-1" strike="noStrike">
                          <a:solidFill>
                            <a:srgbClr val="33ccff"/>
                          </a:solidFill>
                          <a:latin typeface="Tahoma"/>
                        </a:rPr>
                        <a:t>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ás intensa que la fobia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ores múltiples e intensos. Terror a distanciarse de las fuentes de seguridad. Menor frecuencia que la fobia social. Dificulta vida n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Trastorno de Pánico:</a:t>
                      </a:r>
                      <a:r>
                        <a:rPr b="0" lang="es-ES_tradnl" sz="1300" spc="-1" strike="noStrike">
                          <a:solidFill>
                            <a:srgbClr val="33ccff"/>
                          </a:solidFill>
                          <a:latin typeface="Tahoma"/>
                        </a:rPr>
                        <a:t> </a:t>
                      </a: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do intenso e incomodidad en ausencia de un peligro real. Existe una causa específica de ansiedad.Experiencia repentina e impredecible. Síntomas: palpitaciones, sudoración, dolor de pecho y abdominal, nauseas, mareos, miedo de perder el control, de morir o “volverse loco”. Puede generar agorafob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Trastorno de Ansiedad Generalizada: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ores prolongados, vagos e intensos. No están relacionados con algo específico. Síntomas: incapacidad para relajarse, tensión muscular, incertidumbre hacia el futuro, hipervigilancia, insomnio, etc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Trastorno obsesivo – Compulsivo: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ansiedad se produce al tratar de evitar o eliminar las obsesiones y/o compulsiones. El comportamiento tiene como objeto controlar la ansie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vera distorsión en la percepción de la propia figura y el p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do a engord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Anorexia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érdida de peso auto impue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hazo a mantener un peso corporal n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ulimia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tidos episodios de atracones, seguidos por conductas compensatorias inapropia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sicología de la Sal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ntera L. (2004) Psicología Comunitaria de la salud. En: Introducción a la Psicología Comunitari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Conceptos Fundament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cepto de comun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mensiones y significado de comun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undamentos comunitarios de la salu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66"/>
                </a:solidFill>
                <a:latin typeface="Tahoma"/>
              </a:rPr>
              <a:t>De la Biopsicopatología clínica a la biopsicosociolología comunit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texto en U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actores externos sociocult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volución general de las disciplinas, profesiones y serv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rísis del modelo biomédico tradi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66"/>
                </a:solidFill>
                <a:latin typeface="Tahoma"/>
              </a:rPr>
              <a:t>Recursos teóricos y metodológ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even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rés psico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ntervención en crí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1965240"/>
            <a:ext cx="77724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333399"/>
                </a:solidFill>
                <a:latin typeface="Tahoma"/>
              </a:rPr>
              <a:t>FIN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… que les vaya muy bien en todo lo que sigue, que logren todos sus sueños y metas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Tahoma"/>
              </a:rPr>
              <a:t>El Estudio Científico de la Personal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Por qué se dice que todos los seres humanos somos científicos de la Persona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Orígenes de estudio científico de la 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es son las tradiciones científicas en el estudio de la persona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Aproximación Clí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implica la aproximación clín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Charc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Ja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Pri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Freu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Mu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Aproximación Clí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mportancia de la Guerra para el estudio de la 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Ro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Ke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imitaciones de esta aprox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entajas de esta aprox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Aproximación Correlac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Qué incluy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Elementos destac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Énf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Aportes de Gal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Aportes de Catell y Eysen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delo de la Personalidad de los 5 fact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Limitaciones de esta aproxim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Ventajas de esta aproxim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Aproximación Experime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Qué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ecursores: Wundt, Ebbinghaus, Pavl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ductistas: Watson, Hull, Ski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Cognitivos o Cognosi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imitaciones de esta aprox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entajas de esta aprox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Comparación de las 3 aproxim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lementos Compart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fere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Objetivos Científicos Compart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Hacia una integración de los 3 mode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Normalidad v/s Anormalidad</a:t>
            </a:r>
            <a:br>
              <a:rPr sz="4400"/>
            </a:b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sicopat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13 (p. 485 – 50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erspectivas sobre los Trastornos: Normalidad v/s Anormalid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riterios de 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ndivid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ofesional de la salud men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Visiones históricas de los trastornos psicológ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Naturaleza de las enfermedades men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ausas de los trastor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ta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lasificación (DSM-I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eval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fermedades mentales y la 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7-07T03:50:31Z</dcterms:modified>
  <cp:revision>26</cp:revision>
  <dc:subject/>
  <dc:title>Control</dc:title>
</cp:coreProperties>
</file>