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9E3-F10B-4AC0-9F88-BB4A6871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3F8-AB60-4D6E-89EF-47664A8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AB8-A6D8-4E22-B790-2ADA5B72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4B7-D97C-417A-B616-3307346D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EB39-1FD5-48E3-9683-F4B54317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7F25-69BF-4EB5-86F7-2D5CB83B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160D-8FE4-4601-9D57-EA118BB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1B5-E65F-45FF-9B83-3FD368E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1CF-143A-42FA-99BB-6F9DCE3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7B9-F666-4DEF-94E1-B03A0743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64C-48D6-4815-BAAB-3A1FB873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15E-4F3D-4C65-A8DB-FFA266D0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AFD8-5A6B-42BE-A6B3-09A520F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571F-C31B-4210-A58D-AD7A210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C54C-60E0-4FC9-A0C6-152A819E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8782-DF15-4075-B604-3214E4C2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5CA-3AD9-4FA1-9163-AC89CCD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6AE-452E-40DC-8B42-9A4F8EEA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E9F-9992-4D73-97D5-763DE249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012-65E9-402F-8002-74084D21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966-E9BB-4B0A-A4B4-89C6B777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AA3-1DDB-4A94-A097-50A704E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BC9-6DB6-48A7-8636-D0BF344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978-62D8-4E30-8652-DBA3A9E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970-0906-4F03-A2EE-15438F710E9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E037-BCC4-4C7F-8BCA-826B88579FF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vin, L. (1998) Estudio científico de la personalidad. En L. Pervin,  La ciencia de la personalidad. Madrid: McGraw H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sicopat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l Estado de Án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re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nia y Trastorno Bipo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ici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s Específ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nsiedad General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s de Pán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arofob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obia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-36360" y="-27000"/>
          <a:ext cx="9216720" cy="8048520"/>
        </p:xfrm>
        <a:graphic>
          <a:graphicData uri="http://schemas.openxmlformats.org/drawingml/2006/table">
            <a:tbl>
              <a:tblPr/>
              <a:tblGrid>
                <a:gridCol w="2447640"/>
                <a:gridCol w="4392720"/>
                <a:gridCol w="237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del E° de áni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stornos de Ansi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. Aliment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9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turbaciones en el estado emoc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 un período prolong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Depresión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st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dida de interés en activida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siva culp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mientos de minusvalí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sienten cans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omn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cción que va más allá de un evento estres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Maní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uf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trema ac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itud grande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peranza ilimitad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e comportarse agres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ntrolab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Bipolaridad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íodos de manía alternados con depres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nos frecu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gual prevalencia hombres y muje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onente hered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siedad como rasgo y como estad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.: Fisiológico, Cognitivo y Mo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desproporcionado a las circunstancias, Afecta la vida normal del sujeto, A menudo hay un evento desencadenante, Mayor propensión en sujetos que piensan que son incapaces de controlar eventos estresa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s Específicas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, excesivo, irracional y paralizante a algo particular. Interfiere en la vida normal del suje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Fobia Social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 excesivo a situaciones interpersonales. Desempeño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Agorafobia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ás intensa que la fobia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múltiples e intensos. Terror a distanciarse de las fuentes de seguridad. Menor frecuencia que la fobia social. Dificulta vida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Pánico:</a:t>
                      </a:r>
                      <a:r>
                        <a:rPr b="0" lang="es-ES_tradnl" sz="1300" spc="-1" strike="noStrike">
                          <a:solidFill>
                            <a:srgbClr val="33ccff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intenso e incomodidad en ausencia de un peligro real. Existe una causa específica de ansiedad.Experiencia repentina e impredecible. Síntomas: palpitaciones, sudoración, dolor de pecho y abdominal, nauseas, mareos, miedo de perder el control, de morir o “volverse loco”. Puede generar agorafo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de Ansiedad Generalizada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ores prolongados, vagos e intensos. No están relacionados con algo específico. Síntomas: incapacidad para relajarse, tensión muscular, incertidumbre hacia el futuro, hipervigilancia, insomnio, etc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Trastorno obsesivo – Compulsivo: </a:t>
                      </a: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ansiedad se produce al tratar de evitar o eliminar las obsesiones y/o compulsiones. El comportamiento tiene como objeto controlar la ansi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vera distorsión en la percepción de la propia figura y el p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do a engord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Anorex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érdida de peso auto impue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hazo a mantener un peso corporal n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Bulimia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tidos episodios de atracones, seguidos por conductas compensatorias inapropi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logía de la Salu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ntera L. (2004) Psicología Comunitaria de la salud. En: Introducción a la Psicología Comunitari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Conceptos Fundament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cept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mensiones y significado de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undamentos comunitarios de la sal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66"/>
                </a:solidFill>
                <a:latin typeface="Tahoma"/>
              </a:rPr>
              <a:t>De la Biopsicopatología clínica a la biopsicosociolología comuni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texto en 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Factores externos sociocul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volución general de las disciplinas, profesiones y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rísis del modelo biomédico tradi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66"/>
                </a:solidFill>
                <a:latin typeface="Tahoma"/>
              </a:rPr>
              <a:t>Recursos teóricos y metodológ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strés psico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ntervención en crí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9652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333399"/>
                </a:solidFill>
                <a:latin typeface="Tahoma"/>
              </a:rPr>
              <a:t>FIN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… que les vaya muy bien en todo lo que sigue, que logren todos sus sueños y metas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99"/>
                </a:solidFill>
                <a:latin typeface="Tahoma"/>
              </a:rPr>
              <a:t>El Estudio Científico de la Personal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Por qué se dice que todos los seres humanos somos científicos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rígenes de estudio científic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Cuáles son las tradiciones científicas en el estudio de la persona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¿Qué implica la aproximación clín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Cha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Ja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Pri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Fre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Murr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lín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Importancia de la Guerra para el estudio de la Pers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Ro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de Ke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Correlac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Qué incl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Elementos desta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Énf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Gal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Aportes de Catell y Eysen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Modelo de la Personalidad de los 5 fac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Aproximación Experim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Qué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Precursores: Wundt, Ebbinghaus, Pav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Conductistas: Watson, Hull, Ski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Aportes Cognitivos o Cognosi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Limitacione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Ventajas de esta aproxi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Comparación de las 3 aproxim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Element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Objetivos Científicos Compart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Hacia una integración de los 3 mode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Normalidad v/s Anormalidad</a:t>
            </a:r>
            <a:br>
              <a:rPr sz="4400"/>
            </a:b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Psicopat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3 (p. 485 – 5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333399"/>
                </a:solidFill>
                <a:uFillTx/>
                <a:latin typeface="Tahoma"/>
              </a:rPr>
              <a:t>Perspectivas sobre los Trastornos: Normalidad v/s Anormalida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riterios de 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divid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fesional de la salud men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isiones históricas de los trastornos psic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aturaleza de las enfermedades men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ausas de los trastor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Tra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Clasificación (DSM-I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eval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fermedades mentales y la 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7-07T03:50:31Z</dcterms:modified>
  <cp:revision>26</cp:revision>
  <dc:subject/>
  <dc:title>Control</dc:title>
</cp:coreProperties>
</file>