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9C3E-60C9-4996-A189-F4ED914E4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F2D2-016F-46E1-AE29-BEDF71DD2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2B7E-D4EA-4A7F-87B5-3EEEB3A7A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5C15-80FB-47B3-B8D0-353C349C7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B1BCF-CE9D-4704-B4F2-4BB0DA9EF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64274-146E-4D3C-B44A-6B93BDC99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F3544-8F61-4F64-A493-A8F2ED5E1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07293-0FF0-477A-8755-A7A815546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86300-B5AC-4566-A11B-9184172CF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2B27D-8FAB-4A26-ADF2-6253B7A32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801A2-5288-42A5-8D7B-3B23F6DE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B633-1E1E-4638-9061-E584C1A45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F2263-2F29-4F34-B636-CCB93F8D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3FE57-5516-44A6-A756-FD0576A5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1FB10-ACEB-476F-8F67-6C0530905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9DF2E-CEC6-4398-8C3F-8BF831CB6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66C34-CF40-4275-9F6B-51D67672C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EB16-5F67-41F0-9F78-31E0F3BD6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6680-F918-4E17-AF18-87E198036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83A4-6053-4154-9598-3FE3BC3F2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FD2D-D9A9-4F68-8FE4-75C77D7AE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438D-63E9-4C53-A0EC-81634F3B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E852-3360-4F31-9DC9-6E7A4F59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C5D2-5A7F-4EF3-B242-F7891C76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6058C-6409-451D-ACDB-6B63C3801E33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78B12-776A-4397-B4A4-BCF0B15FFB78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PERSONALIDA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ervin, L. (1998) Estudio científico de la personalidad. En L. Pervin,  La ciencia de la personalidad. Madrid: McGraw H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Psicopatologí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Trastornos del Estado de Ánim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Depres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Mania y Trastorno Bipol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aus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Suici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Trastornos de Ansie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Fobias Específic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Ansiedad Generaliza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Trastornos de Páni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Agarofob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Fobia Soci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Trastorno Obsesivo Compulsiv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-36360" y="-27000"/>
          <a:ext cx="9216720" cy="8048520"/>
        </p:xfrm>
        <a:graphic>
          <a:graphicData uri="http://schemas.openxmlformats.org/drawingml/2006/table">
            <a:tbl>
              <a:tblPr/>
              <a:tblGrid>
                <a:gridCol w="2447640"/>
                <a:gridCol w="4392720"/>
                <a:gridCol w="23763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. del E° de áni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stornos de Ansie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. Alimentari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794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0000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turbaciones en el estado emocion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0000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0000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r un período prolongad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3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Depresión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istez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dida de interés en actividad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cesiva culp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ntimientos de minusvalí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 sienten cans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somni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cción que va más allá de un evento estresante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3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Manía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ufor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trema activida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titud grandez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speranza ilimitada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uede comportarse agresiv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controlab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3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Bipolaridad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íodos de manía alternados con depresió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nos frecuen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gual prevalencia hombres y mujer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ponente hereditari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0000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siedad como rasgo y como estado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0000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p.: Fisiológico, Cognitivo y Moto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0000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edo desproporcionado a las circunstancias, Afecta la vida normal del sujeto, A menudo hay un evento desencadenante, Mayor propensión en sujetos que piensan que son incapaces de controlar eventos estresant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3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Fobias Específicas</a:t>
                      </a:r>
                      <a:r>
                        <a:rPr b="0" lang="es-ES_tradnl" sz="1300" spc="-1" strike="noStrike">
                          <a:solidFill>
                            <a:srgbClr val="33ccff"/>
                          </a:solidFill>
                          <a:latin typeface="Tahoma"/>
                        </a:rPr>
                        <a:t>: </a:t>
                      </a: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edo intenso, excesivo, irracional y paralizante a algo particular. Interfiere en la vida normal del sujet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3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Fobia Social</a:t>
                      </a:r>
                      <a:r>
                        <a:rPr b="0" lang="es-ES_tradnl" sz="1300" spc="-1" strike="noStrike">
                          <a:solidFill>
                            <a:srgbClr val="33ccff"/>
                          </a:solidFill>
                          <a:latin typeface="Tahoma"/>
                        </a:rPr>
                        <a:t>: </a:t>
                      </a: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or excesivo a situaciones interpersonales. Desempeño soc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3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Agorafobia:</a:t>
                      </a:r>
                      <a:r>
                        <a:rPr b="0" lang="es-ES_tradnl" sz="1300" spc="-1" strike="noStrike">
                          <a:solidFill>
                            <a:srgbClr val="33ccff"/>
                          </a:solidFill>
                          <a:latin typeface="Tahoma"/>
                        </a:rPr>
                        <a:t> </a:t>
                      </a: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ás intensa que la fobia soc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ores múltiples e intensos. Terror a distanciarse de las fuentes de seguridad. Menor frecuencia que la fobia social. Dificulta vida norm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3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Trastorno de Pánico:</a:t>
                      </a:r>
                      <a:r>
                        <a:rPr b="0" lang="es-ES_tradnl" sz="1300" spc="-1" strike="noStrike">
                          <a:solidFill>
                            <a:srgbClr val="33ccff"/>
                          </a:solidFill>
                          <a:latin typeface="Tahoma"/>
                        </a:rPr>
                        <a:t> </a:t>
                      </a:r>
                      <a:r>
                        <a:rPr b="0" lang="es-MX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edo intenso e incomodidad en ausencia de un peligro real. Existe una causa específica de ansiedad.Experiencia repentina e impredecible. Síntomas: palpitaciones, sudoración, dolor de pecho y abdominal, nauseas, mareos, miedo de perder el control, de morir o “volverse loco”. Puede generar agorafob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3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Trastorno de Ansiedad Generalizada: </a:t>
                      </a: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ores prolongados, vagos e intensos. No están relacionados con algo específico. Síntomas: incapacidad para relajarse, tensión muscular, incertidumbre hacia el futuro, hipervigilancia, insomnio, etc.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3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Trastorno obsesivo – Compulsivo: </a:t>
                      </a: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a ansiedad se produce al tratar de evitar o eliminar las obsesiones y/o compulsiones. El comportamiento tiene como objeto controlar la ansieda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0000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vera distorsión en la percepción de la propia figura y el pes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0000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0000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es-MX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edo a engord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3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Anorexia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érdida de peso auto impuest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chazo a mantener un peso corporal norm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3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Bulimia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petidos episodios de atracones, seguidos por conductas compensatorias inapropiad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Psicología de la Salu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antera L. (2004) Psicología Comunitaria de la salud. En: Introducción a la Psicología Comunitaria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Conceptos Fundamental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Concepto de comun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Dimensiones y significado de comun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Fundamentos comunitarios de la salu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66"/>
                </a:solidFill>
                <a:latin typeface="Tahoma"/>
              </a:rPr>
              <a:t>De la Biopsicopatología clínica a la biopsicosociolología comunitari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Contexto en U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Factores externos sociocultur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Evolución general de las disciplinas, profesiones y servic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Crísis del modelo biomédico tradic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66"/>
                </a:solidFill>
                <a:latin typeface="Tahoma"/>
              </a:rPr>
              <a:t>Recursos teóricos y metodológic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Preven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Estrés psicosoc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Intervención en crí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1965240"/>
            <a:ext cx="7772400" cy="31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0" spc="-1" strike="noStrike">
                <a:solidFill>
                  <a:srgbClr val="333399"/>
                </a:solidFill>
                <a:latin typeface="Tahoma"/>
              </a:rPr>
              <a:t>FIN</a:t>
            </a:r>
            <a:br>
              <a:rPr sz="4000"/>
            </a:br>
            <a:r>
              <a:rPr b="0" lang="es-MX" sz="4000" spc="-1" strike="noStrike">
                <a:solidFill>
                  <a:srgbClr val="333399"/>
                </a:solidFill>
                <a:latin typeface="Tahoma"/>
              </a:rPr>
              <a:t>… que les vaya muy bien en todo lo que sigue, que logren todos sus sueños y metas!!!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333399"/>
                </a:solidFill>
                <a:latin typeface="Tahoma"/>
              </a:rPr>
              <a:t>El Estudio Científico de la Personalida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Por qué se dice que todos los seres humanos somos científicos de la Personalida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Orígenes de estudio científico de la Personal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Cuáles son las tradiciones científicas en el estudio de la personalida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La Aproximación Clínic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Qué implica la aproximación clínica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Aportes de Charco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Aportes de Ja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Aportes de Pri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Aportes de Freu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Aportes de Murr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La Aproximación Clínic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Importancia de la Guerra para el estudio de la Personal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Aportes de Rog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Aportes de Ke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Limitaciones de esta aproxim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Ventajas de esta aproxim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La Aproximación Correlacion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Qué incluy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Elementos destac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Énf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Aportes de Galt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Aportes de Catell y Eysen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Modelo de la Personalidad de los 5 facto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Limitaciones de esta aproxim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Ventajas de esta aproxim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La Aproximación Experimen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Qué impl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Precursores: Wundt, Ebbinghaus, Pavlo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Conductistas: Watson, Hull, Skin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Aportes Cognitivos o Cognositiv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Limitaciones de esta aproxim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Ventajas de esta aproxim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Comparación de las 3 aproxim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Elementos Comparti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Diferenci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Objetivos Científicos Comparti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Hacia una integración de los 3 model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Normalidad v/s Anormalidad</a:t>
            </a:r>
            <a:br>
              <a:rPr sz="4400"/>
            </a:b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Psicopatologí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Morris, G.C. (2005) Psicología (12 ed.). Prentice Hall. Mexico, Cap. 13 (p. 485 – 501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Perspectivas sobre los Trastornos: Normalidad v/s Anormalida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Criterios de normal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Soci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Individu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rofesional de la salud ment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Visiones históricas de los trastornos psicológic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Naturaleza de las enfermedades ment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Causas de los trastorn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Tratamien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Clasificación (DSM-IV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Prevalen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nfermedades mentales y la 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23:07:33Z</dcterms:created>
  <dc:creator>SUSAN</dc:creator>
  <dc:description/>
  <dc:language>en-US</dc:language>
  <cp:lastModifiedBy>SUSAN</cp:lastModifiedBy>
  <dcterms:modified xsi:type="dcterms:W3CDTF">2010-07-07T03:50:31Z</dcterms:modified>
  <cp:revision>26</cp:revision>
  <dc:subject/>
  <dc:title>Control</dc:title>
</cp:coreProperties>
</file>