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9D66-501C-4C49-B0DC-CC6BA78A8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E8A2-0DE2-4A44-82BD-14BD81BB0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DE0B-9ECD-4D92-BA36-49BCC4604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6004-83A1-4D9C-90B8-C9A9FDA76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CF954-AB53-4600-8FAD-B65238EEA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C1F48-0714-424C-BA9C-2DE456FB0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9B65C-90E4-4EA5-B829-2DAFE274B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22A40-F60C-4CBA-8288-E3E0F8AFD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C9151-B7CD-4CB0-BF4A-66AEA47D3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8AFA8-CC83-4F20-8734-E131EB227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9E43E-4EE9-4BB4-BB72-547207774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B5D6-E2F5-424E-93C2-F4280FB2F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1D4A8-2380-4C6E-BB6D-63CF2DF7D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64E31-7A4A-4213-9475-A28C53F50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B1B39-FB99-4B00-9931-42589C271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A8397-7A56-4BCA-8785-1B46F861E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ABF83-68D9-495A-9AFC-DB1195577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E611-B0FE-4164-9006-60CAE155D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AE36-E621-47E0-A162-08EC628D0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DE5A-7760-4174-982E-8FF8F491F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CB50-E936-4108-9C58-6A7910E57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4AC9-AE39-4655-BFF2-226F7191D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A546-35BF-4968-90AF-A8F6ED152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D81C-FCB1-4987-B6B8-D679194ED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A7DB4-41E4-4A27-8C19-04189BA0EEC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82500-6896-4B74-99C9-9B95AB3F85A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333399"/>
                </a:solidFill>
                <a:latin typeface="Tahoma"/>
              </a:rPr>
              <a:t>PERCEP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Morris, Cap. 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 u="sng">
                <a:solidFill>
                  <a:srgbClr val="333399"/>
                </a:solidFill>
                <a:uFillTx/>
                <a:latin typeface="Tahoma"/>
              </a:rPr>
              <a:t>Ilusiones Visual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¿Qué demuestran las ilusiones visuale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Ilusiones perceptua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Figuras reversibles y señales engañosas de profundid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Usos de estas ilusio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Películas tridimensiona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Pintura o fotografí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 u="sng">
                <a:solidFill>
                  <a:srgbClr val="333399"/>
                </a:solidFill>
                <a:uFillTx/>
                <a:latin typeface="Tahoma"/>
              </a:rPr>
              <a:t>Elementos que influyen en la percepció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¿Cómo influye el origen étnico en la percepció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Cultura y Gén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Motivac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Valo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Expectativ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 u="sng">
                <a:solidFill>
                  <a:srgbClr val="333399"/>
                </a:solidFill>
                <a:uFillTx/>
                <a:latin typeface="Tahoma"/>
              </a:rPr>
              <a:t>Elementos que influyen en la percepció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Estilo cognoscitiv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Dependiente del camp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Independiente del camp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Experiencia y cultur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Personalid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333399"/>
                </a:solidFill>
                <a:latin typeface="Tahoma"/>
              </a:rPr>
              <a:t>SOBRE EL LENGUAJE HUMAN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Echeverría, Cap. 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ahoma"/>
              </a:rPr>
              <a:t>El Lenguaje Humano como Dominio Consensua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Cómo nace el lenguaje humano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Por qué se dice que el lenguaje pertenece al dominio consensual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Por qué se dice que los seres humanos vivimos en un mundo lingüístico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A qué se refiere la expresión “el lenguaje es una coordinación de coordinación de acciones”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Describa la capacidad recursiva del lenguaj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De donde viene la capacidad reflexiva y la razón human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Cuáles son las condiciones estructurales para el surgimiento del lenguaje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Cuáles son las condiciones históricas para el surgimiento del lenguaje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 u="sng">
                <a:solidFill>
                  <a:srgbClr val="333399"/>
                </a:solidFill>
                <a:uFillTx/>
                <a:latin typeface="Tahoma"/>
              </a:rPr>
              <a:t>El individuo como construcción lingüística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¿A qué se refiere la idea de que los seres humanos somos fenómenos sociale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¿Qué se entiende por práctica social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Por qué los individuos se constituyen como tales a partir del lugar que ocupan dentro de un sistema lingüístico más amplio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Describa la relación mutua que existe entre los sistemas lingüísticos y el comportamiento individual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 u="sng">
                <a:solidFill>
                  <a:srgbClr val="333399"/>
                </a:solidFill>
                <a:uFillTx/>
                <a:latin typeface="Tahoma"/>
              </a:rPr>
              <a:t>Vuelta a la Ontología del Lenguaj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A qué se refiere la sustitución del lenguaje del ser por el del devenir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Cómo se entiende el concepto de verda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Unidad entre orador, lenguaje y acc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Por qué se dice que se coloca a la acción en el centr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333399"/>
                </a:solidFill>
                <a:latin typeface="Tahoma"/>
              </a:rPr>
              <a:t>Axiomas de la Comunic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Watzlawick, p.49-7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 u="sng">
                <a:solidFill>
                  <a:srgbClr val="333399"/>
                </a:solidFill>
                <a:uFillTx/>
                <a:latin typeface="Tahoma"/>
              </a:rPr>
              <a:t>Axioma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Descripción del Enfoque Interaccional</a:t>
            </a: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Comunicación  como comportamien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Participación en proceso comunicativ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Imposibilidad de no comunic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Niveles de contenido y relació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Puntuación de la secuencia de hech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Comunicación digital y analógic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Interacción simétrica y complementar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333399"/>
                </a:solidFill>
                <a:latin typeface="Tahoma"/>
              </a:rPr>
              <a:t>Inteligenci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755640" y="3886200"/>
            <a:ext cx="770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Colom, Estudio de la Inteligencia Human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Feuerstein, Entrevis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333399"/>
                </a:solidFill>
                <a:latin typeface="Tahoma"/>
              </a:rPr>
              <a:t>PERCEPCIÓN</a:t>
            </a:r>
            <a:br>
              <a:rPr sz="2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8360" y="2017800"/>
            <a:ext cx="8486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¿En qué consiste la percepció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¿Dónde tiene lugar la percepció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¿Cuál es la materia prima de la percepció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333399"/>
                </a:solidFill>
                <a:latin typeface="Tahoma"/>
              </a:rPr>
              <a:t>EL ESTUDIO DE LA INTELIGENCIA HUMANA:</a:t>
            </a:r>
            <a:br>
              <a:rPr sz="1600"/>
            </a:br>
            <a:r>
              <a:rPr b="1" lang="es-MX" sz="1600" spc="-1" strike="noStrike">
                <a:solidFill>
                  <a:srgbClr val="333399"/>
                </a:solidFill>
                <a:latin typeface="Tahoma"/>
              </a:rPr>
              <a:t>RECAPITULACIÓN ANTE EL CAMBIO DE</a:t>
            </a:r>
            <a:br>
              <a:rPr sz="1600"/>
            </a:br>
            <a:r>
              <a:rPr b="1" lang="es-MX" sz="1600" spc="-1" strike="noStrike">
                <a:solidFill>
                  <a:srgbClr val="333399"/>
                </a:solidFill>
                <a:latin typeface="Tahoma"/>
              </a:rPr>
              <a:t>MILENIO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Motivos del Estancamiento en los años 6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Métodos de análi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Tests de inteligenc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Modelos de la estructura de la inteligenci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Mecanismos funciona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Avances en el conocimiento de la estructura y los mecanismos básicos de la inteligenc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Tahoma"/>
              </a:rPr>
              <a:t>Conocimiento y creencias acerca de la</a:t>
            </a:r>
            <a:br>
              <a:rPr sz="2000"/>
            </a:br>
            <a:r>
              <a:rPr b="0" i="1" lang="en-US" sz="2000" spc="-1" strike="noStrike">
                <a:solidFill>
                  <a:srgbClr val="333399"/>
                </a:solidFill>
                <a:latin typeface="Tahoma"/>
              </a:rPr>
              <a:t>inteligencia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Coincidencias entre las concepciones populares y científic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Naturaleza y funciones de la inteligenc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La inteligencia como una capacida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Funcionalidad adaptativ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No es una propiedad exclusiva de los seres humano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relación con la estructura y el funcionalismo del cerebr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Problemas más importantes para formalizar una teoría de la inteligenc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Distinción entre inteligencia y conocimien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Métodos de medició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Acuerdos actuales sobre el estudio científico de la inteligenc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Tahoma"/>
              </a:rPr>
              <a:t>Qué sabe la Psicología sobre la Inteligencia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Principales puntos de encuentro de los especialistas en el estudio científico actual de la inteligenci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ahoma"/>
              </a:rPr>
              <a:t>Puntos que aborda el Informe de la APA </a:t>
            </a:r>
            <a:r>
              <a:rPr b="0" lang="es-MX" sz="1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s-MX" sz="1200" spc="-1" strike="noStrike">
                <a:solidFill>
                  <a:srgbClr val="000000"/>
                </a:solidFill>
                <a:latin typeface="Tahoma"/>
              </a:rPr>
              <a:t>American Psychological Association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ahoma"/>
              </a:rPr>
              <a:t>Agenda para la Investigación del siglo 2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ahoma"/>
              </a:rPr>
              <a:t>La inteligencia en la práctica profesiona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ahoma"/>
              </a:rPr>
              <a:t>¿Hasta qué punto miden con precisión los tests de inteligencia?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ahoma"/>
              </a:rPr>
              <a:t>¿Están sesgados los tests de inteligencia?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ahoma"/>
              </a:rPr>
              <a:t>Evidencias sobre la validez predictiva de los tests de inteligencia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ahoma"/>
              </a:rPr>
              <a:t>Estudios sobre las relaciones entre CI y rendimiento escola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ahoma"/>
              </a:rPr>
              <a:t>Preguntas para responder en relación a la evidencia encontrada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ahoma"/>
              </a:rPr>
              <a:t>¿cuál es la importancia del ambiente familiar para el desarrollo de la inteligencia?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ahoma"/>
              </a:rPr>
              <a:t>Las diferencias de inteligencia ¿son un resultado de las experiencias escolares?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ahoma"/>
              </a:rPr>
              <a:t>El mundo laboral: Investigaciones disponibles sobre rendimiento en el trabaj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ahoma"/>
              </a:rPr>
              <a:t>¿Por qué predicen las medidas estandarizadas de inteligencia?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bates sociopolíticos sobre la inteligen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rrelatos sociales de la inteligen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 complejidad de las sociedades modern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¿Es posible aumentar la inteligencia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 inteligencia en la sociedad del siglo XX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ahoma"/>
              </a:rPr>
              <a:t>Propuesta Teórica de Reuven Feuerstein y sus sistemas aplicados</a:t>
            </a:r>
            <a:br>
              <a:rPr sz="2000"/>
            </a:br>
            <a:r>
              <a:rPr b="0" lang="es-ES" sz="2000" spc="-1" strike="noStrike">
                <a:solidFill>
                  <a:srgbClr val="333399"/>
                </a:solidFill>
                <a:latin typeface="Tahoma"/>
              </a:rPr>
              <a:t>Entrevista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ahoma"/>
              </a:rPr>
              <a:t>APRENDER A SER INTELIGEN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Construya la teoría de Feuerstein a partir de los conceptos de las  entrevistas. Consider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Concepción de Inteligenc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Medición de la Inteligenc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Método para estudiar la modificabilidad del individu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Deprivación cultural y sus efect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¿PODEMOS SER MÁS INTELIGENTES?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Preparación que entrega la pedagogía actual y sus efect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Aporte de su teoría de la modificabilidad de las estructuras cognitiv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Efectividad de la teoría y comprobación científic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Grados de inmadure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Flexibilidad del ser human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Transmisión cultu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Relación entre transmisión cultural y desarrollo de la inteligenc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GENES, TRADICIONALES Y ESTÍMULO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Aplicación de su teoría de la modificabilidad estructural cognitiv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Entorn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Límites de su teorí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Aspectos clínicos de su teorí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Base antropológica respalda su teorí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Tradición y a la unión de la familia en la may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Capacidad del ser human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Uso del término “Potencialid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333399"/>
                </a:solidFill>
                <a:latin typeface="Tahoma"/>
              </a:rPr>
              <a:t>Actitudes, Prejuicios y Relaciones Human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755640" y="3886200"/>
            <a:ext cx="770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Coon, Cap. 19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 u="sng">
                <a:solidFill>
                  <a:srgbClr val="333399"/>
                </a:solidFill>
                <a:uFillTx/>
                <a:latin typeface="Tahoma"/>
              </a:rPr>
              <a:t>Actitud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5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Qué son las actitude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Componente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Creenci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Emociona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Acció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Adquisición de creencia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Experiencia persona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Interacción con los otro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Crianz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Afiliació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Medios Masivos de comunicació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Condicionamiento fortuito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Por qué algunas creencias se traducen en acción?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Medición de actitude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Modificación de actitude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Condiciones ideales para la persuació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Teoría de la Disonancia Cognitiv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Lavado de cerebro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Afiliación a secta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Reclutamiento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Conversió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 u="sng">
                <a:solidFill>
                  <a:srgbClr val="333399"/>
                </a:solidFill>
                <a:uFillTx/>
                <a:latin typeface="Tahoma"/>
              </a:rPr>
              <a:t>Prejuici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Causas del prejuici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Causas de los conflicto de grup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Cómo se adquieren los prejuici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La personalidad prejuicios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Estereotip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Cómo surgen los estereotip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Cómo combatir los prejuici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333399"/>
                </a:solidFill>
                <a:uFillTx/>
                <a:latin typeface="Tahoma"/>
              </a:rPr>
              <a:t>La Organización Perceptiv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¿Quiénes investigaron los principios básicos de la percepció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¿Qué significa la palabra Gestal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¿Cuál es el supuesto de la Gestal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Distinción Figura/Fond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Camuflaj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333399"/>
                </a:solidFill>
                <a:latin typeface="Tahoma"/>
              </a:rPr>
              <a:t>Desarrollo</a:t>
            </a:r>
            <a:br>
              <a:rPr sz="4400"/>
            </a:br>
            <a:r>
              <a:rPr b="0" lang="es-MX" sz="4400" spc="-1" strike="noStrike">
                <a:solidFill>
                  <a:srgbClr val="333399"/>
                </a:solidFill>
                <a:latin typeface="Tahoma"/>
              </a:rPr>
              <a:t>Conceptos Básic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755640" y="3886200"/>
            <a:ext cx="770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Hoffman, Cap. 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 u="sng">
                <a:solidFill>
                  <a:srgbClr val="333399"/>
                </a:solidFill>
                <a:uFillTx/>
                <a:latin typeface="Tahoma"/>
              </a:rPr>
              <a:t>La naturaleza del desarrollo humano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Características del desarroll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Continu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Acumulativ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Direccion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Diferenciad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Organizad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Holístic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Complejidad del estudio del desarroll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Objetivos del estu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Describi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Compara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Explica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Predeci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Relaciona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 u="sng">
                <a:solidFill>
                  <a:srgbClr val="333399"/>
                </a:solidFill>
                <a:uFillTx/>
                <a:latin typeface="Tahoma"/>
              </a:rPr>
              <a:t>Ciclo de Vida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82600" y="1844280"/>
            <a:ext cx="77724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Marcadores del Desarrollo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Biológico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Cronólogico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Sociale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Etapa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Desarrollo Prenata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Infanci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Niñez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Adolescencia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Adultez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Naturaleza del cambio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Continuidad v/s discontinuida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Determinantes del desarrollo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Herencia v/s ambient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Naturaleza: Determinantes biológica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Características genéticas de la especi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Características genéticas individuale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Crianza: Determinantes ambientale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Físico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Sociale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Individuale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Grupale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333399"/>
                </a:solidFill>
                <a:latin typeface="Tahoma"/>
              </a:rPr>
              <a:t>FIN</a:t>
            </a:r>
            <a:br>
              <a:rPr sz="4000"/>
            </a:br>
            <a:r>
              <a:rPr b="0" lang="es-MX" sz="4000" spc="-1" strike="noStrike">
                <a:solidFill>
                  <a:srgbClr val="333399"/>
                </a:solidFill>
                <a:latin typeface="Tahoma"/>
              </a:rPr>
              <a:t>… Ánimo y que les vaya muy bien!!!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333399"/>
                </a:solidFill>
                <a:uFillTx/>
                <a:latin typeface="Tahoma"/>
              </a:rPr>
              <a:t>La Organización Perceptiv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¿A qué se refiere el concepto de constancia perceptual?</a:t>
            </a: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Constancia de for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Constancia de col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Constancia de tamañ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333399"/>
                </a:solidFill>
                <a:uFillTx/>
                <a:latin typeface="Tahoma"/>
              </a:rPr>
              <a:t>Principios Gestálticos de la Organización Perceptu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Proximid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Semejanz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Cier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Continuid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333399"/>
                </a:solidFill>
                <a:uFillTx/>
                <a:latin typeface="Tahoma"/>
              </a:rPr>
              <a:t>Percepción de Distancia y Profundida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Importancia para los organismos y su adapta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¿Cuáles son las señales monoculare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¿Qué nos permiten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Perspectiva ár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Gradiente de textur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Perspectiva line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Paralaje de movimien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Señales monoculares de distanc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Superposició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Elevació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Sombread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333399"/>
                </a:solidFill>
                <a:uFillTx/>
                <a:latin typeface="Tahoma"/>
              </a:rPr>
              <a:t>Percepción de Distancia y Profundida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¿Cuáles son las señales binoculare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¿Qué nos permiten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Visión estereoscópic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Disparidad retinia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Convergencia de los oj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333399"/>
                </a:solidFill>
                <a:uFillTx/>
                <a:latin typeface="Tahoma"/>
              </a:rPr>
              <a:t>Percepción de Sonid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Señales Monoaura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Señales Binaura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¿Cómo opera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333399"/>
                </a:solidFill>
                <a:uFillTx/>
                <a:latin typeface="Tahoma"/>
              </a:rPr>
              <a:t>Percepción de Movimient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Qué implic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Movimiento re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Movimiento aparen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Ilusión autocinétic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Movimiento estroboscópic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Fenómeno Ph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Movimiento induci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4T23:07:33Z</dcterms:created>
  <dc:creator>SUSAN</dc:creator>
  <dc:description/>
  <dc:language>en-US</dc:language>
  <cp:lastModifiedBy>SUSAN</cp:lastModifiedBy>
  <dcterms:modified xsi:type="dcterms:W3CDTF">2010-06-10T03:39:22Z</dcterms:modified>
  <cp:revision>19</cp:revision>
  <dc:subject/>
  <dc:title>Control</dc:title>
</cp:coreProperties>
</file>