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1B7C-49AD-4C18-9D1B-D35D136B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2861-0E33-4D97-9BF8-5352A5A9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0BB-03F0-4571-B676-559C01F3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D72-3950-491E-B3D5-CE1C3D36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C0FA-B7F4-4FAE-9622-7B4B4E4A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DD04-41E6-4036-86E8-7848D9FF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E8F6-F458-4733-8DC5-F5929916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E445-9359-4D47-969F-ADBC2BBC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138F-E4D2-40F2-8FFE-A3A55326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68F5-A9C0-4F42-94AC-CF3431AE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6C0F-CFA0-4A50-83C6-7BDE63AE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EB6-5805-4855-B9AB-5C36986F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EEA5-0C43-4392-BEAF-29C92A14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82C2-0D2F-4412-9B4A-96A9889F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9CA5-508E-4FD3-BED7-C95439A2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2A5A-7394-42E8-A61B-0C2B7649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F464-724D-4B7E-986B-8E756F24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CA3-EE0A-4AF0-B21F-54143FC4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0572-3586-4853-8BCB-F538671E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187-54EC-4330-BA1A-C7DE8F4D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CDD-9F1C-4BEC-BA94-47D64D52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693-5C48-4139-B5BD-6988EBB2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C03-72B2-49CB-95ED-FFEAF3E8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A3C-0597-491E-83F3-296AECE5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0166-CF06-49B0-B842-B5BA0E74C1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66A1-3F30-4DE1-8935-71B73EDC27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ERCEP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orris, Cap.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Ilusiones Visu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demuestran las ilusiones visual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Ilusiones per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Figuras reversibles y señales engañosas de profund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Usos de estas ilus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elículas tridimens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intura o fotograf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ementos que influyen en la percep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ómo influye el origen étnico en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ultura y Gé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Val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xpecta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ementos que influyen en la percep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ilo cognosci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pendiente del ca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ndependiente del ca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xperiencia y cul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ers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SOBRE EL LENGUAJE HUMAN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cheverría, Cap.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El Lenguaje Humano como Dominio Consensua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ómo nace el lenguaje human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 qué se dice que el lenguaje pertenece al dominio consensu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 qué se dice que los seres humanos vivimos en un mundo lingüístic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 qué se refiere la expresión “el lenguaje es una coordinación de coordinación de acciones”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criba la capacidad recursiva del lengua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 donde viene la capacidad reflexiva y la razón huma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áles son las condiciones estructurales para el surgimiento del lenguaj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áles son las condiciones históricas para el surgimiento del lenguaj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 individuo como construcción lingüíst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A qué se refiere la idea de que los seres humanos somos fenómenos social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Qué se entiende por práctica soci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or qué los individuos se constituyen como tales a partir del lugar que ocupan dentro de un sistema lingüístico más ampli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scriba la relación mutua que existe entre los sistemas lingüísticos y el comportamiento individu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Vuelta a la Ontología del Lenguaj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 qué se refiere la sustitución del lenguaje del ser por el del deveni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e entiende el concepto de ver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Unidad entre orador, lenguaje y a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or qué se dice que se coloca a la acción en el cent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Axiomas de la Comun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Watzlawick, p.49-7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Axiom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scripción del Enfoque Interaccional</a:t>
            </a: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municación  como comport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articipación en proceso comunica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mposibilidad de no comunic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Niveles de contenido y rel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untuación de la secuencia de hech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municación digital y analóg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nteracción simétrica y complement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Intelig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lom, Estudio de la Inteligencia Hum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Feuerstein, Entrev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99"/>
                </a:solidFill>
                <a:latin typeface="Tahoma"/>
              </a:rPr>
              <a:t>PERCEPCIÓN</a:t>
            </a:r>
            <a:br>
              <a:rPr sz="2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En qué consist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Dónde tiene lugar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 es la materia prima d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EL ESTUDIO DE LA INTELIGENCIA HUMANA:</a:t>
            </a:r>
            <a:br>
              <a:rPr sz="1600"/>
            </a:b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RECAPITULACIÓN ANTE EL CAMBIO DE</a:t>
            </a:r>
            <a:br>
              <a:rPr sz="1600"/>
            </a:b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MILENIO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tivos del Estancamiento en los años 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étodos de análi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ests de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odelos de la estructura de la inteligenc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canismos fun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vances en el conocimiento de la estructura y los mecanismos básicos de la intelig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Conocimiento y creencias acerca de la</a:t>
            </a:r>
            <a:br>
              <a:rPr sz="2000"/>
            </a:b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inteligenci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incidencias entre las concepciones populares y científ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Naturaleza y funciones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inteligencia como una capac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uncionalidad adaptativ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o es una propiedad exclusiva de los seres human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lación con la estructura y el funcionalismo del cereb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blemas más importantes para formalizar una teoría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istinción entre inteligencia y conoc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étodos de med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uerdos actuales sobre el estudio científico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Qué sabe la Psicología sobre la Inteligenci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incipales puntos de encuentro de los especialistas en el estudio científico actual de la intelig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Puntos que aborda el Informe de la APA </a:t>
            </a: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s-MX" sz="1200" spc="-1" strike="noStrike">
                <a:solidFill>
                  <a:srgbClr val="000000"/>
                </a:solidFill>
                <a:latin typeface="Tahoma"/>
              </a:rPr>
              <a:t>American Psychological Associ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Agenda para la Investigación del siglo 2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La inteligencia en la práctica profesion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Hasta qué punto miden con precisión los test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Están sesgados los test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videncias sobre la validez predictiva de los tests de inteligenc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studios sobre las relaciones entre CI y rendimiento escol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eguntas para responder en relación a la evidencia encontrada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cuál es la importancia del ambiente familiar para el desarrollo de la inteligencia?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Las diferencias de inteligencia ¿son un resultado de las experiencias escolare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l mundo laboral: Investigaciones disponibles sobre rendimiento en el trabaj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Por qué predicen las medidas estandarizada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ates sociopolíticos sobre la intelig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latos sociales de la intelig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omplejidad de las sociedades moder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Es posible aumentar la inteligenci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inteligencia en la sociedad del siglo XX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ahoma"/>
              </a:rPr>
              <a:t>Propuesta Teórica de Reuven Feuerstein y sus sistemas aplicados</a:t>
            </a:r>
            <a:br>
              <a:rPr sz="2000"/>
            </a:br>
            <a:r>
              <a:rPr b="0" lang="es-ES" sz="2000" spc="-1" strike="noStrike">
                <a:solidFill>
                  <a:srgbClr val="333399"/>
                </a:solidFill>
                <a:latin typeface="Tahoma"/>
              </a:rPr>
              <a:t>Entrevist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PRENDER A SER INTELIG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ruya la teoría de Feuerstein a partir de los conceptos de las  entrevistas. Conside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ncepción de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edición de la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étodo para estudiar la modificabilidad del individ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privación cultural y sus 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¿PODEMOS SER MÁS INTELIGENTES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eparación que entrega la pedagogía actual y sus 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porte de su teoría de la modificabilidad de las estructuras cogn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fectividad de la teoría y comprobación científ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Grados de inmadur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Flexibilidad del ser hum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nsmisión cul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Relación entre transmisión cultural y desarrollo de la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GENES, TRADICIONALES Y ESTÍMUL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licación de su teoría de la modificabilidad estructural cogni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tor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ímites de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spectos clínicos de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Base antropológica respalda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radición y a la unión de la familia en la may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l ser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so del término “Potencialid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Actitudes, Prejuicios y Relaciones Huma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on, Cap. 1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Actitu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Qué son las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e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mocio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c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quisición de creenci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xperiencia perso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teracción con los otr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ianz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fili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edios Masivos de comunic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dicionamiento fortui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or qué algunas creencias se traducen en acción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edición de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odificación de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diciones ideales para la persu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Teoría de la Disonancia Cogniti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Lavado de cerebro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filiación a sect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Reclutamien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vers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Prejuici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ausas del prejui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ausas de los conflicto de gru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e adquieren los preju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La personalidad prejuici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ereoti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urgen los estereoti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combatir los preju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Organización Percep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iénes investigaron los principios básicos d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significa la palabra Gestal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 es el supuesto de la Gestal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Distinción Figura/Fo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amufla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br>
              <a:rPr sz="4400"/>
            </a:b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Hoffman, Cap.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La naturaleza del desarrollo human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racterísticas del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ntinu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Acumula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irec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iferenci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Organiz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Holíst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mplejidad del estudio del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Objetivos del e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escrib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mpar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xplic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edec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Relacion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Ciclo de Vid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arcadores del Desarrol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Biológ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onólog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oci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tap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sarrollo Prenat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fa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iñe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olescencia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ulte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aturaleza del camb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tinuidad v/s discontinu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terminantes del desarrol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Herencia v/s ambie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aturaleza: Determinantes biológic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aracterísticas genéticas de la especi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aracterísticas genéticas individu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ianza: Determinantes ambient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Fís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oci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dividu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Grup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FIN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… Ánimo y que les vaya muy bien!!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Organización Percep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A qué se refiere el concepto de constancia perceptual?</a:t>
            </a: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for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c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tama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rincipios Gestálticos de la Organización Percep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roxim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mejan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ier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ontinu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Distancia y Profund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Importancia para los organismos y su adap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Cuáles son las señales monocular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Qué nos permite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spectiva á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Gradiente de tex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spectiva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aralaje de mov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ñales monoculares de dista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uperposi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lev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ombre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Distancia y Profund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es son las señales binocular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Qué nos permit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Visión estereoscóp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isparidad retini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vergencia de los o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ñales Monoa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ñales Bina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ómo oper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Mov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Qué imp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vimiento re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vimiento apar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lusión autociné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vimiento estroboscóp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Fenómeno Ph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vimiento induc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3:07:33Z</dcterms:created>
  <dc:creator>SUSAN</dc:creator>
  <dc:description/>
  <dc:language>en-US</dc:language>
  <cp:lastModifiedBy>SUSAN</cp:lastModifiedBy>
  <dcterms:modified xsi:type="dcterms:W3CDTF">2010-06-10T03:39:22Z</dcterms:modified>
  <cp:revision>19</cp:revision>
  <dc:subject/>
  <dc:title>Control</dc:title>
</cp:coreProperties>
</file>