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06A-C647-47C9-98FC-C6140B89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DF6-BA86-4BDB-9A34-02EA932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E4F-84CC-4C2A-B840-CF52614A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20A-8B80-46B4-AB25-FAA4CC77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8E8-4641-47F9-9DA4-879308B2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B926-6D75-4FB0-993F-3D25154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C00-2049-4CF0-BD53-B5320E7A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49F-A0F4-4346-AF7E-AF7227E6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8DC3-4384-48D0-87C0-AA774A5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649D-7866-4B50-A118-D4F5D2E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701-7E3F-46BA-BE05-CF9CCBC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ECB-4B9E-447E-8845-31A985A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890-31B8-4739-A67B-AC6612E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93B0-2E65-4289-8802-0537F3F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8A2-99C8-42C2-AA98-D1AFF3F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1DB-E63B-4411-8027-E1C73771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AC45-085D-44EE-AEB8-C4D3785B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9B3-81B2-4E2B-B985-36377A8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C65-A8BD-44B7-AD14-CBB85DA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592-025A-4AB4-9222-F9B90580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C95-0318-4F4E-8EBE-DB25B599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B77-44B3-46E8-864E-6CD7D992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FAB-73EE-4671-9A82-623DC33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D77-B53B-441E-876A-A732A9F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F037-D7EC-4DFD-9601-EAF9853DAD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251E-71FB-4EF7-9A5E-82BBE5F9D7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ep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evolución de la psicologí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1 (p.2 -17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a Psicología como cienci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unge M., Ardila R. (2002) Filosofía de la Psicología. Siglo veintiuno editores. México. Cap. 2 y 3 (p.36 – 7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 I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prendizaje y Conduc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Psicología (12 ed.). Prentice Hall. Mexico, Cap. 5 (p. 185 – 200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l conductismo al constructiv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Yañez J., (2004) "Apunte sobre evolución del modelo cognitivo: Desde el conductismo al constructivista"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 psicoanálisi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rris, G.C. (2005)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Psicologí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12 ed.). Prentice Hall. Mexico, Cap. 11 (p. 419 – 424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Humanist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oric, A. (2007)“Conceptos Básicos de la Psicoterapia Humanista y Transpersonal”, Apuntes UD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 relacional sistémic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torán, S. (1994)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l proceso de las ideas sitémico-cibernética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Sistemas Familiares, Año 10, N°1, Argentin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ONSTRUCTIVIST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iveles de Funcionamiento del Ser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L PSICOANÁLI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undamen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námica Psíqu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iente, Pre-Conciente, Inconcie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Mecanismos de defen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incíp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De realidad,  De Plac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structuras Psíqu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llo, Yo, Super y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arrollo de la Person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tapas de desarrollo Psicosex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ijacio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Otros postul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Ju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d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Horney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PSICOTERAPIA HUMANI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texto Histór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 de Ser Huma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Organísm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incipio Holi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rregul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Tendencia Actualizan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aloración Organísm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lujo de Experiênci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Existenciales o Fenome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Vivir Subjetiv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oceso de Darse Cuen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apacidad de Decisión y Responsabi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nceptos Transpers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Niveles o Estados de Conci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g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Es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L Proceso delas Ideas Sistém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smov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r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on Bertalanf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nificar conocimi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sarrollo Interdiscipli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El mapa no es el territorio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Sis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pos de Sistemas y sus 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ortamiento Tele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fina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tes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uta que con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texto y su importa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ism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l Doble Víncu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pistem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ismo estructut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uente entre mapa y território: Difer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cur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oria de la Comun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ueva Concep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corporación de la Retroali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nclave de las conductas huma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misión em varios nive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xio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istemas Famili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ujeto Índ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t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iberné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er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imer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gundo O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MODELO RELACIONAL SISTÉM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tur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Preguntas guias de Matura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perar del Sistema Nervios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Autopoie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jetividad del observad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unción del lenguaj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onstructiv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oción de inven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Epistemolofía del cono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ue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Princípios Bási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onstrucción activa del conocimient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Función adapatativ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Bringforthism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Construct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Domínio de existê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Viabi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ólo podemos traer a la mano a nuestra conciencia y nuestras descripciones aquello que es consistente con nuestra experiencia en el vivir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PSICOLOGÍA COMO CI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tas de la Psicología como ci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amas de la Psic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EVOLUCIÓN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arrollo Histór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structur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cion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Psicodiná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duct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sicología de la Gesta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Humanismo y Existencialis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gnosci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volu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uevos Movimientos en psic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LA FILOSOFÍA DE LA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Definiciones de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Referentes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Fragment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ificult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Identidad Psicofís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ificación de la Psicologí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bjetivos de la Psicología como ci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Describ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xplic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edec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ondiciones que debe satisfac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Ont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Metod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Alé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Ecológ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Práctic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ENFOQUES EN PSIC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Qué es un enfo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uáles son los enfo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Atomismo, El Holismo y El Siste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Mentalismo, El Conductismo y El Bi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sicología Científ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333399"/>
                </a:solidFill>
                <a:uFillTx/>
                <a:latin typeface="Tahoma"/>
              </a:rPr>
              <a:t>APRENDIZAJE Y CONDUC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Qué es el aprendiza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ómo surge este est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Cl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jemplos en hum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dicionamiento Oper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forz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si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eg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st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samparo Aprend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NDUCTU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CLÁSIC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EVOLUCIÓN DEL CONSTRUCTIVISMO COGNITIVO</a:t>
            </a:r>
            <a:br>
              <a:rPr sz="2800"/>
            </a:br>
            <a:r>
              <a:rPr b="1" lang="es-MX" sz="2800" spc="-1" strike="noStrike" u="sng">
                <a:solidFill>
                  <a:srgbClr val="333399"/>
                </a:solidFill>
                <a:uFillTx/>
                <a:latin typeface="Tahoma"/>
              </a:rPr>
              <a:t>PERÍODO COGNITIVO INTERPERSON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x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ndamentos o Postul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pistem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Re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de Su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bjeto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isión de la Terapia y el Terapeu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rmalidad/Anorm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s Destac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3:07:33Z</dcterms:created>
  <dc:creator>SUSAN</dc:creator>
  <dc:description/>
  <dc:language>en-US</dc:language>
  <cp:lastModifiedBy>SUSAN</cp:lastModifiedBy>
  <dcterms:modified xsi:type="dcterms:W3CDTF">2010-05-04T21:30:00Z</dcterms:modified>
  <cp:revision>9</cp:revision>
  <dc:subject/>
  <dc:title>Control</dc:title>
</cp:coreProperties>
</file>