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07E4-DF97-4F20-BB61-624591697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063B-2553-48F6-BE0C-D76F0C15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2182-32FB-4428-95BA-7E18E93D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059F-4CD5-43BF-9283-152E4572C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AD37-2B44-44A1-BAC4-F1E79C34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A19D-BC85-4CAD-97FD-5AF9325C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B83C-7378-4B24-AADA-E5E0380D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FFBB-C53D-4514-9A48-314BA696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4B97-8787-4305-AB9F-9D7C743E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4520-C540-4B84-AB50-C435D000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5842-0169-47C6-9225-0AB9FEC9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017B-B802-4200-A08C-D088C5FE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689B-5439-40D1-B645-78E4AAF4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787E-3BA4-4622-AB28-8F9DB8CD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FBB9D-408F-4C4F-A9F5-C020961B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2BF6-CDE6-4E70-8DB2-E87B49B0E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75A8-E9EC-4B6D-BC37-09A93845D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6933-4270-41E7-B80F-3D26AEB6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5CF8-14A2-4592-9087-7FA3E620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3B07-7C98-4D8C-A3BE-A64F6F9A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591A-8306-4989-B308-16BD6B6B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4D8D-AC61-44B3-B381-5508FFE7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7FD3-491B-48C8-8C1F-B63E17E7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21A8-C88F-40B4-8664-0C3EB2D5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64AD-8B80-495F-BF2A-42684CEDF4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BCFB-22F4-4FF3-AD19-857299E12D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26920" y="1052640"/>
            <a:ext cx="739152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CL" sz="4800" spc="-1" strike="noStrike">
                <a:solidFill>
                  <a:srgbClr val="ffffff"/>
                </a:solidFill>
                <a:latin typeface="Arial"/>
              </a:rPr>
              <a:t>Evolución del modelo cognitivo: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ffffff"/>
                </a:solidFill>
                <a:latin typeface="Arial"/>
              </a:rPr>
              <a:t>Desde el conductismo al constructivista“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Arial"/>
              </a:rPr>
              <a:t>Yañez J., (2004)</a:t>
            </a: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380880"/>
            <a:ext cx="8305920" cy="5943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33264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PERÍODO COGNITIVO INTERPERSON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1413000"/>
            <a:ext cx="8569080" cy="55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bran relevancia las relaciones interpersonales significa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xponentes: Safran y Segal, Mahoney, Guidano y Liotti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cluye aportes de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teoría interpersonal, la psicología experiencial y la teoría del apeg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gnitiva por el énfasis en la manera que el sujeto construye las representaciones de su experi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sujeto ordena la realidad de acuerdo a su organización particular, dada en función a sus estructuras cognitiv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s estructuras cognitivas se desarrollan creciente y continuamente en base a las relaciones interperson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Objeto de Estudi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ducta, Procesos Cognitivos (Énfasis en las relaciones, Esquemas Cognitivos Interpersonal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pistemologí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ransición hacia la Constructivista que se consolida en el período constructivi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cepto de Realid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Flujo Const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i bien existe una realidad externa, no es import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mporta como el sujeto la orde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cepto de Suje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ctivo: Construye su propia rea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Terapeu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rea las condiciones del cambio. El Paciente responsable de su reorde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Énfasis en la Relación terapéu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32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PERÍODO COGNITIVO INTERPERS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1448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PERÍODO CONSTRUCTIVIST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052640"/>
            <a:ext cx="9144000" cy="53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concibe la realidad desde la experiencia del suje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ncepto de Multiverso (Maturan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 es posible la Objetiv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alidad construida en el Lengua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laboración individual y colectiva de interpret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odo fenómeno cognitivo implica procesos activos y pro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mente es fruto de un proceso auto-constructivo, de la interacción del sujeto con el amb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l conocimiento resulta ser una construcción progresiva y jerárquica de modelos de realidad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experiencia humana ocurre a dos niveles: inconsciente y consciente, y se reordena en función de mantener la coherencia del sí mismo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14508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Arial Black"/>
              </a:rPr>
              <a:t>PERÍODO CONSTRUCTIVIST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Objeto de Estudi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ducta y Procesos Cognitivos (énfasis en cómo el sujeto construye su realidad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pistemologí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structivis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cepto de Realid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No existe una realidad ún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epende del observad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 construida en el lengua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cepto de Suje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ctivo y co-constructor de su rea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Terapeu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rea las condiciones del cambio. El Paciente responsable de su propia experiencia y de su aprendiza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Énfasis en la Relación terapéu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457200"/>
            <a:ext cx="806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METATEORÍ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1268280"/>
            <a:ext cx="8496000" cy="54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ropuesta de orden epistemológico que da cuenta del conocimiento desde una perspectiva determinada y que puede ser simboliz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s deci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Marco de conocimiento unific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d de teorías interrelacionad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Objetivo: Dar cuenta de un fenóme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imbolizan la realidad a través de categorías conceptuales y consensu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000" y="547920"/>
            <a:ext cx="80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METATEORÍ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755640" y="1700280"/>
            <a:ext cx="76327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EN EL ÁMBITO EPISTEMOLÓGIC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poner una noción de lo rea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. Proponer una relación del sujeto con la realidad, como fuente legítima de conoc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-720"/>
            <a:ext cx="80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METATEORÍA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765000"/>
            <a:ext cx="7921440" cy="46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cc00"/>
                </a:solidFill>
                <a:uFillTx/>
                <a:latin typeface="Verdana"/>
              </a:rPr>
              <a:t>EN EL ÁMBITO PARADIGMÁTIC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elimitar un objeto de estudio o campo de interés  del conoc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2. Establecer un dominio de operaciones metodológicas pertinentes que permitan la generación  de ese conocimiento de acuerdo con los marcos epistemológicos definidos por el sujeto cognoscente en un marco conceptual intersubje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EVOLUCIÓ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ongruente con un desarrollo y contexto histór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ambios relevantes en sus fundame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ncorporación de nuevos elemen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547920"/>
            <a:ext cx="80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PERÍODO CONDUCTUA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1413000"/>
            <a:ext cx="7632720" cy="42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undado por Watson a principios del S. XX, adquiere relevancia a mediados de sig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rincipales Postul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iega existencia de la “mente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experiencia se reduce a secreciones glandulares y movimientos muscula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conducta humana se encuentra determinada casi exclusivamente por las influencias ambi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procesos inconscientes se encuentran más allá del campo de la investigación científica.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144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PERÍODO CONDUCTUAL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Objeto de Estudi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ducta Observable y Cuantific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pistemologí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ositivi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cepto de Realida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nmanente e Independiente del Suje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uede ser conocida por medio de la observ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cepto de Suje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ecánico: Respondiente y Operante según los requerimientos del med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sivo: No es originador, en él confluyen fact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etodolog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étodo Científico-Observación-Leyes Generales-Predi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Terapeu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xper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Relación Asimétr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000" y="547920"/>
            <a:ext cx="80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c00"/>
                </a:solidFill>
                <a:latin typeface="Arial Black"/>
              </a:rPr>
              <a:t>PERÍODO COGNITIVO CLÁSIC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413000"/>
            <a:ext cx="8569080" cy="47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rge con la Revolución Cognitiva de los ´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xponentes: Beck, Ellis, Meichenba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Conducta Observable no es suficiente para explicarse la complejidad del ser hum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urge el estudio de las variables mediacio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cognición determina los afectos y la conducta de las perso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u particular forma de procesar la información es determin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os procesos mediacionales se organizan en base a una estructura y su dinámica determina el estilo personal (Esquemas cognitivos inconsientes, distorsiones cognitivas, p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nsamientos automátic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4508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Arial Black"/>
              </a:rPr>
              <a:t>PERÍODO COGNITIVO CLÁSICO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Objeto de Estudio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onducta y Procesos Mentales (Fundamentalmente procesos  Mediacionales, del pensamient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pistemología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ositivi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cepto de Realida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Independiente del Suje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ognoscible mediante la observación y la raz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cepto de Suje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Racional: Primacía de lo Cognitivo. El sujeto funciona en base a las ideas que tiene de sí mismo, del mundo y los demá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etodologí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Método Científico-Observación-Leyes Generales-Predi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Racionalidad: Lógica, Deducción e Inferencia Ra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Terapeu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xperto en las leyes de la Ló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Relación Colabora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7:34:14Z</dcterms:created>
  <dc:creator>SUSAN</dc:creator>
  <dc:description/>
  <dc:language>en-US</dc:language>
  <cp:lastModifiedBy>SUSAN</cp:lastModifiedBy>
  <dcterms:modified xsi:type="dcterms:W3CDTF">2010-04-14T19:53:40Z</dcterms:modified>
  <cp:revision>16</cp:revision>
  <dc:subject/>
  <dc:title>Diapositiva 1</dc:title>
</cp:coreProperties>
</file>