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DA18-6A94-4C06-9E84-983CF9E7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9808-DAFA-4791-9EC6-D2E171E1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51DD-D2FD-4F76-8E63-BB792E373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7788-6F8C-493A-842B-7EC7033BD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9BFC-33C5-4EFA-862A-440291A1B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9D7E-274E-487D-B20F-FF1B9A4E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2800-E79E-4D85-B94C-0947CB89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52C9-9DDB-42C8-8A87-1465FE04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FFDC-C01C-4F56-B3FF-19AE4C94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063A-AF7E-4E3C-AEDE-8AD65E37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8E08-E9AB-48B5-9841-DDE8B295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3CB0-9488-427D-994D-061B77DF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5D5A-48ED-4C24-87A7-C5A3323F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80B6-6997-438A-BE49-F0AA3EA1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5884-ADD3-4B61-808E-30DB4181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6B8C-4F0A-4D2B-B343-BAB341A0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9CE6-6A47-4E58-A758-024B839D2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08FF-B5D9-471C-9F6F-C940D984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9AAF-86BE-42EB-B4A4-CFDD8CBA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D770-06E0-40BD-900B-D008FDCF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7D1F-3CBF-46C7-885F-C1829317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D9A7-CA85-44C5-AA44-BC8437F9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5C55-9B42-4AEE-81EC-5FE11603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625B-290D-40A0-A087-B598C6D5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E099-F4E6-4F49-A9E2-8F0BCB1F57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C10B-24EC-4516-851B-E4ED4C3E0E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26920" y="1052640"/>
            <a:ext cx="739152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CL" sz="4800" spc="-1" strike="noStrike">
                <a:solidFill>
                  <a:srgbClr val="ffffff"/>
                </a:solidFill>
                <a:latin typeface="Arial"/>
              </a:rPr>
              <a:t>Evolución del modelo cognitivo: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ffffff"/>
                </a:solidFill>
                <a:latin typeface="Arial"/>
              </a:rPr>
              <a:t>Desde el conductismo al constructivista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Arial"/>
              </a:rPr>
              <a:t>Yañez J., (2004)</a:t>
            </a: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380880"/>
            <a:ext cx="8305920" cy="5943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332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PERÍODO COGNITIVO INTERPERSON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413000"/>
            <a:ext cx="8569080" cy="55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bran relevancia las relaciones interpersonales significa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xponentes: Safran y Segal, Mahoney, Guidano y Liotti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cluye aportes de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teoría interpersonal, la psicología experiencial y la teoría del apeg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gnitiva por el énfasis en la manera que el sujeto construye las representaciones de su experi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sujeto ordena la realidad de acuerdo a su organización particular, dada en función a sus estructuras cognitiv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s estructuras cognitivas se desarrollan creciente y continuamente en base a las relaciones interperson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Objeto de Estudi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ducta, Procesos Cognitivos (Énfasis en las relaciones, Esquemas Cognitivos Interpersonal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pistemologí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ansición hacia la Constructivista que se consolida en el período constructivi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cepto de Real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Flujo Const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i bien existe una realidad externa, no es import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mporta como el sujeto la orde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cepto de Suje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ctivo: Construye su propia rea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erapeu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rea las condiciones del cambio. El Paciente responsable de su reorde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Énfasis en la Relación terapéu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32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PERÍODO COGNITIVO INTERPERS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1448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PERÍODO CONSTRUCTIVIST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052640"/>
            <a:ext cx="9144000" cy="53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concibe la realidad desde la experiencia del suje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ncepto de Multiverso (Maturan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 es posible la Objetiv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alidad construida en el Lengua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laboración individual y colectiva de interpret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odo fenómeno cognitivo implica procesos activos y pro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mente es fruto de un proceso auto-constructivo, de la interacción del sujeto con el amb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l conocimiento resulta ser una construcción progresiva y jerárquica de modelos de realidad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experiencia humana ocurre a dos niveles: inconsciente y consciente, y se reordena en función de mantener la coherencia del sí mismo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14508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Arial Black"/>
              </a:rPr>
              <a:t>PERÍODO CONSTRUCTIVIST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Objeto de Estudi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ducta y Procesos Cognitivos (énfasis en cómo el sujeto construye su realidad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pistemologí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tructivis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cepto de Real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No existe una realidad ún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epende del observa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construida en el lengua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cepto de Suje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ctivo y co-constructor de su rea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erapeu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rea las condiciones del cambio. El Paciente responsable de su propia experiencia y de su aprendiza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Énfasis en la Relación terapéu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457200"/>
            <a:ext cx="80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METATEORÍ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1268280"/>
            <a:ext cx="8496000" cy="54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ropuesta de orden epistemológico que da cuenta del conocimiento desde una perspectiva determinada y que puede ser simboliz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s deci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Marco de conocimiento unific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d de teorías interrelacionad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Objetivo: Dar cuenta de un fenóme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imbolizan la realidad a través de categorías conceptuales y consensu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000" y="547920"/>
            <a:ext cx="80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METATEORÍ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755640" y="1700280"/>
            <a:ext cx="76327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EN EL ÁMBITO EPISTEMOLÓGIC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poner una noción de lo rea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. Proponer una relación del sujeto con la realidad, como fuente legítima de conoc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-720"/>
            <a:ext cx="80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METATEORÍ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765000"/>
            <a:ext cx="7921440" cy="46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cc00"/>
                </a:solidFill>
                <a:uFillTx/>
                <a:latin typeface="Verdana"/>
              </a:rPr>
              <a:t>EN EL ÁMBITO PARADIGMÁTIC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elimitar un objeto de estudio o campo de interés  del conoc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2. Establecer un dominio de operaciones metodológicas pertinentes que permitan la generación  de ese conocimiento de acuerdo con los marcos epistemológicos definidos por el sujeto cognoscente en un marco conceptual intersubje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EVOLUCIÓ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ongruente con un desarrollo y contexto histór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ambios relevantes en sus fundam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ncorporación de nuevos elem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547920"/>
            <a:ext cx="80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PERÍODO CONDUCTU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1413000"/>
            <a:ext cx="7632720" cy="42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undado por Watson a principios del S. XX, adquiere relevancia a mediados de sig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rincipales Postul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iega existencia de la “mente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experiencia se reduce a secreciones glandulares y movimientos muscula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conducta humana se encuentra determinada casi exclusivamente por las influencias ambi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procesos inconscientes se encuentran más allá del campo de la investigación científica.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144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PERÍODO CONDUCTUAL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Objeto de Estudi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ducta Observable y Cuantific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pistemologí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sitivi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cepto de Real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nmanente e Independiente del Suje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uede ser conocida por medio de la observ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cepto de Suje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ecánico: Respondiente y Operante según los requerimientos del med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sivo: No es originador, en él confluyen fact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todolog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étodo Científico-Observación-Leyes Generales-Predi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erapeu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xper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Relación Asimétr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000" y="547920"/>
            <a:ext cx="80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PERÍODO COGNITIVO CLÁSIC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413000"/>
            <a:ext cx="8569080" cy="47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rge con la Revolución Cognitiva de los ´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xponentes: Beck, Ellis, Meichenba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Conducta Observable no es suficiente para explicarse la complejidad del ser hum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urge el estudio de las variables mediacio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cognición determina los afectos y la conducta de las perso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u particular forma de procesar la información es determin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procesos mediacionales se organizan en base a una estructura y su dinámica determina el estilo personal (Esquemas cognitivos inconsientes, distorsiones cognitivas, p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nsamientos automátic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4508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Arial Black"/>
              </a:rPr>
              <a:t>PERÍODO COGNITIVO CLÁSICO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Objeto de Estudi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onducta y Procesos Mentales (Fundamentalmente procesos  Mediacionales, del pensamient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pistemologí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ositivi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cepto de Realida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Independiente del Suje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ognoscible mediante la observación y la raz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cepto de Suje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Racional: Primacía de lo Cognitivo. El sujeto funciona en base a las ideas que tiene de sí mismo, del mundo y los demá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etodologí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Método Científico-Observación-Leyes Generales-Predi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Racionalidad: Lógica, Deducción e Inferencia Ra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erapeu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xperto en las leyes de la Ló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Relación Colabora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7:34:14Z</dcterms:created>
  <dc:creator>SUSAN</dc:creator>
  <dc:description/>
  <dc:language>en-US</dc:language>
  <cp:lastModifiedBy>SUSAN</cp:lastModifiedBy>
  <dcterms:modified xsi:type="dcterms:W3CDTF">2010-04-14T19:53:40Z</dcterms:modified>
  <cp:revision>16</cp:revision>
  <dc:subject/>
  <dc:title>Diapositiva 1</dc:title>
</cp:coreProperties>
</file>