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A34-F747-4F2F-A283-6EF01310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044-1ED8-425E-B873-984FBD1D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5C46-A2ED-4AF9-A24B-D4EABE70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002-53CC-4FE3-937E-78D835F0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B4ED-0664-47FC-AD53-4E4453F7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0E97-7096-465C-8690-37B5A738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619B-9FEC-48FA-A3DF-E90B8FE1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8168-0061-4623-8968-12C006DE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BC3B-31A7-44D3-B61C-2741B337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4561-4E00-4783-A0B4-7DD9A4E2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1FCD-C9A1-429C-8E57-A89D8DE7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544-0B9B-4A10-9D94-A4B5576E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72BC-3A2E-483B-AAEA-0D2287ED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3318-D392-4282-ABF2-CEEED20B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AD2D-EC0D-4678-87D7-D1DBBA67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9E32-9853-47F8-A9EF-9C37A69F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B585-F1F4-4261-9069-9BE24642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D8E-409A-44F2-B946-CF67F64E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0BE-67C1-405F-9EBB-CD70BB80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759-7E38-4B57-9632-62B33AB8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B23-B82F-4887-B075-F552896A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4437-C9B7-4C35-87CE-C80FE492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99F-952B-454B-B961-680B5E2D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AD0B-DE17-4210-AB87-94B90D7C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0B12-1387-4D7E-87E0-5E53ACD9175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418C-E8BF-4CBA-8D05-07696E6F6547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ERSONAL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vin, L. (1998) Estudio científico de la personalidad. En L. Pervin,  La ciencia de la personalidad. Madrid: McGraw H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Psicopatologí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stornos del Estado de Áni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pres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ania y Trastorno Bipo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u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uici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obias Específ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nsiedad General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Trastornos de Pán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garofob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obia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Trastorno Obsesivo Compuls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-36360" y="-27000"/>
          <a:ext cx="9216720" cy="8048520"/>
        </p:xfrm>
        <a:graphic>
          <a:graphicData uri="http://schemas.openxmlformats.org/drawingml/2006/table">
            <a:tbl>
              <a:tblPr/>
              <a:tblGrid>
                <a:gridCol w="2447640"/>
                <a:gridCol w="4392720"/>
                <a:gridCol w="2376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. del E° de áni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stornos de Ansi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. Aliment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79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turbaciones en el estado emoc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r un período prolong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Depresión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istez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dida de interés en actividad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siva culp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timientos de minusvalí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sienten cans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omn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cción que va más allá de un evento estresa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Manía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ufo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trema activ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tud grandez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peranza ilimitad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ede comportarse agresiv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ntrol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Bipolaridad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íodos de manía alternados con depres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nos frecue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gual prevalencia hombres y muje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onente heredita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siedad como rasgo y como estad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.: Fisiológico, Cognitivo y Mot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edo desproporcionado a las circunstancias, Afecta la vida normal del sujeto, A menudo hay un evento desencadenante, Mayor propensión en sujetos que piensan que son incapaces de controlar eventos estresa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Fobias Específicas</a:t>
                      </a:r>
                      <a:r>
                        <a:rPr b="0" lang="es-ES_tradnl" sz="1300" spc="-1" strike="noStrike">
                          <a:solidFill>
                            <a:srgbClr val="33ccff"/>
                          </a:solidFill>
                          <a:latin typeface="Tahoma"/>
                        </a:rPr>
                        <a:t>: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edo intenso, excesivo, irracional y paralizante a algo particular. Interfiere en la vida normal del suje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Fobia Social</a:t>
                      </a:r>
                      <a:r>
                        <a:rPr b="0" lang="es-ES_tradnl" sz="1300" spc="-1" strike="noStrike">
                          <a:solidFill>
                            <a:srgbClr val="33ccff"/>
                          </a:solidFill>
                          <a:latin typeface="Tahoma"/>
                        </a:rPr>
                        <a:t>: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or excesivo a situaciones interpersonales. Desempeño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Agorafobia:</a:t>
                      </a:r>
                      <a:r>
                        <a:rPr b="0" lang="es-ES_tradnl" sz="1300" spc="-1" strike="noStrike">
                          <a:solidFill>
                            <a:srgbClr val="33ccff"/>
                          </a:solidFill>
                          <a:latin typeface="Tahoma"/>
                        </a:rPr>
                        <a:t>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ás intensa que la fobia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ores múltiples e intensos. Terror a distanciarse de las fuentes de seguridad. Menor frecuencia que la fobia social. Dificulta vida n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Trastorno de Pánico:</a:t>
                      </a:r>
                      <a:r>
                        <a:rPr b="0" lang="es-ES_tradnl" sz="1300" spc="-1" strike="noStrike">
                          <a:solidFill>
                            <a:srgbClr val="33ccff"/>
                          </a:solidFill>
                          <a:latin typeface="Tahoma"/>
                        </a:rPr>
                        <a:t> </a:t>
                      </a: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edo intenso e incomodidad en ausencia de un peligro real. Existe una causa específica de ansiedad.Experiencia repentina e impredecible. Síntomas: palpitaciones, sudoración, dolor de pecho y abdominal, nauseas, mareos, miedo de perder el control, de morir o “volverse loco”. Puede generar agorafob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Trastorno de Ansiedad Generalizada: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ores prolongados, vagos e intensos. No están relacionados con algo específico. Síntomas: incapacidad para relajarse, tensión muscular, incertidumbre hacia el futuro, hipervigilancia, insomnio, etc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Trastorno obsesivo – Compulsivo: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ansiedad se produce al tratar de evitar o eliminar las obsesiones y/o compulsiones. El comportamiento tiene como objeto controlar la ansie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vera distorsión en la percepción de la propia figura y el p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edo a engord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Anorexia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érdida de peso auto impues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hazo a mantener un peso corporal n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ulimia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etidos episodios de atracones, seguidos por conductas compensatorias inapropia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sicología de la Salu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ntera L. (2004) Psicología Comunitaria de la salud. En: Introducción a la Psicología Comunitari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Conceptos Fundament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cepto de comun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Dimensiones y significado de comun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Fundamentos comunitarios de la salu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66"/>
                </a:solidFill>
                <a:latin typeface="Tahoma"/>
              </a:rPr>
              <a:t>De la Biopsicopatología clínica a la biopsicosociolología comunit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texto en U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Factores externos sociocult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volución general de las disciplinas, profesiones y serv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rísis del modelo biomédico tradi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66"/>
                </a:solidFill>
                <a:latin typeface="Tahoma"/>
              </a:rPr>
              <a:t>Recursos teóricos y metodológ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reven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rés psico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Intervención en crí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1965240"/>
            <a:ext cx="77724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333399"/>
                </a:solidFill>
                <a:latin typeface="Tahoma"/>
              </a:rPr>
              <a:t>FIN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… que les vaya muy bien en todo lo que sigue, que logren todos sus sueños y metas!!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99"/>
                </a:solidFill>
                <a:latin typeface="Tahoma"/>
              </a:rPr>
              <a:t>El Estudio Científico de la Personal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Por qué se dice que todos los seres humanos somos científicos de la Persona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Orígenes de estudio científico de la Pers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es son las tradiciones científicas en el estudio de la persona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Aproximación Clí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implica la aproximación clínic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Charc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Ja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Pri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Freu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Murr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Aproximación Clí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Importancia de la Guerra para el estudio de la Pers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Ro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Ke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Limitaciones de esta aproxi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Ventajas de esta aproxi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Aproximación Correlacio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Qué incluy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Elementos destac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Énf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Aportes de Gal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Aportes de Catell y Eysen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delo de la Personalidad de los 5 fact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Limitaciones de esta aproxim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Ventajas de esta aproxim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Aproximación Experime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Qué imp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recursores: Wundt, Ebbinghaus, Pavl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ductistas: Watson, Hull, Ski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Cognitivos o Cognosi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Limitaciones de esta aproxi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Ventajas de esta aproxi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Comparación de las 3 aproxim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lementos Compart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Difere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Objetivos Científicos Compart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Hacia una integración de los 3 mode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Normalidad v/s Anormalidad</a:t>
            </a:r>
            <a:br>
              <a:rPr sz="4400"/>
            </a:b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sicopat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rris, G.C. (2005) Psicología (12 ed.). Prentice Hall. Mexico, Cap. 13 (p. 485 – 50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Perspectivas sobre los Trastornos: Normalidad v/s Anormalida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riterios de 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ndivid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ofesional de la salud men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Visiones históricas de los trastornos psicológ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Naturaleza de las enfermedades ment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ausas de los trastor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ta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lasificación (DSM-I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eval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fermedades mentales y la 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7-07T03:50:31Z</dcterms:modified>
  <cp:revision>26</cp:revision>
  <dc:subject/>
  <dc:title>Control</dc:title>
</cp:coreProperties>
</file>