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D57-84EC-4EDE-A36B-09554DAB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AE7-0A0F-4298-8F4B-7AEA4FB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719-8F0D-42AD-96B2-BA1DA66D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2B4-6667-4F95-84F9-03125A34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5F1C-17FB-4D26-B8B3-6C0D5ABE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638F-6CD4-4776-9128-A5B78292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25F0-F9E9-4ABE-AB24-92AD6E50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2237-E954-429D-8DB4-3D4E4C8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D787-2131-46EB-91E7-A8168000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2B01-2E39-4579-952D-7F431ACC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0781-F665-4D57-A149-6956F85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363-8CE9-43E8-B608-3BC04584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5505-A49B-46F0-AF74-C7955912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3650-985E-4207-8B05-61DB76CF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E925-E48E-4D35-B04A-8D71352E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7886-74A0-4AD2-AF93-B288532E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14E8-293A-4B9B-B870-37349090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443-71FA-4E5B-9DAA-038A303B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F62-D642-4BAE-8091-320E0D01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E7D-BCC6-4D9C-9725-074D654A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3EC-6595-4A79-A38F-A5725BB7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C40-1367-4BDC-A0A2-5B2B08F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4D9-A0AE-47D5-878F-61FEEF85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673-9998-4508-AB5A-8FF5308A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F5AC-46A9-4339-9C20-D5B919D16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5D49-70A7-4814-A807-674A3EA848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orris, Cap.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Ilusiones Visu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demuestran las ilusiones visu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lusiones per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iguras reversibles y señales engañosas de 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sos de estas ilu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elículas tridimens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intura o fotograf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influye el origen étnico en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ultura y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ementos que influyen en la percep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ilo cognosc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dependiente del ca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xperiencia y 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OBRE EL LENGUAJE HUM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cheverría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El Lenguaje Humano como Dominio Consensu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ómo nace el lenguaje human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el lenguaje pertenece al dominio consensu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r qué se dice que los seres humanos vivimos en un mundo lingüístic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qué se refiere la expresión “el lenguaje es una coordinación de coordinación de accion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ba la capacidad recursiva del lengu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donde viene la capacidad reflexiva y la razón hum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estructurale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áles son las condiciones históricas para el surgimiento del lenguaj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El individuo como construcción lingü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A qué se refiere la idea de que los seres humanos somos fenómenos social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se entiende por práctica soci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or qué los individuos se constituyen como tales a partir del lugar que ocupan dentro de un sistema lingüístico más ampl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ba la relación mutua que existe entre los sistemas lingüísticos y el comportamiento individu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Vuelta a la Ontología del Lengu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 qué se refiere la sustitución del lenguaje del ser por el del deven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entiende el concepto de ver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Unidad entre orador, lenguaje y 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or qué se dice que se coloca a la acción en el cen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xiomas de la Comun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Watzlawick, p.49-7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xi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escripción del Enfoque Interaccional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 como comport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articipación en proceso comunic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mposibilidad de no comun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Niveles de contenido y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Puntuación de la secuencia de hec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municación digital y analóg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nteracción simétrica y comple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om, Estudio de la Inteligencia Hum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euerstein, Entrev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PERCEPCIÓN</a:t>
            </a:r>
            <a:br>
              <a:rPr sz="2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En qué consist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Dónde tiene lugar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la materia prima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EL ESTUDIO DE LA INTELIGENCIA HUMANA: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RECAPITULACIÓN ANTE EL CAMBIO DE</a:t>
            </a:r>
            <a:br>
              <a:rPr sz="1600"/>
            </a:br>
            <a:r>
              <a:rPr b="1" lang="es-MX" sz="1600" spc="-1" strike="noStrike">
                <a:solidFill>
                  <a:srgbClr val="333399"/>
                </a:solidFill>
                <a:latin typeface="Tahoma"/>
              </a:rPr>
              <a:t>MILENI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tivos del Estancamiento en los años 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étodos de análi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ests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la estructura de la intelig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canismos 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vances en el conocimiento de la estructura y los mecanismos básicos de la inteli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nocimiento y creencias acerca de la</a:t>
            </a: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incidencias entre las concepciones populares y cient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aturaleza y funciones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inteligencia como una capac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onalidad adaptativ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No es una propiedad exclusiva de los seres human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lación con la estructura y el funcionalismo del cereb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 más importantes para formalizar una teoría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stinción entre inteligencia y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étodos de 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uerdos actuales sobre el estudio científico de la inteli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Qué sabe la Psicología sobre la Inteligenci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incipales puntos de encuentro de los especialistas en el estudio científico actual de la intelig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Puntos que aborda el Informe de la APA </a:t>
            </a: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MX" sz="1200" spc="-1" strike="noStrike">
                <a:solidFill>
                  <a:srgbClr val="000000"/>
                </a:solidFill>
                <a:latin typeface="Tahoma"/>
              </a:rPr>
              <a:t>American Psychological Associ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genda para la Investigación del siglo 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 inteligencia en la práctica profesion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Hasta qué punto miden con precisión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Están sesgados los test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videncias sobre la validez predictiva de los tests de inteligen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studios sobre las relaciones entre CI y rendimiento esco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guntas para responder en relación a la evidencia encontrad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cuál es la importancia del ambiente familiar para el desarrollo de la inteligencia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Las diferencias de inteligencia ¿son un resultado de las experiencias escolar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El mundo laboral: Investigaciones disponibles sobre rendimiento en el traba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¿Por qué predicen las medidas estandarizadas de inteligenci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ates sociopolíticos sobr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latos sociales de la intelig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omplejidad de las sociedades moder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Es posible aumentar la inteligenc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inteligencia en la sociedad del siglo XX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Propuesta Teórica de Reuven Feuerstein y sus sistemas aplicados</a:t>
            </a:r>
            <a:br>
              <a:rPr sz="2000"/>
            </a:b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Entrevista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PRENDER A SER INTELIG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ruya la teoría de Feuerstein a partir de los conceptos de las  entrevistas. Consid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oncepción de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edición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étodo para estudiar la modificabilidad del indiv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privación cultur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¿PODEMOS SER MÁS INTELIGENTE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paración que entrega la pedagogía actual y sus efe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rte de su teoría de la modificabilidad de las estructuras cogn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fectividad de la teoría y comprobación cientí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Grados de inmadu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exibilidad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nsmisión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Relación entre transmisión cultural y desarrollo de la intel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ENES, TRADICIONALES Y ESTÍMUL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ción de su teoría de la modificabilidad estructural cogn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ímite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spectos clínicos de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ase antropológica respalda su teor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dición y a la unión de la familia en la may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l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Uso del término “Potenciali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tudes, Prejuicios y Relaciones Huma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on, Cap. 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Actitu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Qué son las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e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moci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quisición de cree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xperiencia perso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racción con los o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os Masivos de comuni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amiento fortui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or qué algunas creencias se traducen en acción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edi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odificación de actitu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diciones ideales para la persu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eoría de la Disonancia Cogniti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Lavado de cerebro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filiación a sect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clutamien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vers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rejuic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l preju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ausas de los conflicto de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e adquieren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a personalidad prejui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surgen los estereoti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ómo combatir los preju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iénes investigaron los principios básicos de la percep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significa la palabr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 es el supuesto de la Gestal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stinción Figura/Fo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amufla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arrollo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Hoffman, Cap.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La naturaleza del desarrollo hum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racterísticas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umu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rec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iferenci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Organ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Holíst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lejidad del estudio del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Objetivos del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ar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edec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lacio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iclo de Vid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Marcador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Bioló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onólog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sarrollo Prenat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fa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iñ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olescenci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dulte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 del camb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ontinuidad v/s discontinu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erminantes del desarrol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Herencia v/s amb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Naturaleza: Determinantes biológic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de la espe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aracterísticas genéticas 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Crianza: Determinantes ambient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Fís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oci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dividu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Grupa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Ánimo y que les vaya muy bien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Organización Percep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A qué se refiere el concepto de constancia perceptual?</a:t>
            </a: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for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stancia de tam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rincipios Gestálticos de la Organización Percep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oxim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mej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inu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mportancia para los organismos y su adap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¿Cuáles son las señales monocula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á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Gradiente de tex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spectiva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aralaje de mov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ñales monoculares de dist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perpos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ev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ombr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Distancia y Profund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señales binocul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¿Qué nos permi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isión estereoscóp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Disparidad retin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Convergencia de los o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So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Mono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ñales Bina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ómo oper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ercepción de Mov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re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Movimiento apa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Ilusión autociné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estroboscóp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Fenómeno P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vimiento indu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6-10T03:39:22Z</dcterms:modified>
  <cp:revision>19</cp:revision>
  <dc:subject/>
  <dc:title>Control</dc:title>
</cp:coreProperties>
</file>