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59A3-7C4A-4B97-9C9A-F166DBA8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9AA-0750-4A93-A6EE-4AF435A1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9F5-D8E3-45DA-8E53-0003D4EA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09A-F47C-4533-8531-EF08920A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C67A-2506-4D91-8286-FD6077E8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45CF-1518-4FCC-AB46-A440F0F5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C864-4862-4D1A-92C9-791BD6DC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C032-C937-4913-9C48-7B705FB9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FA13-0F7D-4589-81A8-5DD036DB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72DE-0F80-43BD-AD01-2FDCADB4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D5FB-97EA-4248-A964-528F8A99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33E-4265-4B3F-A06F-5BAAEBCF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75E8-5172-4CB7-B1E2-04F635EC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BD96-D4F8-4598-AAD6-F097C4B3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0C16-D973-4587-A8DC-92575615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2E35-D257-48AC-A116-1A921388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80D6-16B2-472A-9701-9997B1D1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65D-29CC-41EF-8A73-FD0D8EDB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1EA-F8AC-4192-935D-3C6A14AD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CBF-045A-49AE-80E3-70511579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F2B-71EE-4AAE-8216-EECA3782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3F2-C608-45BA-B62C-A61E7598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A1E-B713-4FBB-858D-4CE65D33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B54-3C82-4111-A2C1-C818F6E4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4BFA-B847-442D-B0BD-4D5F16C5A7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7A54-CC01-4761-9337-39034C393D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orris, Cap.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Ilusiones Visu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demuestran las ilusiones visual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Ilusiones per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Figuras reversibles y señales engañosas de profund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sos de estas ilus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elículas tridimens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intura o fotograf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influye el origen étnico en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ultura y Gé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Val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cta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ilo cognosci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riencia y cul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ers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SOBRE EL LENGUAJE HUMA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cheverría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El Lenguaje Humano como Dominio Consensu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ómo nace el lenguaje human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el lenguaje pertenece al dominio consensu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los seres humanos vivimos en un mundo lingüístic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 qué se refiere la expresión “el lenguaje es una coordinación de coordinación de acciones”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criba la capacidad recursiva del lengua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 donde viene la capacidad reflexiva y la razón hum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estructurale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histórica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 individuo como construcción lingüíst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A qué se refiere la idea de que los seres humanos somos fenómenos social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se entiende por práctica soci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or qué los individuos se constituyen como tales a partir del lugar que ocupan dentro de un sistema lingüístico más ampli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ba la relación mutua que existe entre los sistemas lingüísticos y el comportamiento individu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Vuelta a la Ontología del Lengua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 qué se refiere la sustitución del lenguaje del ser por el del deveni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entiende el concepto de ver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nidad entre orador, lenguaje y a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or qué se dice que se coloca a la acción en el cent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xiomas de la Comun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Watzlawick, p.49-7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xiom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pción del Enfoque Interaccional</a:t>
            </a: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 como comport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articipación en proceso comunic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mposibilidad de no comunic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Niveles de contenido y rel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untuación de la secuencia de hech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digital y analóg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teracción simétrica y complement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lom, Estudio de la Inteligencia Hum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Feuerstein, Entrev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br>
              <a:rPr sz="2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En qué consist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Dónde tiene lugar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la materia prima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EL ESTUDIO DE LA INTELIGENCIA HUMANA: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RECAPITULACIÓN ANTE EL CAMBIO DE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MILENIO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tivos del Estancamiento en los años 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étodos de análi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ests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odelos de la estructura de la inteligenc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canismos fun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vances en el conocimiento de la estructura y los mecanismos básicos de la intelig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Conocimiento y creencias acerca de la</a:t>
            </a:r>
            <a:br>
              <a:rPr sz="2000"/>
            </a:b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incidencias entre las concepciones populares y científ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Naturaleza y funciones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inteligencia como una capac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uncionalidad adaptativ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o es una propiedad exclusiva de los seres human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lación con la estructura y el funcionalismo del cereb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blemas más importantes para formalizar una teoría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stinción entre inteligencia y conoc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étodos de med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uerdos actuales sobre el estudio científico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Qué sabe la Psicología sobre la 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incipales puntos de encuentro de los especialistas en el estudio científico actual de la intelig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Puntos que aborda el Informe de la APA </a:t>
            </a: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s-MX" sz="1200" spc="-1" strike="noStrike">
                <a:solidFill>
                  <a:srgbClr val="000000"/>
                </a:solidFill>
                <a:latin typeface="Tahoma"/>
              </a:rPr>
              <a:t>American Psychological Associ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Agenda para la Investigación del siglo 2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 inteligencia en la práctica profesion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Hasta qué punto miden con precisión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Están sesgados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videncias sobre la validez predictiva de los tests de inteligenc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studios sobre las relaciones entre CI y rendimiento escol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eguntas para responder en relación a la evidencia encontrada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cuál es la importancia del ambiente familiar para el desarrollo de la inteligencia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s diferencias de inteligencia ¿son un resultado de las experiencias escolar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l mundo laboral: Investigaciones disponibles sobre rendimiento en el trabaj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Por qué predicen las medidas estandarizada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ates sociopolíticos sobr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latos sociales d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omplejidad de las sociedades moder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Es posible aumentar la inteligenci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inteligencia en la sociedad del siglo XX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ahoma"/>
              </a:rPr>
              <a:t>Propuesta Teórica de Reuven Feuerstein y sus sistemas aplicados</a:t>
            </a:r>
            <a:br>
              <a:rPr sz="2000"/>
            </a:br>
            <a:r>
              <a:rPr b="0" lang="es-ES" sz="2000" spc="-1" strike="noStrike">
                <a:solidFill>
                  <a:srgbClr val="333399"/>
                </a:solidFill>
                <a:latin typeface="Tahoma"/>
              </a:rPr>
              <a:t>Entrevist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PRENDER A SER INTELIG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ruya la teoría de Feuerstein a partir de los conceptos de las  entrevistas. Conside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ncepción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edición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étodo para estudiar la modificabilidad del individ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privación cultur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¿PODEMOS SER MÁS INTELIGENTE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eparación que entrega la pedagogía actu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porte de su teoría de la modificabilidad de las estructuras cogn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fectividad de la teoría y comprobación científ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Grados de inmadur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Flexibilidad del ser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nsmisión 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lación entre transmisión cultural y desarrollo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GENES, TRADICIONALES Y ESTÍMUL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licación de su teoría de la modificabilidad estructural cogni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tor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ímite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spectos clínico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Base antropológica respalda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radición y a la unión de la familia en la may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l ser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so del término “Potencialid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ctitudes, Prejuicios y Relaciones Huma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on, Cap. 1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ctitu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Qué son las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e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moci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c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quisición de creenci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xperiencia pers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teracción con los otr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os Masivos de comunic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amiento fortui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or qué algunas creencias se traducen en acción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odifica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es ideales para la persu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Teoría de la Disonancia Cogniti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Lavado de cerebr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 a sect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Reclutamien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vers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Prejuici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l preju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 los conflicto de gru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adquieren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La personalidad prejuici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urgen los 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combatir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iénes investigaron los principios básicos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significa la palabr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el supuesto de l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Distinción Figura/Fo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amufla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br>
              <a:rPr sz="4400"/>
            </a:b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Hoffman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La naturaleza del desarrollo huma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racterísticas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ntinu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Acumula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rec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ferenci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Organiz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Holíst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mplejidad del estudio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Objetivos del 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escrib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mpar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edec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Relacion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Ciclo de Vid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arcador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Bioló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onólo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sarrollo Prenat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fa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iñ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olescenci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ult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 del camb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tinuidad v/s discontinu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terminant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Herencia v/s ambie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: Determinantes biológic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de la especi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: Determinantes ambient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Fís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Grup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FIN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… Ánimo y que les vaya muy bien!!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A qué se refiere el concepto de constancia perceptual?</a:t>
            </a: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for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tama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rincipios Gestálticos de la Organización Percep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roxim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mejan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ier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tinu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Importancia para los organismos y su adap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Cuáles son las señales monocular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á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Gradiente de tex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aralaje de mov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ñales monoculares de dista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uperposi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lev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ombre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es son las señales binocular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Visión estereoscóp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isparidad retin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vergencia de los o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Mono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Bin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oper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Mov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Qué imp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re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apar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lusión autociné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estroboscóp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Fenómeno Ph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induc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6-10T03:39:22Z</dcterms:modified>
  <cp:revision>19</cp:revision>
  <dc:subject/>
  <dc:title>Control</dc:title>
</cp:coreProperties>
</file>