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63C-6A0B-42C0-A79A-33A182D6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0D2-F685-4409-9055-629689EB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046-59A6-4BC6-8888-21A65376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D81-7F58-4FFE-A183-6EB1E17B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B0D7-C7B2-470B-8A50-EF158284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058C-704D-4F9F-A745-569EB44B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7AE0-9BDB-4985-9530-DAAAF255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78F3-6EBF-4B42-88BA-415B5BDC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6CFB-CA21-4604-9C4F-6DF61C75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10BF-F8A9-4E0A-B01C-CE222A08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3EEE-58DF-49BF-8045-B549F6E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10C-7C1B-4AD2-9194-9DBE9599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C08E-2D17-49DC-9DDA-668A3B7D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468D-9C29-4868-B0C2-43C8102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E2F4-99D8-4514-8EE7-3332714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65A1-742C-4645-89F1-A43966BB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5822-2E81-4A22-B743-4B0BA0DE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E5C-56B5-4E35-BFF3-F312EB6A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3BF-24DE-4F2A-B318-F5576D6C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EE1-F1B6-4086-9852-4FC7D599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377-F98D-4283-A64B-8EF14276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D26-71DB-4777-AD63-E4C8A02F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CD0-2F1F-476E-9A1D-4CCB7048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6F0-A42B-4310-8B39-6F823107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21DF-45C8-4120-9202-7252FE397A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E1F9-5136-4785-97A1-98760E86D6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orris, Cap.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Ilusiones Visu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demuestran las ilusiones visu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lusiones per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iguras reversibles y señales engañosas de 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sos de estas i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elículas tridimens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intura o fotograf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influye el origen étnico en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ultura y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ilo cognosc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riencia y 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SOBRE EL LENGUAJE HUM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cheverría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l Lenguaje Humano como Dominio Consensu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ómo nace el lenguaje human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el lenguaje pertenece al dominio consensu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los seres humanos vivimos en un mundo lingüístic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qué se refiere la expresión “el lenguaje es una coordinación de coordinación de accion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ba la capacidad recursiva del lengu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donde viene la capacidad reflexiva y la razón hum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estructurale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histórica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 individuo como construcción lingü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A qué se refiere la idea de que los seres humanos somos fenómenos socia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se entiende por práctica soci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or qué los individuos se constituyen como tales a partir del lugar que ocupan dentro de un sistema lingüístico más ampl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ba la relación mutua que existe entre los sistemas lingüísticos y el comportamiento individu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Vuelta a la Ontología del Lengu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 qué se refiere la sustitución del lenguaje del ser por el del deven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entiende el concepto de ver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nidad entre orador, lenguaje y 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or qué se dice que se coloca a la acción en el cen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xiomas de la Comun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Watzlawick, p.49-7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xi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pción del Enfoque Interaccional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 como compor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articipación en proceso comun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mposibilidad de no comun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Niveles de contenido y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untuación de la secuencia de hec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digital y ana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teracción simétrica y comple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lom, Estudio de la Inteligencia Hum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euerstein, Entrev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En qué consist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Dónde tiene lugar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la materia prima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EL ESTUDIO DE LA INTELIGENCIA HUMANA: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RECAPITULACIÓN ANTE EL CAMBIO DE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MILENI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ivos del Estancamiento en los años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étodos de análi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sts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la estructura de la intelig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canismos 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vances en el conocimiento de la estructura y los mecanismos básicos de la inteli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Conocimiento y creencias acerca de la</a:t>
            </a: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incidencias entre las concepciones populares y cient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aturaleza y funciones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inteligencia como un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onalidad adaptat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o es una propiedad exclusiva de los seres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lación con la estructura y el funcionalismo del cereb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ás importantes para formalizar una teoría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stinción entre inteligencia y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étodos de 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uerdos actuales sobre el estudio científico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Qué sabe la Psicología sobre la 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incipales puntos de encuentro de los especialistas en el estudio científico actual de la intelig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untos que aborda el Informe de la APA 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American Psychological Associ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genda para la Investigación del siglo 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 inteligencia en la práctica profes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Hasta qué punto miden con precisión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Están sesgados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videncias sobre la validez predictiva de los tests de inteligen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studios sobre las relaciones entre CI y rendimiento esco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guntas para responder en relación a la evidencia encontrad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cuál es la importancia del ambiente familiar para el desarrollo de la inteligencia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s diferencias de inteligencia ¿son un resultado de las experiencias escolar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l mundo laboral: Investigaciones disponibles sobre rendimiento en el traba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Por qué predicen las medidas estandarizada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ates sociopolíticos sobr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os sociales d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omplejidad de las sociedades moder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Es posible aumentar la inteligenc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inteligencia en la sociedad del siglo XX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Propuesta Teórica de Reuven Feuerstein y sus sistemas aplicados</a:t>
            </a:r>
            <a:br>
              <a:rPr sz="2000"/>
            </a:b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Entrevist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PRENDER A SER INTELIG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ruya la teoría de Feuerstein a partir de los conceptos de las  entrevistas. Consid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cepción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edición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étodo para estudiar la modificabilidad del individ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privación cultur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¿PODEMOS SER MÁS INTELIGENT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paración que entrega la pedagogía actu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rte de su teoría de la modificabilidad de las estructuras cogn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fectividad de la teoría y comprobación cientí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Grados de inmadu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exibilidad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nsmisión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ación entre transmisión cultural y desarrollo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ENES, TRADICIONALES Y ESTÍMUL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ción de su teoría de la modificabilidad estructural cogn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ímite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spectos clínico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se antropológica respalda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dición y a la unión de la familia en la may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l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so del término “Potencialid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tudes, Prejuicios y Relaciones Huma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on, Cap. 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ctitu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Qué son las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e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mo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quisición de cree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xperiencia pers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racción con los o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os Masivos de comuni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amiento fortui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or qué algunas creencias se traducen en acción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odifica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es ideales para la persu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eoría de la Disonancia Cogniti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Lavado de cerebr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 a sect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clutami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vers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rejuic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l preju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 los conflicto de gru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adquieren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a personalidad prejui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urgen los 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combatir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iénes investigaron los principios básicos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significa la palabr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el supuesto de l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stinción Figura/Fo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amufla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offman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La naturaleza del desarrollo hum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racterísticas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ntin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umul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rec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ferenci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Organ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Holíst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lejidad del estudio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bjetivos del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escrib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a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edec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lacio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iclo de Vid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arcador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Bioló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onólo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sarrollo Prenat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fa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iñ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olescenci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ult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 del camb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tinuidad v/s discontinu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erminant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Herencia v/s amb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: Determinantes biológic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de la espe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: Determinantes ambient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Fís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Grup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Ánimo y que les vaya muy bien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A qué se refiere el concepto de constancia perceptual?</a:t>
            </a: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tam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rincipios Gestálticos de la Organización Percep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oxim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mej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inu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mportancia para los organismos y su adap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Cuáles son las señales monocula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á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Gradiente de tex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aralaje de mov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ñales monoculares de dist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perpos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ev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ombr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señales binocul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isión estereoscóp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isparidad retin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vergencia de los o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Mono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Bin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oper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Mov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r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apa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lusión autociné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estroboscóp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Fenómeno P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induc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6-10T03:39:22Z</dcterms:modified>
  <cp:revision>19</cp:revision>
  <dc:subject/>
  <dc:title>Control</dc:title>
</cp:coreProperties>
</file>