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141-13AA-4211-AC19-2DAA2DD3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0DE-A87E-4C9E-8104-469290A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D10-57FA-45F3-AE61-4A79DBEA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DB0-8318-4885-AF66-B80D234A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1354-A318-415D-9E19-89C20D71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8550-AA40-4003-90DD-CFA2183B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A77A-D667-40A5-AECE-BE6AECA9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A97C-DDDA-424B-AD14-0A4E2D6F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1790-01CC-43CA-8C71-D37A5C47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1EF0-1C39-402E-A6E9-CD2F6A18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AAE9-01AB-47F9-8AEC-43B128ED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361-D1AF-433E-8262-DE8EE885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2E6D-CBCF-4064-A6E0-A4F4ADAA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76CC-00AD-4FFB-91BD-ACB348D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E7A9-AB8B-4950-B49F-C86C3A80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86FA-ED55-48D3-9786-20EA84B8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4BBE-BB52-4BC2-9282-8DC8D311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A91-0C31-4188-936F-D7AC7D27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2E8-444D-48C4-96D1-3786F506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5C1-6D1B-48B2-86FC-D3AC5C8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94C-4F53-4784-9B78-5F3B2520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3E4-AFC4-44A6-BD80-99AA42D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27F-AE43-433D-9B83-EF67E9A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69E-209D-44E4-A43C-41B7C541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9327-D643-45C1-A398-DB3269029D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6625-7198-42B9-B372-AB5601D138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ep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evolución de la psic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 (p.2 -17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Psicología como cienci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unge M., Ardila R. (2002) Filosofía de la Psicología. Siglo veintiuno editores. México. Cap. 2 y 3 (p.36 – 7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prendizaje y Conduc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5 (p. 185 – 200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l conductismo al constructiv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Yañez J., (2004) "Apunte sobre evolución del modelo cognitivo: Desde el conductismo al constructivista"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l psicoanális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Psicología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(12 ed.). Prentice Hall. Mexico, Cap. 11 (p. 419 – 424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Humanis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oric, A. (2007)“Conceptos Básicos de la Psicoterapia Humanista y Transpersonal”, Apuntes UD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relacional sistémic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Jutorán, S. (1994)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El proceso de las ideas sitémico-cibernética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, Sistemas Familiares, Año 10, N°1, Argent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ONSTRUCTIVIST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Cono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iveles de Funcionamiento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L PSICO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unda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inámica Psíqu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iente, Pre-Conciente, Inconc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Mecanismos de defen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incíp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e realidad,  De Plac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structuras Psíqu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llo, Yo, Super y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arrollo de la Person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tapas de desarrollo Psicosex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ij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Otros post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Ju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d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Horney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SICOTERAPIA HUMANI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 de Ser Hum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Organísm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incipio Holi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rregul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Tendencia Actualiza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aloración Organísm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lujo de Experiê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Existenciales o Fenomenológ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ivir Subjetiv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oceso de Darse Cuen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apacidad de Decisión y Responsabi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Transpers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Niveles o Estados de Conci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s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L Proceso delas Ideas Sistém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smov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r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on Bertalanf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Unificar conoci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sarrollo Interdiscipli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El mapa no es el territorio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Sis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pos de Sistemas y sus 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rtamiento Tele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fina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tes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uta que con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exto y su import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m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l Doble Víncu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terminismo estructu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uente entre mapa y território: Difer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curs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 la Comun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ueva Concep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corporación de la Retroali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clave de las conductas huma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misión em varios nive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xio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Famili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jeto Índ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t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iberné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er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r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nd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tur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eguntas guias de Matura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perar del Sistema Nervio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poie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jetividad del observad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unción del lenguaj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oción de inven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Epistemolofía del cono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ue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rincípios Básic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Construcción activa del conocimient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Función adapatativ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Bringforth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struc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mínio de existê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Viabi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ólo podemos traer a la mano a nuestra conciencia y nuestras descripciones aquello que es consistente con nuestra experiencia en el vivir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PSICOLOGÍA COMO CI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étodo Científ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tas de la Psicología como ci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amas de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EVOLUCIÓN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sarrollo Histór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uctur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cion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Psicodiná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duct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de la Gest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umanismo y Existenci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gnosci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olu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uevos Movimientos en psic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FILOSOFÍA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efiniciones de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Referentes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ragment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ificult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dentidad Psicofís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Unific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Objetivos de la Psicología como ci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escrib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xplic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dec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ondiciones que debe satisfac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Ont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etod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lé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c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ác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NFOQUES EN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un enfo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uáles son los enfo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Atomismo, El Holismo y El Sistem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Mentalismo, El Conductismo y El Bi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sicología Científ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APRENDIZAJE Y CONDUC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Qué es el aprendiz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ómo surge este e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Cl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jemplos en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Oper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forz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s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eg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t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mparo Apre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NDUCTU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LÁS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INTERPERSON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5-04T21:30:00Z</dcterms:modified>
  <cp:revision>9</cp:revision>
  <dc:subject/>
  <dc:title>Control</dc:title>
</cp:coreProperties>
</file>