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32B0-7A99-4FE1-8011-9E9E464C8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9E7D-E281-43E2-B9D8-CB5647E8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5B82-C7A9-492F-8090-496081F47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96F1-6775-4B60-A270-661713C17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3DF1-842F-4D11-B071-31F6A9427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4125-D2AD-4814-9D3B-89FE9E8E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D5C3-BA90-47BD-9CA3-0728F557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75E8-2748-4BCA-8A68-F47C69B3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8310-0D97-4288-8A46-9C293C83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A14E-55AE-4475-9886-311EFD3C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2BCF-198B-4594-9C39-BCEEA836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EAB0-CF3D-43C1-A3FB-1FDE4EDC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E59A-0A48-46F6-ACB0-E664AA0F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2F2D-E7DF-41CC-98B5-B1AEA59F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0399-46FF-4DEE-8B33-03B42830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D7B1-215C-4370-B43E-6E0C56F6F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25C2-47D5-4E3C-AC0E-6AAB2BDEA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7A87-6849-4F34-98D6-A6A70268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EF81-80EC-4580-B906-0F96F0D8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CE2E-3575-4FA8-984E-13897B78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0241-EE5B-4422-BAF5-B6A3E261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9673-1304-4B09-AE74-6F0EFDC2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DC58-78D5-4050-8042-41AB8C80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A4E2-9883-4903-9D52-35598BBB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B560-4A9A-4554-A83D-91EA54F4ED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0403-80F3-41F2-953B-C831642346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Repa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UNIDAD I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La evolución de la psicologí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Morris, G.C. (2005) Psicología (12 ed.). Prentice Hall. Mexico, Cap. 1 (p.2 -17)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La Psicología como cienci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Bunge M., Ardila R. (2002) Filosofía de la Psicología. Siglo veintiuno editores. México. Cap. 2 y 3 (p.36 – 7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UNIDAD II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Aprendizaje y Conduct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Morris, G.C. (2005) Psicología (12 ed.). Prentice Hall. Mexico, Cap. 5 (p. 185 – 200)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Del conductismo al constructivism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Yañez J., (2004) "Apunte sobre evolución del modelo cognitivo: Desde el conductismo al constructivista"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El psicoanálisis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Morris, G.C. (2005) </a:t>
            </a:r>
            <a:r>
              <a:rPr b="0" i="1" lang="es-CL" sz="1800" spc="-1" strike="noStrike">
                <a:solidFill>
                  <a:srgbClr val="000000"/>
                </a:solidFill>
                <a:latin typeface="Tahoma"/>
              </a:rPr>
              <a:t>Psicología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(12 ed.). Prentice Hall. Mexico, Cap. 11 (p. 419 – 424)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Modelo Humanist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Boric, A. (2007)“Conceptos Básicos de la Psicoterapia Humanista y Transpersonal”, Apuntes UDP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Modelo relacional sistémic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Jutorán, S. (1994)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El proceso de las ideas sitémico-cibernéticas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, Sistemas Familiares, Año 10, N°1, Argentina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EVOLUCIÓN DEL CONSTRUCTIVISMO COGNITIVO</a:t>
            </a:r>
            <a:br>
              <a:rPr sz="2800"/>
            </a:b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PERÍODO COGNITIVO CONSTRUCTIVIST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xpon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Fundamentos o Postul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pistem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Objeto de Est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Re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Suje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Conocimi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Niveles de Funcionamiento del Ser Huma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Normalidad/Anorm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s Destac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EL PSICOANÁLI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ontexto Históric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Fundament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Dinámica Psíquic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Conciente, Pre-Conciente, Inconcien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Mecanismos de defens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Princípi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De realidad,  De Plac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Estructuras Psíquic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Ello, Yo, Super y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Desarrollo de la Personal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Etapas de desarrollo Psicosexu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Fijacio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Otros postulad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Ju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Ad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Horney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SICOTERAPIA HUMANIS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ontexto Históric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oncepto de Ser Human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Epistemologí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onceptos Organísmic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Principio Holis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Autorregula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Tendencia Actualizan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Valoración Organísm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Flujo de Experiênci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onceptos Existenciales o Fenomenológic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Vivir Subjetiv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Proceso de Darse Cuen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Capacidad de Decisión y Responsabil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onceptos Transpersona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Niveles o Estados de Concie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Eg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Ese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MODELO RELACIONAL SISTÉM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EL Proceso delas Ideas Sistémic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smovis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pistem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imer Perío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Von Bertalanff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Unificar conocimien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Desarrollo Interdisciplina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El mapa no es el territorio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cepto de Sistem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ipos de Sistemas y sus Característic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mportamiento Teleológ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quifinal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MODELO RELACIONAL SISTÉM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Bates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auta que conec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texto y su importa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ismogéne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eoria del Doble Víncu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pistemolog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Determinismo estructut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Monis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uente entre mapa y território: Diferenci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Recursiv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MODELO RELACIONAL SISTÉM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eoria de la Comunic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Nueva Concep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Incorporación de la Retroaliment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nclave de las conductas human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Transmisión em varios nive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xiom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istemas Famili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munic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Homeost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Sujeto Índ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atolog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MODELO RELACIONAL SISTÉM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ibernét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ero Or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imer Or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gundo Or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MODELO RELACIONAL SISTÉM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Maturan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Preguntas guias de Maturan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Operar del Sistema Nervios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Autopoiesi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Objetividad del observad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Concepto de real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Función del lenguaj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Constructivism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Noción de invenció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Epistemolofía del conoc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Fuent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Princípios Básic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lnSpc>
                <a:spcPct val="80000"/>
              </a:lnSpc>
              <a:spcBef>
                <a:spcPts val="2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ahoma"/>
              </a:rPr>
              <a:t>Construcción activa del conocimiento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lnSpc>
                <a:spcPct val="80000"/>
              </a:lnSpc>
              <a:spcBef>
                <a:spcPts val="2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ahoma"/>
              </a:rPr>
              <a:t>Función adapatativ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Bringforthism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Construct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Domínio de existênc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Viabilid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sólo podemos traer a la mano a nuestra conciencia y nuestras descripciones aquello que es consistente con nuestra experiencia en el vivir”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PSICOLOGÍA COMO CIENC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Qué es la Psicologí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Método Científ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Metas de la Psicología como cien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Objeto de Estud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Ramas de la Psicologí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EVOLUCIÓN DE LA PSICOLOGÍ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Desarrollo Históric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structuralis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Funcionalis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sicología Psicodinám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ductis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sicología de la Gesta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Humanismo y Existencialis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gnoscit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volut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Nuevos Movimientos en psic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FILOSOFÍA DE LA PSICOLOGÍ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Definiciones de Psicologí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Referentes de la Psicologí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Fragmentación de la Psicologí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Dificultad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Identidad Psicofís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Unificación de la Psicologí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Objetivos de la Psicología como cien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Describi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Explic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Predeci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Condiciones que debe satisfac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Ontológ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Metodológ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Alét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Ecológ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Práct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ENFOQUES EN PSICOLOGÍ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Qué es un enfo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Cuáles son los enfo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El Atomismo, El Holismo y El Sistemis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El Mentalismo, El Conductismo y El Biológ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Psicología Científ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APRENDIZAJE Y CONDUC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Qué es el aprendiza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Cómo surge este estu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Condicionamiento Clás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jemplos en human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Condicionamiento Opera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Reforzami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Positiv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Negativ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asti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Desamparo Aprendi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EVOLUCIÓN DEL CONSTRUCTIVISMO COGNITIVO</a:t>
            </a:r>
            <a:br>
              <a:rPr sz="2800"/>
            </a:b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PERÍODO CONDUCTUA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xpon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Fundamentos o Postul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pistem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Re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Suje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Objeto de Est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Visión de la Terapia y el Terapeu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Normalidad/Anorm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s Destac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EVOLUCIÓN DEL CONSTRUCTIVISMO COGNITIVO</a:t>
            </a:r>
            <a:br>
              <a:rPr sz="2800"/>
            </a:b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PERÍODO COGNITIVO CLÁSICO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xpon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Fundamentos o Postul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pistem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Re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Suje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Objeto de Est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Visión de la Terapia y el Terapeu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Normalidad/Anorm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s Destac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EVOLUCIÓN DEL CONSTRUCTIVISMO COGNITIVO</a:t>
            </a:r>
            <a:br>
              <a:rPr sz="2800"/>
            </a:b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PERÍODO COGNITIVO INTERPERSONA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xpon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Fundamentos o Postul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pistem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Re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Suje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Objeto de Est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Visión de la Terapia y el Terapeu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Normalidad/Anorm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s Destac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23:07:33Z</dcterms:created>
  <dc:creator>SUSAN</dc:creator>
  <dc:description/>
  <dc:language>en-US</dc:language>
  <cp:lastModifiedBy>SUSAN</cp:lastModifiedBy>
  <dcterms:modified xsi:type="dcterms:W3CDTF">2010-05-04T21:30:00Z</dcterms:modified>
  <cp:revision>9</cp:revision>
  <dc:subject/>
  <dc:title>Control</dc:title>
</cp:coreProperties>
</file>