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9579-BF9E-4EE5-B8AC-21D3A06D0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E377-F5BF-403C-A4FB-6D9D58713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FD50-0018-4532-8A4F-4A5F8EC32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6BCB-3AC2-4137-BEF0-96D161687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F4794-EF5B-4074-ACC8-0FC383CC9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4D29C-5AF3-488C-A73A-B2CFB310B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29E65-ADD2-455A-95F7-D866AD742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9589A-5AA6-4859-82FA-A965FD22C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A6CA1-126A-4F86-A84A-9E2CF4B52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E20CA-923A-43EB-AE79-8F56BF3D7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65AB5-A048-4AE5-8929-CEDD3A0B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5650-2EA1-4094-B7EF-6214165B0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A422D-F7BC-4711-A837-B4145611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4A3B4-2046-4AB3-A98A-11CE1455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E62C9-5107-41D8-A349-F57B14759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5CB5A-A1E2-4C67-8530-4CFCF173A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1AAFF-832D-42B7-9EAC-D711EC6EB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8774-88E6-4F4A-A5F8-37BE898CF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216C-68AE-4799-8CC8-83AB2B553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E09C-38C1-49E9-B4C1-A237D0C8F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E21C-54B0-4AC6-AECC-6289118F6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9FD1-7F39-4DD6-8D1E-868F0C31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9F2C-741A-47EE-9C43-7E3481FB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3817-76E0-4027-95DE-2602DEC8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94AEB-8FE5-4CF6-992E-9971F0FF768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DBC23-9D6D-4577-A0A4-2019C986909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Repas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UNIDAD I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La evolución de la psicología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Morris, G.C. (2005) Psicología (12 ed.). Prentice Hall. Mexico, Cap. 1 (p.2 -17)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La Psicología como ciencia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Bunge M., Ardila R. (2002) Filosofía de la Psicología. Siglo veintiuno editores. México. Cap. 2 y 3 (p.36 – 71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UNIDAD II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Aprendizaje y Conducta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Morris, G.C. (2005) Psicología (12 ed.). Prentice Hall. Mexico, Cap. 5 (p. 185 – 200)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Del conductismo al constructivismo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Yañez J., (2004) "Apunte sobre evolución del modelo cognitivo: Desde el conductismo al constructivista"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El psicoanálisis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Morris, G.C. (2005) </a:t>
            </a:r>
            <a:r>
              <a:rPr b="0" i="1" lang="es-CL" sz="1800" spc="-1" strike="noStrike">
                <a:solidFill>
                  <a:srgbClr val="000000"/>
                </a:solidFill>
                <a:latin typeface="Tahoma"/>
              </a:rPr>
              <a:t>Psicología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 (12 ed.). Prentice Hall. Mexico, Cap. 11 (p. 419 – 424)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Modelo Humanista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Boric, A. (2007)“Conceptos Básicos de la Psicoterapia Humanista y Transpersonal”, Apuntes UDP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Modelo relacional sistémico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Jutorán, S. (1994)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El proceso de las ideas sitémico-cibernéticas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, Sistemas Familiares, Año 10, N°1, Argentina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333399"/>
                </a:solidFill>
                <a:uFillTx/>
                <a:latin typeface="Tahoma"/>
              </a:rPr>
              <a:t>EVOLUCIÓN DEL CONSTRUCTIVISMO COGNITIVO</a:t>
            </a:r>
            <a:br>
              <a:rPr sz="2800"/>
            </a:br>
            <a:r>
              <a:rPr b="1" lang="es-MX" sz="2800" spc="-1" strike="noStrike" u="sng">
                <a:solidFill>
                  <a:srgbClr val="333399"/>
                </a:solidFill>
                <a:uFillTx/>
                <a:latin typeface="Tahoma"/>
              </a:rPr>
              <a:t>PERÍODO COGNITIVO CONSTRUCTIVIST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xpone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Fundamentos o Postul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pistemolog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Objeto de Est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cepto de Real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cepto de Suje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cepto de M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cepto de Conocimien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Niveles de Funcionamiento del Ser Human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Normalidad/Anormal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ceptos Destac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EL PSICOANÁLI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ontexto Históric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Fundament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Dinámica Psíquic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Conciente, Pre-Conciente, Inconcien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Mecanismos de defens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Princípi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De realidad,  De Plac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Estructuras Psíquica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Ello, Yo, Super y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Desarrollo de la Personalida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Etapas de desarrollo Psicosexua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Fijacion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Otros postulad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Ju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Adl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Horney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PSICOTERAPIA HUMANIS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ontexto Históric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oncepto de Ser Human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Epistemologí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onceptos Organísmic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Principio Holis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Autorregulació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Tendencia Actualizan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Valoración Organísmic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Flujo de Experiência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onceptos Existenciales o Fenomenológic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Vivir Subjetiv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Proceso de Darse Cuen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Capacidad de Decisión y Responsabilida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onceptos Transpersona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Niveles o Estados de Concienci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Eg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Esenci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MODELO RELACIONAL SISTÉM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Tahoma"/>
              </a:rPr>
              <a:t>EL Proceso delas Ideas Sistémic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smovis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pistemolog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rimer Perío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Von Bertalanff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Unificar conocimient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Desarrollo Interdisciplinar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s-ES" sz="1800" spc="-1" strike="noStrike">
                <a:solidFill>
                  <a:srgbClr val="000000"/>
                </a:solidFill>
                <a:latin typeface="Tahoma"/>
              </a:rPr>
              <a:t>El mapa no es el territorio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ncepto de Sistem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Tipos de Sistemas y sus Característic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mportamiento Teleológi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quifinalid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MODELO RELACIONAL SISTÉM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Bates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auta que conec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ntexto y su importan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ismogéne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Teoria del Doble Víncu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pistemolog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Determinismo estructut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Monis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Puente entre mapa y território: Diferenci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Recursivid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MODELO RELACIONAL SISTÉM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Teoria de la Comunic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Nueva Concep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Incorporación de la Retroaliment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Enclave de las conductas human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Transmisión em varios nive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Axiom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Sistemas Famili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omunic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Homeost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Sujeto Índ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Patolog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MODELO RELACIONAL SISTÉM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ibernét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ero Or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imer Or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egundo Or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MODELO RELACIONAL SISTÉM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Maturan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Preguntas guias de Maturan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Operar del Sistema Nervios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Autopoiesi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Objetividad del observado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Concepto de realida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Función del lenguaj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Constructivism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Noción de invenció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Epistemolofía del conoc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Fuent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Princípios Básico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lnSpc>
                <a:spcPct val="80000"/>
              </a:lnSpc>
              <a:spcBef>
                <a:spcPts val="2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ahoma"/>
              </a:rPr>
              <a:t>Construcción activa del conocimiento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lnSpc>
                <a:spcPct val="80000"/>
              </a:lnSpc>
              <a:spcBef>
                <a:spcPts val="2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ahoma"/>
              </a:rPr>
              <a:t>Función adapatativa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Bringforthism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Construct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Domínio de existênci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Viabilida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sólo podemos traer a la mano a nuestra conciencia y nuestras descripciones aquello que es consistente con nuestra experiencia en el vivir”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LA PSICOLOGÍA COMO CIENC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Qué es la Psicologí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Método Científi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Metas de la Psicología como cien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Objeto de Estud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Ramas de la Psicologí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LA EVOLUCIÓN DE LA PSICOLOGÍ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Desarrollo Históric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structuralism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Funcionalism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Psicología Psicodinám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ductism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Psicología de la Gesta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Humanismo y Existencialism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gnoscitiv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volutiv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Nuevos Movimientos en psicolog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LA FILOSOFÍA DE LA PSICOLOGÍ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Definiciones de Psicologí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Referentes de la Psicologí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Fragmentación de la Psicologí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Dificultad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Identidad Psicofísic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Unificación de la Psicologí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Objetivos de la Psicología como cienci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Describi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Explica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Predeci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Condiciones que debe satisfac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Ontológic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Metodológic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Alétic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Ecológic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Práctic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ENFOQUES EN PSICOLOGÍ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Qué es un enfo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Cuáles son los enfo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El Atomismo, El Holismo y El Sistemism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El Mentalismo, El Conductismo y El Biológi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Psicología Científ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APRENDIZAJE Y CONDUC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Qué es el aprendizaj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Cómo surge este estu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Condicionamiento Clás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Ejemplos en human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Condicionamiento Opera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Reforzamien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Positiv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Negativ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astig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Desamparo Aprendi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333399"/>
                </a:solidFill>
                <a:uFillTx/>
                <a:latin typeface="Tahoma"/>
              </a:rPr>
              <a:t>EVOLUCIÓN DEL CONSTRUCTIVISMO COGNITIVO</a:t>
            </a:r>
            <a:br>
              <a:rPr sz="2800"/>
            </a:br>
            <a:r>
              <a:rPr b="1" lang="es-MX" sz="2800" spc="-1" strike="noStrike" u="sng">
                <a:solidFill>
                  <a:srgbClr val="333399"/>
                </a:solidFill>
                <a:uFillTx/>
                <a:latin typeface="Tahoma"/>
              </a:rPr>
              <a:t>PERÍODO CONDUCTUA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xpone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Fundamentos o Postul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pistemolog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cepto de Real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cepto de Suje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Objeto de Est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Visión de la Terapia y el Terapeu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Normalidad/Anormal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ceptos Destac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333399"/>
                </a:solidFill>
                <a:uFillTx/>
                <a:latin typeface="Tahoma"/>
              </a:rPr>
              <a:t>EVOLUCIÓN DEL CONSTRUCTIVISMO COGNITIVO</a:t>
            </a:r>
            <a:br>
              <a:rPr sz="2800"/>
            </a:br>
            <a:r>
              <a:rPr b="1" lang="es-MX" sz="2800" spc="-1" strike="noStrike" u="sng">
                <a:solidFill>
                  <a:srgbClr val="333399"/>
                </a:solidFill>
                <a:uFillTx/>
                <a:latin typeface="Tahoma"/>
              </a:rPr>
              <a:t>PERÍODO COGNITIVO CLÁSICO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xpone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Fundamentos o Postul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pistemolog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cepto de Real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cepto de Suje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Objeto de Est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Visión de la Terapia y el Terapeu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Normalidad/Anormal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ceptos Destac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333399"/>
                </a:solidFill>
                <a:uFillTx/>
                <a:latin typeface="Tahoma"/>
              </a:rPr>
              <a:t>EVOLUCIÓN DEL CONSTRUCTIVISMO COGNITIVO</a:t>
            </a:r>
            <a:br>
              <a:rPr sz="2800"/>
            </a:br>
            <a:r>
              <a:rPr b="1" lang="es-MX" sz="2800" spc="-1" strike="noStrike" u="sng">
                <a:solidFill>
                  <a:srgbClr val="333399"/>
                </a:solidFill>
                <a:uFillTx/>
                <a:latin typeface="Tahoma"/>
              </a:rPr>
              <a:t>PERÍODO COGNITIVO INTERPERSONA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xpone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Fundamentos o Postul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pistemolog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cepto de Real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cepto de Suje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Objeto de Est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Visión de la Terapia y el Terapeu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Normalidad/Anormal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ceptos Destac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23:07:33Z</dcterms:created>
  <dc:creator>SUSAN</dc:creator>
  <dc:description/>
  <dc:language>en-US</dc:language>
  <cp:lastModifiedBy>SUSAN</cp:lastModifiedBy>
  <dcterms:modified xsi:type="dcterms:W3CDTF">2010-05-04T21:30:00Z</dcterms:modified>
  <cp:revision>9</cp:revision>
  <dc:subject/>
  <dc:title>Control</dc:title>
</cp:coreProperties>
</file>