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A2F-2133-4E19-9779-62B638AD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321-FBFF-4A31-94E8-4ED607BE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EC8-A096-43D1-86E6-1B77B0CB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BB4-F165-4EEB-B431-6BDF6620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C9A8-E094-43B5-88AB-E003FD73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C81A-6F03-4C1F-BD60-3AC9AC8A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F2F0-224E-48A3-A2F0-83CF83C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5B97-79BF-4791-B810-7C8F19C3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C96-9504-42B4-8C46-2FA292ED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8A0D-3F2A-421A-AE62-D130DB2C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5E9D-CC8B-463C-BAF9-A3E670C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566-A0AF-4F0D-BE50-542C756F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5DDF-B5B9-4A9D-AA57-CBE12D49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F720-EA09-4F3A-A90A-05A92A63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F93E-5F0D-4717-BE11-984D2E68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B08F-C9D2-41E4-BF68-C350715E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AD35-FDDA-4ABF-BF7C-807AF7D3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CBA-0130-4D67-90CD-8F0AA945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D2A-AA60-4C8B-A3B4-DEACD8D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082-358A-45A3-B1A0-45D07F92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742-FB8B-49C9-A440-0264EEB3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E82-83FF-4279-A389-5287F78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EDA-EEB1-4B0F-996F-516F2F83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00F-6F89-4BEA-AC40-19F0FDF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F81E-4CFC-4394-A3C6-199E1E9219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D6A-0127-42B2-B815-2A492618F9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1052640"/>
            <a:ext cx="7391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Evolución del modelo cognitiv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Desde el conductismo al constructivista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Arial"/>
              </a:rPr>
              <a:t>Yañez J., (2004)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0880"/>
            <a:ext cx="830592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13000"/>
            <a:ext cx="85690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bran relevancia las relaciones interpersonales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ponentes: Safran y Segal, Mahoney, Guidano y Liott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luye aportes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teoría interpersonal, la psicología experiencial y la teoría del ap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gnitiva por el énfasis en la manera que el sujeto construye las representaciones de su exper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ujeto ordena la realidad de acuerdo a su organización particular, dada en función a sus estructuras cogn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estructuras cognitivas se desarrollan creciente y continuamente en base a las relaciones interpers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, Procesos Cognitivos (Énfasis en las relaciones, Esquemas Cognitivos Interpersonal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nsición hacia la Constructivista que se consolida en el período construc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lujo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bien existe una realidad externa, no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orta como el sujeto la ord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: Construye su propi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reord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052640"/>
            <a:ext cx="914400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oncibe la realidad desde la experiencia d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pto de Multiverso (Matur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es posible la Obje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alidad construida en el Lengu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aboración individual y colectiva de interpre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o fenómeno cognitivo implica procesos activos y pro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mente es fruto de un proceso auto-constructivo, de la interacción del sujeto con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nocimiento resulta ser una construcción progresiva y jerárquica de modelos de rea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xperiencia humana ocurre a dos niveles: inconsciente y consciente, y se reordena en función de mantener la coherencia del sí mism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y Procesos Cognitivos (énfasis en cómo el sujeto construye su realida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ructivis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xiste una realidad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l observ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construida en el lengu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 y co-constructor de su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propia experiencia y de su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268280"/>
            <a:ext cx="8496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puesta de orden epistemológico que da cuenta del conocimiento desde una perspectiva determinada y que puede ser simbol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rco de conocimiento unif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teorías interrelacion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etivo: Dar cuenta de un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mbolizan la realidad a través de categorías conceptuales y consens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00280"/>
            <a:ext cx="7632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 EL ÁMBITO EPISTEMOLÓG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poner una noción de lo re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Proponer una relación del sujeto con la realidad, como fuente legítima de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7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765000"/>
            <a:ext cx="792144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Verdana"/>
              </a:rPr>
              <a:t>EN EL ÁMBITO PARADIGMÁ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imitar un objeto de estudio o campo de interés 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2. Establecer un dominio de operaciones metodológicas pertinentes que permitan la generación  de ese conocimiento de acuerdo con los marcos epistemológicos definidos por el sujeto cognoscente en un marco conceptual intersubje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VOLU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gruente con un desarrollo y contexto hist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mbios relevantes en sus fund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corporación de nuevos ele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413000"/>
            <a:ext cx="763272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do por Watson a principios del S. XX, adquiere relevancia a mediados de sig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ostul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ega existencia de la “men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xperiencia se reduce a secreciones glandulares y movimientos mus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nducta humana se encuentra determinada casi exclusivamente por las influencias ambi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procesos inconscientes se encuentran más allá del campo de la investigación científica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Observable y Cuant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manente e Independiente del Suj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 ser conocida por medio de la obser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cánico: Respondiente y Operante según los requerimientos del me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sivo: No es originador, en él confluyen fa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p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lación Asimé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56908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ge con la Revolución Cognitiva de los ´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ponentes: Beck, Ellis, Meichen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nducta Observable no es suficiente para explicarse la complejidad del 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ge el estudio de las variables medi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gnición determina los afectos y la conducta de las pers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 particular forma de procesar la información es determin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ocesos mediacionales se organizan en base a una estructura y su dinámica determina el estilo personal (Esquemas cognitivos inconsientes, distorsiones cognitivas,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samientos automát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ducta y Procesos Mentales (Fundamentalmente procesos  Mediacionales, del pensami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dependiente de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gnoscible mediante la observación y la raz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: Primacía de lo Cognitivo. El sujeto funciona en base a las ideas que tiene de sí mismo, del mundo y los de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idad: Lógica, Deducción e Inferencia R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perto en las leyes de la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lación Colabo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34:14Z</dcterms:created>
  <dc:creator>SUSAN</dc:creator>
  <dc:description/>
  <dc:language>en-US</dc:language>
  <cp:lastModifiedBy>SUSAN</cp:lastModifiedBy>
  <dcterms:modified xsi:type="dcterms:W3CDTF">2010-04-14T19:53:40Z</dcterms:modified>
  <cp:revision>16</cp:revision>
  <dc:subject/>
  <dc:title>Diapositiva 1</dc:title>
</cp:coreProperties>
</file>