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1FB-61B1-485E-94B3-128BBF6F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EE7-8FB2-4064-B08E-37F153DB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A4A-695F-4877-AF09-E019ADEE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1C4-9391-4C5E-BA29-D50759A0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E6B2-90F1-486C-BC2E-6D3AF5E2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A1A4-284F-4CC1-955D-9941CED7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2EBE-22FF-42B0-85C0-D29985B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D67F-0F67-4B80-A758-7A4CB49D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EB86-432B-4F5D-9F35-341F0A16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54E5-7F38-4B82-B0BF-AFEA6879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074F-F5CC-41AD-9173-5E9C5DD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694-0B52-411D-AA2E-2464AD7F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6771-935D-4EBA-9EA8-FD8A7D0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EA5-CA1E-4ACB-A821-B0A8774E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1772-8D9D-4080-8570-1DBD546E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19ED-589F-47D7-837F-D78BFB7D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4396-81FD-4134-BB1B-D3D3C751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02C-61B0-495C-8603-B6CC0F39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B2A-3C04-4CEB-BE22-69573D87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8C4-1961-419D-B65B-58196114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15F-D59D-4476-84C3-D8B0BE05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953-137C-49CA-823C-1588FFA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571-5B92-44E2-B4AC-F9B17FA9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DFA-7F5D-4CEF-B338-EC1B8F6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00C5-34D3-4AD5-BE13-C6921AE77C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8487-AA76-4278-A4A0-72EF94AF41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1052640"/>
            <a:ext cx="7391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Evolución del modelo cognitiv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Desde el conductismo al constructivista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Arial"/>
              </a:rPr>
              <a:t>Yañez J., (2004)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0880"/>
            <a:ext cx="830592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13000"/>
            <a:ext cx="85690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bran relevancia las relaciones interpersonales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ponentes: Safran y Segal, Mahoney, Guidano y Liott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luye aportes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teoría interpersonal, la psicología experiencial y la teoría del ape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gnitiva por el énfasis en la manera que el sujeto construye las representaciones de su exper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ujeto ordena la realidad de acuerdo a su organización particular, dada en función a sus estructuras cogn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estructuras cognitivas se desarrollan creciente y continuamente en base a las relaciones interpers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, Procesos Cognitivos (Énfasis en las relaciones, Esquemas Cognitivos Interpersonal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ansición hacia la Constructivista que se consolida en el período construc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lujo Cons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bien existe una realidad externa, no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orta como el sujeto la ord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: Construye su propi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reord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052640"/>
            <a:ext cx="914400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oncibe la realidad desde la experiencia d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pto de Multiverso (Matur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es posible la Obje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alidad construida en el Lengu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aboración individual y colectiva de interpre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o fenómeno cognitivo implica procesos activos y pro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mente es fruto de un proceso auto-constructivo, de la interacción del sujeto con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onocimiento resulta ser una construcción progresiva y jerárquica de modelos de rea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xperiencia humana ocurre a dos niveles: inconsciente y consciente, y se reordena en función de mantener la coherencia del sí mism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y Procesos Cognitivos (énfasis en cómo el sujeto construye su realida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ructivis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xiste una realidad ú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ende del observ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construida en el lengu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 y co-constructor de su re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propia experiencia y de su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268280"/>
            <a:ext cx="8496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puesta de orden epistemológico que da cuenta del conocimiento desde una perspectiva determinada y que puede ser simbol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rco de conocimiento unif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teorías interrelacion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jetivo: Dar cuenta de un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mbolizan la realidad a través de categorías conceptuales y consens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00280"/>
            <a:ext cx="7632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N EL ÁMBITO EPISTEMOLÓG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poner una noción de lo re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Proponer una relación del sujeto con la realidad, como fuente legítima de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7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765000"/>
            <a:ext cx="792144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Verdana"/>
              </a:rPr>
              <a:t>EN EL ÁMBITO PARADIGMÁT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imitar un objeto de estudio o campo de interés  del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2. Establecer un dominio de operaciones metodológicas pertinentes que permitan la generación  de ese conocimiento de acuerdo con los marcos epistemológicos definidos por el sujeto cognoscente en un marco conceptual intersubje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EVOLU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gruente con un desarrollo y contexto hist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mbios relevantes en sus fund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corporación de nuevos ele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413000"/>
            <a:ext cx="763272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dado por Watson a principios del S. XX, adquiere relevancia a mediados de sig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ostul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ega existencia de la “ment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xperiencia se reduce a secreciones glandulares y movimientos mus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nducta humana se encuentra determinada casi exclusivamente por las influencias ambi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procesos inconscientes se encuentran más allá del campo de la investigación científica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Observable y Cuantif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manente e Independiente del Suj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 ser conocida por medio de la obser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cánico: Respondiente y Operante según los requerimientos del me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sivo: No es originador, en él confluyen fa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p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lación Asimé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56908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rge con la Revolución Cognitiva de los ´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ponentes: Beck, Ellis, Meichen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nducta Observable no es suficiente para explicarse la complejidad del 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rge el estudio de las variables medi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gnición determina los afectos y la conducta de las pers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 particular forma de procesar la información es determin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ocesos mediacionales se organizan en base a una estructura y su dinámica determina el estilo personal (Esquemas cognitivos inconsientes, distorsiones cognitivas,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samientos automáti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ducta y Procesos Mentales (Fundamentalmente procesos  Mediacionales, del pensami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ndependiente de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gnoscible mediante la observación y la raz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: Primacía de lo Cognitivo. El sujeto funciona en base a las ideas que tiene de sí mismo, del mundo y los de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idad: Lógica, Deducción e Inferencia R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perto en las leyes de la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elación Colabo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7:34:14Z</dcterms:created>
  <dc:creator>SUSAN</dc:creator>
  <dc:description/>
  <dc:language>en-US</dc:language>
  <cp:lastModifiedBy>SUSAN</cp:lastModifiedBy>
  <dcterms:modified xsi:type="dcterms:W3CDTF">2010-04-14T19:53:40Z</dcterms:modified>
  <cp:revision>16</cp:revision>
  <dc:subject/>
  <dc:title>Diapositiva 1</dc:title>
</cp:coreProperties>
</file>