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EA4-486A-49EA-BDD1-8EC7F9C5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94A-A2CB-4C32-9510-7EDD0D4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DEA-D430-43AE-AE80-5C8D8BE1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AFA-1ABF-40A2-A42A-9A940310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E4C-75B6-4D4C-8691-0B857020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396-E6BF-47FE-80D1-4A2BF02A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5DA-8307-4501-ADE6-DEB99CEE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7E1-1F4A-4D86-9C71-0F3A6271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24F-F0FD-4028-9DA1-061545FB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F3A-65E0-4366-A44B-0F1D8589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36D-0E1E-47BC-9906-8EF9B8A1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4A4-B6FB-43C1-B091-CFDCDEBE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D6A1-B0F2-4319-B3DC-8D191FE8B413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ddddd"/>
                </a:solidFill>
                <a:latin typeface="Times New Roman"/>
              </a:rPr>
              <a:t>The american scen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Surgimiento del Pop y su filiación con los Realismos en el art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green-car-crash-warhol" descr=""/>
          <p:cNvPicPr/>
          <p:nvPr/>
        </p:nvPicPr>
        <p:blipFill>
          <a:blip r:embed="rId1"/>
          <a:stretch/>
        </p:blipFill>
        <p:spPr>
          <a:xfrm>
            <a:off x="3124080" y="533520"/>
            <a:ext cx="5486400" cy="583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59960" y="5181480"/>
            <a:ext cx="2008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en car crash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3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arhol-campbellsoup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44496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320880" y="5257800"/>
            <a:ext cx="205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ampbell’s soup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2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94_1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019840" cy="5486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938200" y="5105520"/>
            <a:ext cx="273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rillo Box (Soap Pads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hamilton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5692680" cy="5924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200" y="4952880"/>
            <a:ext cx="276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Richard Hamilton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Just what is it that make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today’s homes so different,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so appealing?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1956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auschenberg_Monogram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197440" y="5791320"/>
            <a:ext cx="50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Rauschenberg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Monograma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5 - 59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banana-1967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7" descr=""/>
          <p:cNvPicPr/>
          <p:nvPr/>
        </p:nvPicPr>
        <p:blipFill>
          <a:blip r:embed="rId2"/>
          <a:stretch/>
        </p:blipFill>
        <p:spPr>
          <a:xfrm>
            <a:off x="3962520" y="533520"/>
            <a:ext cx="4749840" cy="2412720"/>
          </a:xfrm>
          <a:prstGeom prst="rect">
            <a:avLst/>
          </a:prstGeom>
          <a:ln w="0">
            <a:noFill/>
          </a:ln>
        </p:spPr>
      </p:pic>
      <p:pic>
        <p:nvPicPr>
          <p:cNvPr id="71" name="bose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2640240" cy="2666880"/>
          </a:xfrm>
          <a:prstGeom prst="rect">
            <a:avLst/>
          </a:prstGeom>
          <a:ln w="0">
            <a:noFill/>
          </a:ln>
        </p:spPr>
      </p:pic>
      <p:pic>
        <p:nvPicPr>
          <p:cNvPr id="72" name="lennon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rolling-stones-sticky-fingers-zipper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962520" cy="3765600"/>
          </a:xfrm>
          <a:prstGeom prst="rect">
            <a:avLst/>
          </a:prstGeom>
          <a:ln w="0">
            <a:noFill/>
          </a:ln>
        </p:spPr>
      </p:pic>
      <p:pic>
        <p:nvPicPr>
          <p:cNvPr id="74" name="lp_warhol.stickyfingers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098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heet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42055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urbet_LAtelier_du_peintre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5166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2120" y="5867280"/>
            <a:ext cx="65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L’Atelier du peintre. Allégorie Réelle déterminant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dddddd"/>
                </a:solidFill>
                <a:latin typeface="Times New Roman"/>
              </a:rPr>
              <a:t>une phase de sept années de ma vie artistique (et morale).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 1855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1032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410080" cy="445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8440" y="5943600"/>
            <a:ext cx="43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ean-Francois Mill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Angelu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5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rigin-of-the-World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172200" cy="5099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3640" y="5867280"/>
            <a:ext cx="47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ustave Courbet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'origine du mond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8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Wladimir_Gawriilowitsch_Krikhatzkij_-_The_First_Tractor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121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5600" y="5791320"/>
            <a:ext cx="44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ladimir Krikhatsky 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primer tractor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wan2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096240" cy="4734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86520" y="5867280"/>
            <a:ext cx="62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Filippovich Ivanov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ladimir Ilich Lenin hablando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merican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5353200" cy="645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99000" y="5486400"/>
            <a:ext cx="211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rant Woo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merican Gothic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3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5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4411800" cy="5943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0440" y="5334120"/>
            <a:ext cx="246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Norman Rockwell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Freedom from Want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3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N5230hopper%20NHks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04520" cy="4798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0360" y="5867280"/>
            <a:ext cx="39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Edward Hopper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Nighthawk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42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6:51Z</dcterms:created>
  <dc:creator>Victor Diaz</dc:creator>
  <dc:description/>
  <dc:language>en-US</dc:language>
  <cp:lastModifiedBy>Victor Diaz</cp:lastModifiedBy>
  <dcterms:modified xsi:type="dcterms:W3CDTF">2009-01-15T01:13:35Z</dcterms:modified>
  <cp:revision>21</cp:revision>
  <dc:subject/>
  <dc:title>Sin título de diapositiva</dc:title>
</cp:coreProperties>
</file>