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6AC1-D75D-4F90-A871-EF27532F8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9AA5-40C3-452B-B4F2-87286A717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6B0C-AE7C-43EB-A604-2859B05DF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4F60-41EB-4547-B9BE-DE2BE5B5E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DDFD-4649-4B59-899B-7E66E9DFE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B79E-B12E-4227-A130-3230D7E90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A051-396A-4A92-817C-FDB885AE9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3E5C-3FC1-467F-8A94-19EFF5E2D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17CB-9A95-47FF-B7AB-D56A9D686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BE22-D1C6-4FAC-92E2-DB04085AB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845E-82C5-4DA1-8D23-CBD7EA7AE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48C2-3A2F-496D-A2B9-2A1D9687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D1311-436D-47EF-90F8-8486B659BB38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Los efectos de la Segunda Guerra Mundial.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ddddd"/>
                </a:solidFill>
                <a:latin typeface="Times New Roman"/>
              </a:rPr>
              <a:t>Neo-plasticismo, De Stijl, Abstracción lírica, Bauhaus y el surgimiento del expresionismo abstracto en Norteamérica.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joost_schmidt_cartelexpobau" descr=""/>
          <p:cNvPicPr/>
          <p:nvPr/>
        </p:nvPicPr>
        <p:blipFill>
          <a:blip r:embed="rId1"/>
          <a:stretch/>
        </p:blipFill>
        <p:spPr>
          <a:xfrm>
            <a:off x="1905120" y="228600"/>
            <a:ext cx="52624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36334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848720" cy="3375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046240" y="5486400"/>
            <a:ext cx="489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Jackson Pollok. </a:t>
            </a: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Blue poles Number 11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1952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De%20Kooning" descr=""/>
          <p:cNvPicPr/>
          <p:nvPr/>
        </p:nvPicPr>
        <p:blipFill>
          <a:blip r:embed="rId1"/>
          <a:stretch/>
        </p:blipFill>
        <p:spPr>
          <a:xfrm>
            <a:off x="4191120" y="457200"/>
            <a:ext cx="4308480" cy="5867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987120" y="5029200"/>
            <a:ext cx="22060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Willem de Koonin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Woman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1949 - 50</a:t>
            </a: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olsky4-3-6" descr=""/>
          <p:cNvPicPr/>
          <p:nvPr/>
        </p:nvPicPr>
        <p:blipFill>
          <a:blip r:embed="rId1"/>
          <a:stretch/>
        </p:blipFill>
        <p:spPr>
          <a:xfrm>
            <a:off x="1371600" y="457200"/>
            <a:ext cx="6477120" cy="5129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278080" y="6019920"/>
            <a:ext cx="444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Andy Warhol. </a:t>
            </a: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Little Electric Chair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196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01koln" descr=""/>
          <p:cNvPicPr/>
          <p:nvPr/>
        </p:nvPicPr>
        <p:blipFill>
          <a:blip r:embed="rId1"/>
          <a:stretch/>
        </p:blipFill>
        <p:spPr>
          <a:xfrm>
            <a:off x="1828800" y="152280"/>
            <a:ext cx="5467320" cy="5429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5560" y="5791320"/>
            <a:ext cx="91375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Piet Mondrian. </a:t>
            </a: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Komposition mit großer roter Fläche, Gelb, Schwarz, Grau und Blau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1921 [</a:t>
            </a:r>
            <a:r>
              <a:rPr b="0" lang="es-ES_tradnl" sz="1800" spc="-1" strike="noStrike">
                <a:solidFill>
                  <a:srgbClr val="dddddd"/>
                </a:solidFill>
                <a:latin typeface="Times New Roman"/>
              </a:rPr>
              <a:t>Composición con rojo, amarillo, azul y negro]</a:t>
            </a: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ompositie1918" descr=""/>
          <p:cNvPicPr/>
          <p:nvPr/>
        </p:nvPicPr>
        <p:blipFill>
          <a:blip r:embed="rId1"/>
          <a:stretch/>
        </p:blipFill>
        <p:spPr>
          <a:xfrm>
            <a:off x="2819520" y="762120"/>
            <a:ext cx="3504960" cy="3487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351520" y="5410080"/>
            <a:ext cx="47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Bart van der Leck. </a:t>
            </a: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Composición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1918-192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Kleine_Dada_Soirée_1922" descr=""/>
          <p:cNvPicPr/>
          <p:nvPr/>
        </p:nvPicPr>
        <p:blipFill>
          <a:blip r:embed="rId1"/>
          <a:stretch/>
        </p:blipFill>
        <p:spPr>
          <a:xfrm>
            <a:off x="1676520" y="228600"/>
            <a:ext cx="5678280" cy="57164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203840" y="6172200"/>
            <a:ext cx="68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Theo van Doesburg y Kurt Schwitters. </a:t>
            </a: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Kleine Dadá Soirée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192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Rietveld_chair_1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4284720" cy="6400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092640" y="5334120"/>
            <a:ext cx="1957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Gerrit Rietveld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Silla roja y azul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1917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kandinsky-dc" descr=""/>
          <p:cNvPicPr/>
          <p:nvPr/>
        </p:nvPicPr>
        <p:blipFill>
          <a:blip r:embed="rId1"/>
          <a:stretch/>
        </p:blipFill>
        <p:spPr>
          <a:xfrm>
            <a:off x="533520" y="152280"/>
            <a:ext cx="8153280" cy="5435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65000" y="6019920"/>
            <a:ext cx="579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Vasili Vasílievich Kandinski. </a:t>
            </a: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Curva dominante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1936</a:t>
            </a: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sillonwasilly" descr=""/>
          <p:cNvPicPr/>
          <p:nvPr/>
        </p:nvPicPr>
        <p:blipFill>
          <a:blip r:embed="rId1"/>
          <a:stretch/>
        </p:blipFill>
        <p:spPr>
          <a:xfrm>
            <a:off x="2057400" y="304920"/>
            <a:ext cx="4994280" cy="5257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54400" y="6019920"/>
            <a:ext cx="448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Mies van de Rohe. </a:t>
            </a: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Sillón Wasilly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1919¿?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3_sillas_similares" descr=""/>
          <p:cNvPicPr/>
          <p:nvPr/>
        </p:nvPicPr>
        <p:blipFill>
          <a:blip r:embed="rId1"/>
          <a:stretch/>
        </p:blipFill>
        <p:spPr>
          <a:xfrm>
            <a:off x="1600200" y="152280"/>
            <a:ext cx="575316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Bauhaus93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64008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8T18:22:47Z</dcterms:created>
  <dc:creator>Victor Diaz</dc:creator>
  <dc:description/>
  <dc:language>en-US</dc:language>
  <cp:lastModifiedBy>Victor Diaz</cp:lastModifiedBy>
  <dcterms:modified xsi:type="dcterms:W3CDTF">2009-01-13T23:56:20Z</dcterms:modified>
  <cp:revision>18</cp:revision>
  <dc:subject/>
  <dc:title>Sin título de diapositiva</dc:title>
</cp:coreProperties>
</file>