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B9C-324C-4E62-8BF7-E7579E3D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86E-F414-4703-81FA-6A786937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EF8-2BBE-4683-898A-6B8EDFF5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548-F294-4395-9174-D2EFCFDA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B1C-CD87-41B1-B85C-4C3C2418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7CB-1352-4956-8AC0-96ADB90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E42-B225-4A2E-A369-0D6E9DA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B8D-B2AC-4898-ACAB-6735AF19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7F6-5143-4BA3-8B66-2DA8A0E0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C38-2234-4707-A38B-8801943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932-F679-4337-9AC4-17AAF890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920-6CE4-4BBE-8CF9-20224678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0C3-D9D4-4229-BF0D-D7FD5BFFED4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The american scen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Surgimiento del Pop y su filiación con los Realismos en el art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een-car-crash-warhol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5486400" cy="583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9960" y="5181480"/>
            <a:ext cx="2008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en car crash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3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rhol-campbellsoup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4496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0880" y="5257800"/>
            <a:ext cx="205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ampbell’s soup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2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_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01984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38200" y="5105520"/>
            <a:ext cx="273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rillo Box (Soap Pads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milton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5692680" cy="59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200" y="4952880"/>
            <a:ext cx="27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Richard Hamilton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Just what is it that make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today’s homes so different,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so appealing?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195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auschenberg_Monogram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97440" y="5791320"/>
            <a:ext cx="50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Rauschenberg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Monograma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5 - 59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anana-196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7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4749840" cy="2412720"/>
          </a:xfrm>
          <a:prstGeom prst="rect">
            <a:avLst/>
          </a:prstGeom>
          <a:ln w="0">
            <a:noFill/>
          </a:ln>
        </p:spPr>
      </p:pic>
      <p:pic>
        <p:nvPicPr>
          <p:cNvPr id="71" name="bose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6402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lennon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lling-stones-sticky-fingers-zipp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lp_warhol.stickyfingers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eet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2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urbet_LAtelier_du_peint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2120" y="586728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L’Atelier du peintre. Allégorie Réelle déterminant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une phase de sept années de ma vie artistique (et morale).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 1855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032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44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8440" y="594360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ean-Francois Mill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Angelu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5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rigin-of-the-World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509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3640" y="5867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'origine du mond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ladimir_Gawriilowitsch_Krikhatzkij_-_The_First_Tractor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5600" y="57913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ladimir Krikhatsky 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primer tractor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wan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6520" y="586728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Filippovich Ivanov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ladimir Ilich Lenin hablando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merican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35320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99000" y="54864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rant Woo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merican Gothic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3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5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180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0440" y="5334120"/>
            <a:ext cx="24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Norman Rockwel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Freedom from Want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5230hopper%20NHks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4520" cy="479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0360" y="58672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ward Hopper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Nighthawk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42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6:51Z</dcterms:created>
  <dc:creator>Victor Diaz</dc:creator>
  <dc:description/>
  <dc:language>en-US</dc:language>
  <cp:lastModifiedBy>Victor Diaz</cp:lastModifiedBy>
  <dcterms:modified xsi:type="dcterms:W3CDTF">2009-01-15T01:13:35Z</dcterms:modified>
  <cp:revision>21</cp:revision>
  <dc:subject/>
  <dc:title>Sin título de diapositiva</dc:title>
</cp:coreProperties>
</file>