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77E8-C82D-4B1F-9ADA-908CE6CA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68CD-8A58-4510-83E7-F753068F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CFC0-A92F-466D-A361-A2CB1ECB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ECEB-8185-4575-9452-8DBF18A3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FA82-A425-4BFB-8537-FE08558D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E343-54FD-4DBF-8C97-14E4BCC7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6F0-339F-4086-BF55-71B33D8A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7FD5-632D-40F2-A6DF-0B466A33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B4D4-F1C2-49A6-BC4E-E7EFA5E8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DD95-1AED-47B5-BAE5-BAAA486A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F442-9B3E-4034-8C68-4298234C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1245-F24D-41F2-B47C-9042C939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A504-3B9A-4B6D-BBA3-4DB3AC04069A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Los efectos de la Segunda Guerra Mundial.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Neo-plasticismo, De Stijl, Abstracción lírica, Bauhaus y el surgimiento del expresionismo abstracto en Norteamérica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joost_schmidt_cartelexpobau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262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36334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848720" cy="337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46240" y="5486400"/>
            <a:ext cx="48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Jackson Pollok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Blue poles Number 11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52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e%20Kooning" descr=""/>
          <p:cNvPicPr/>
          <p:nvPr/>
        </p:nvPicPr>
        <p:blipFill>
          <a:blip r:embed="rId1"/>
          <a:stretch/>
        </p:blipFill>
        <p:spPr>
          <a:xfrm>
            <a:off x="4191120" y="457200"/>
            <a:ext cx="4308480" cy="5867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87120" y="5029200"/>
            <a:ext cx="2206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Willem de Koonin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Woman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49 - 50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olsky4-3-6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477120" cy="5129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78080" y="6019920"/>
            <a:ext cx="44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Andy Warhol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Little Electric Chair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6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1koln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467320" cy="5429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560" y="5791320"/>
            <a:ext cx="9137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Piet Mondria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Komposition mit großer roter Fläche, Gelb, Schwarz, Grau und Blau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21 [</a:t>
            </a: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Composición con rojo, amarillo, azul y negro]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mpositie1918" descr=""/>
          <p:cNvPicPr/>
          <p:nvPr/>
        </p:nvPicPr>
        <p:blipFill>
          <a:blip r:embed="rId1"/>
          <a:stretch/>
        </p:blipFill>
        <p:spPr>
          <a:xfrm>
            <a:off x="2819520" y="762120"/>
            <a:ext cx="3504960" cy="3487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51520" y="5410080"/>
            <a:ext cx="47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Bart van der Leck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Composición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18-192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Kleine_Dada_Soirée_1922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678280" cy="5716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03840" y="6172200"/>
            <a:ext cx="68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Theo van Doesburg y Kurt Schwitters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Kleine Dadá Soirée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2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ietveld_chair_1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428472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2640" y="5334120"/>
            <a:ext cx="195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Gerrit Rietveld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Silla roja y azul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17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kandinsky-dc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153280" cy="5435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65000" y="6019920"/>
            <a:ext cx="57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Vasili Vasílievich Kandinski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Curva dominante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36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llonwasilly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499428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54400" y="6019920"/>
            <a:ext cx="44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Mies van de Rohe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Sillón Wasilly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19¿?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3_sillas_similares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7531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Bauhaus93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8:22:47Z</dcterms:created>
  <dc:creator>Victor Diaz</dc:creator>
  <dc:description/>
  <dc:language>en-US</dc:language>
  <cp:lastModifiedBy>Victor Diaz</cp:lastModifiedBy>
  <dcterms:modified xsi:type="dcterms:W3CDTF">2009-01-13T23:56:20Z</dcterms:modified>
  <cp:revision>18</cp:revision>
  <dc:subject/>
  <dc:title>Sin título de diapositiva</dc:title>
</cp:coreProperties>
</file>