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D9D26-D71F-4033-A28C-DAC86AA2F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ED6C7-F871-47CC-8D85-7669C8DC9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3FC1C-1212-44A0-B8C2-7D60D5ACE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1B971-98CD-4492-86A4-ADFDEFFF8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385F1-4938-430C-8F17-E7AE4F797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10979-44E0-45EC-A998-BCB89C114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281A7-CCE3-4C03-BC9E-80AC18567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20ED5-DF5A-495C-9FFD-5FE0AA277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7DD29-DB03-4785-AA22-B09444070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23C15-4122-44CE-811B-BC064A682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3B1AC-AD7E-4BAC-AC58-1E5D10512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9523D-0D9C-466F-9879-15D7AE648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9E068-70C5-4F61-BEC2-AC912D7A38F3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Las vanguardias del siglo XX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Times New Roman"/>
              </a:rPr>
              <a:t>expresionismo, cubismo, futurismo, dadaísmo, surrealismo.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assoGuernica" descr=""/>
          <p:cNvPicPr/>
          <p:nvPr/>
        </p:nvPicPr>
        <p:blipFill>
          <a:blip r:embed="rId1"/>
          <a:stretch/>
        </p:blipFill>
        <p:spPr>
          <a:xfrm>
            <a:off x="2590920" y="304920"/>
            <a:ext cx="6324480" cy="28368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458280" y="1295280"/>
            <a:ext cx="1185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Picasso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aeaea"/>
                </a:solidFill>
                <a:latin typeface="Times New Roman"/>
              </a:rPr>
              <a:t>Guernica</a:t>
            </a: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1937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60" name="Picasso_Massacre_in_Korea" descr=""/>
          <p:cNvPicPr/>
          <p:nvPr/>
        </p:nvPicPr>
        <p:blipFill>
          <a:blip r:embed="rId2"/>
          <a:stretch/>
        </p:blipFill>
        <p:spPr>
          <a:xfrm>
            <a:off x="2666880" y="3352680"/>
            <a:ext cx="6096240" cy="33386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57560" y="5334120"/>
            <a:ext cx="2025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Picasso.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aeaea"/>
                </a:solidFill>
                <a:latin typeface="Times New Roman"/>
              </a:rPr>
              <a:t>Masacre en Corea</a:t>
            </a: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1951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8600" y="163440"/>
            <a:ext cx="8686800" cy="64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eaeaea"/>
                </a:solidFill>
                <a:latin typeface="Times New Roman"/>
              </a:rPr>
              <a:t>Manifiesto futurista</a:t>
            </a:r>
            <a:r>
              <a:rPr b="0" lang="es-ES_tradnl" sz="1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1.  Queremos cantar el amor al peligro, el hábito de la energía y de la temeridad.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2.   El coraje, la audacia, la rebelión, serán elementos esenciales de nuestra poesía.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3.   La literatura exaltó, hasta hoy, la inmovilidad pensativa, el éxtasis y el sueño. Nosotros queremos exaltar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el movimiento agresivo, el insomnio febril, el paso de corrida, el salto mortal, el cachetazo y el puñetazo.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4. Nosotros afirmamos que la magnificencia del mundo se ha enriquecido con una nueva belleza,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la belleza de la velocidad. Un coche de carreras con su capó adornado con gruesos tubos parecidos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a serpientes de aliento explosivo... un automóvil rugiendo, que parece correr sobre la ráfaga, es más bello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que la Victoria de Samotracia.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5.  Queremos ensalzar al hombre que lleva el volante, cuya lanza ideal atraviesa la tierra,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lanzada también ella a la carrera, sobre el circuito de su órbita.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6. Es necesario que el poeta se prodigue, con ardor, boato y liberalidad, para aumentar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el fervor entusiasta de los elementos primordiales.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7. No existe belleza alguna si no es en la lucha. Ninguna obra que no tenga un carácter agresivo puede ser una obra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maestra. La poesía debe ser concebida como un asalto violento contra las fuerzas desconocidas,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para forzarlas a postrarse ante el hombre.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8.¡Nos encontramos sobre el promontorio más elevado de los siglos!... ¿Porqué deberíamos cuidarnos las espaldas,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si queremos derribar las misteriosas puertas de lo imposible? El Tiempo y el Espacio murieron ayer. Nosotros vivimos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ya en el absoluto, porque hemos creado ya la eterna velocidad omnipresente.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9.  Queremos glorificar la guerra –única higiene del mundo– el militarismo, el patriotismo,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el gesto destructor de los libertarios, las bellas ideas por las cuales se muere y el desprecio de la mujer.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10. Queremos destruir los museos, las bibliotecas, las academias de todo tipo, y combatir contra el moralismo,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el feminismo y contra toda vileza oportunista y utilitaria.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11.  Nosotros cantaremos a las grandes masas agitadas por el trabajo, por el placer o por la revuelta: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cantaremos a las marchas multicolores y polifónicas de las revoluciones en las capitales modernas,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cantaremos al vibrante fervor nocturno de las minas y de las canteras, incendiados por violentas lunas eléctricas;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a las estaciones ávidas, devoradoras de serpientes que humean; a las fábricas suspendidas de las nubes por los retorcidos hilos de sus humos; a los puentes semejantes a gimnastas gigantes que husmean el horizonte, y a las locomotoras de pecho amplio, que patalean sobre los rieles, como enormes caballos de acero embridados con tubos, y al vuelo resbaloso de los aeroplanos, cuya hélice flamea al viento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como una bandera y parece aplaudir sobre una masa entusiasta. Es desde Italia que lanzamos al mundo este nuestro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manifiesto de violencia arrolladora e incendiaria con el cual fundamos hoy el FUTURISMO porque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queremos liberar a este país de su fétida gangrena de profesores, de arqueólogos, de cicerones y de anticuarios.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Ya por demasiado tiempo Italia ha sido un mercado de ropavejeros. Nosotros queremos liberarla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de los innumerables museos que la cubren por completo de cementerios.                      </a:t>
            </a:r>
            <a:r>
              <a:rPr b="1" i="1" lang="es-ES_tradnl" sz="1600" spc="-1" strike="noStrike">
                <a:solidFill>
                  <a:srgbClr val="eaeaea"/>
                </a:solidFill>
                <a:latin typeface="Times New Roman"/>
              </a:rPr>
              <a:t>Filippo Tommaso Marinetti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boccioni-met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4286520" cy="64292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5482080" y="5105520"/>
            <a:ext cx="309024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Umberto Boccioni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Formas Únicas de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Continuidad en el Espacio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913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685bg" descr=""/>
          <p:cNvPicPr/>
          <p:nvPr/>
        </p:nvPicPr>
        <p:blipFill>
          <a:blip r:embed="rId1"/>
          <a:stretch/>
        </p:blipFill>
        <p:spPr>
          <a:xfrm>
            <a:off x="1828800" y="152280"/>
            <a:ext cx="5334120" cy="516276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432800" y="5715000"/>
            <a:ext cx="63482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Gino Severini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Jeroglífico dinámico de Bal Tabarin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912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Museo de Arte Moderno, Nueva Yor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Schwitters%20-%20Cherry%20Picture" descr=""/>
          <p:cNvPicPr/>
          <p:nvPr/>
        </p:nvPicPr>
        <p:blipFill>
          <a:blip r:embed="rId1"/>
          <a:stretch/>
        </p:blipFill>
        <p:spPr>
          <a:xfrm>
            <a:off x="3809880" y="304920"/>
            <a:ext cx="4903920" cy="63244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836640" y="5486400"/>
            <a:ext cx="2160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Kurt Schwitters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Merz Picture 32A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921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Adolf_the_Superman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4749840" cy="64771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5173200" y="5257800"/>
            <a:ext cx="3841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John Heartfield [Helmut Herzfeld]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Adolf the Superman: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Swallows Gold and Spouts Junk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932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robertomattastartravel" descr=""/>
          <p:cNvPicPr/>
          <p:nvPr/>
        </p:nvPicPr>
        <p:blipFill>
          <a:blip r:embed="rId1"/>
          <a:stretch/>
        </p:blipFill>
        <p:spPr>
          <a:xfrm>
            <a:off x="1447920" y="685800"/>
            <a:ext cx="6324480" cy="48420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1824840" y="5791320"/>
            <a:ext cx="52725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Roberto Matta. </a:t>
            </a:r>
            <a:r>
              <a:rPr b="1" i="1" lang="es-ES_tradnl" sz="2400" spc="-1" strike="noStrike">
                <a:solidFill>
                  <a:srgbClr val="eaeaea"/>
                </a:solidFill>
                <a:latin typeface="Times New Roman"/>
              </a:rPr>
              <a:t>Viaje espacial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1938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50.2 x 64.8 cm; Museum of Modern Art, San Francisco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1211400" y="5867280"/>
            <a:ext cx="6696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Salvador Dalí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El gran masturbador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929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110 x 150,5 cm; Museo Nacional Centro de Arte Reina Sofía, Madrid.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74" name="05" descr=""/>
          <p:cNvPicPr/>
          <p:nvPr/>
        </p:nvPicPr>
        <p:blipFill>
          <a:blip r:embed="rId1"/>
          <a:stretch/>
        </p:blipFill>
        <p:spPr>
          <a:xfrm>
            <a:off x="990720" y="304920"/>
            <a:ext cx="7086600" cy="53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1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927320" cy="62481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865120" y="4800600"/>
            <a:ext cx="2620800" cy="17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Edvard Munch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Skrik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 [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Grito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]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93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89 por 73 cm;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Galería Nacional de Oslo,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Noruega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franz-marc-tiger" descr=""/>
          <p:cNvPicPr/>
          <p:nvPr/>
        </p:nvPicPr>
        <p:blipFill>
          <a:blip r:embed="rId1"/>
          <a:stretch/>
        </p:blipFill>
        <p:spPr>
          <a:xfrm>
            <a:off x="3962520" y="838080"/>
            <a:ext cx="4760640" cy="52578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294200" y="5181480"/>
            <a:ext cx="148968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Franz Marc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Der tiger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912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braque_houses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5078520" cy="63244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6093720" y="5105520"/>
            <a:ext cx="238932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Georges Braque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Casas en L'Estaque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908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73 x 59.5 cm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asso_avignon%5B1%5D_jpg" descr=""/>
          <p:cNvPicPr/>
          <p:nvPr/>
        </p:nvPicPr>
        <p:blipFill>
          <a:blip r:embed="rId1"/>
          <a:stretch/>
        </p:blipFill>
        <p:spPr>
          <a:xfrm>
            <a:off x="838080" y="838080"/>
            <a:ext cx="5034240" cy="52578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5982120" y="5181480"/>
            <a:ext cx="3166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Pablo Picasso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es Demoiselles d´Avignon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907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ablo%20Picasso" descr=""/>
          <p:cNvPicPr/>
          <p:nvPr/>
        </p:nvPicPr>
        <p:blipFill>
          <a:blip r:embed="rId1"/>
          <a:stretch/>
        </p:blipFill>
        <p:spPr>
          <a:xfrm>
            <a:off x="2209680" y="1143000"/>
            <a:ext cx="462780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asso_jolie" descr=""/>
          <p:cNvPicPr/>
          <p:nvPr/>
        </p:nvPicPr>
        <p:blipFill>
          <a:blip r:embed="rId1"/>
          <a:stretch/>
        </p:blipFill>
        <p:spPr>
          <a:xfrm>
            <a:off x="762120" y="533520"/>
            <a:ext cx="3714480" cy="5715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5562360" y="4267080"/>
            <a:ext cx="2547360" cy="19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Pablo Picasso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Ma Jolie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911-12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100 x 65.4 cm;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Museum of Modern Art ,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Nueva York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braque_violin" descr=""/>
          <p:cNvPicPr/>
          <p:nvPr/>
        </p:nvPicPr>
        <p:blipFill>
          <a:blip r:embed="rId1"/>
          <a:stretch/>
        </p:blipFill>
        <p:spPr>
          <a:xfrm>
            <a:off x="5229360" y="304920"/>
            <a:ext cx="2876400" cy="61722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984600" y="5334120"/>
            <a:ext cx="361440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Georges Braque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Violín y paleta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909-10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91.8 x 42.9 cm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asso_three_musicians_moma_2006" descr=""/>
          <p:cNvPicPr/>
          <p:nvPr/>
        </p:nvPicPr>
        <p:blipFill>
          <a:blip r:embed="rId1"/>
          <a:stretch/>
        </p:blipFill>
        <p:spPr>
          <a:xfrm>
            <a:off x="2057400" y="380880"/>
            <a:ext cx="5229360" cy="47116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889360" y="5715000"/>
            <a:ext cx="330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Picasso. </a:t>
            </a:r>
            <a:r>
              <a:rPr b="1" i="1" lang="en-US" sz="2000" spc="-1" strike="noStrike">
                <a:solidFill>
                  <a:srgbClr val="eaeaea"/>
                </a:solidFill>
                <a:latin typeface="Times New Roman"/>
              </a:rPr>
              <a:t>Tres músicos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. 1921.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2T22:16:37Z</dcterms:created>
  <dc:creator>Victor Diaz</dc:creator>
  <dc:description/>
  <dc:language>en-US</dc:language>
  <cp:lastModifiedBy>Victor Diaz</cp:lastModifiedBy>
  <dcterms:modified xsi:type="dcterms:W3CDTF">2009-01-03T03:47:47Z</dcterms:modified>
  <cp:revision>20</cp:revision>
  <dc:subject/>
  <dc:title>Las vanguardias del siglo XX</dc:title>
</cp:coreProperties>
</file>